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74B-D3A6-4481-A53E-CFD4DFFB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550-9591-4998-805A-70FD7B06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0ADB-1A62-416D-BAAF-E6E35905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B36-1427-4273-B2BC-E7E6D046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87AA-4015-45F6-AAB9-A8AC956D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677-DBBA-4CFB-8BD4-916F742E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0C3-E05A-46B9-9504-16FD4F2C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AC38-9A3E-44C5-B53C-EE361DB1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4C4-B7E5-40C8-A48F-C88E7023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341-A4E3-4BE9-8713-944352CF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82D-33EB-42C4-A587-16D69498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7689-D998-48AF-98A1-9AFDBED9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64CE-CD3A-4FE1-81EF-62121FD59BA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auchyho tenzor napě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Cauchyho tenzor napětí (označovaný také jako Eulerův, v praxi často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kutečná napětí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 – true stress) je definován jako skutečná elementární síla vztažená na skutečnou (tj. deformovanou) plochu elementu podle vztahu (platí pro hlavní napětí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Konkrétně pro hlavní napětí ve směru 1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5"/>
              <p:cNvSpPr txBox="1"/>
              <p:nvPr/>
            </p:nvSpPr>
            <p:spPr>
              <a:xfrm>
                <a:off x="3193920" y="3429000"/>
                <a:ext cx="16812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7"/>
              <p:cNvSpPr txBox="1"/>
              <p:nvPr/>
            </p:nvSpPr>
            <p:spPr>
              <a:xfrm>
                <a:off x="3686040" y="4869000"/>
                <a:ext cx="17049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26:19Z</dcterms:created>
  <dc:creator>Jiri Bursa</dc:creator>
  <dc:description/>
  <dc:language>en-US</dc:language>
  <cp:lastModifiedBy>Prof. Jindrich Petruska</cp:lastModifiedBy>
  <dcterms:modified xsi:type="dcterms:W3CDTF">2010-01-08T11:53:54Z</dcterms:modified>
  <cp:revision>5</cp:revision>
  <dc:subject/>
  <dc:title>Piola-Kirchhoffův tenzor napětí 1. druhu </dc:title>
</cp:coreProperties>
</file>