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6.jpeg" ContentType="image/jpeg"/>
  <Override PartName="/ppt/media/image24.png" ContentType="image/png"/>
  <Override PartName="/ppt/media/image22.png" ContentType="image/png"/>
  <Override PartName="/ppt/media/image13.jpeg" ContentType="image/jpeg"/>
  <Override PartName="/ppt/media/image23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6FDB-8612-4D65-8652-69C02CF07E2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FC6B-982F-4700-9C15-5608CC8A924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5E28-3EEA-4302-A7D3-0273F5547DE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EBB6-F479-4FA2-8E5B-DD8AB9ADF80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01CA-5C4C-4EA1-8FE1-2C1122EE42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7BC6-DF5B-4428-AF2B-CAFDA6E8802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98F-95A9-405E-8D6C-AA67C8D1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7B4-7C39-4CC6-A4EC-3FE406CD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3B1-0F44-4A44-8D3B-E62C798E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F65-9AF9-4FE5-B80C-C169574F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9419-BD19-4566-8F86-79B53E64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E067-8FA8-4CC9-81B3-2A96CC3C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E87A-8CED-4A31-AB86-57C9E9D0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5DEF-F1F9-4CDC-8D90-9194314B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2CE1-C5D9-43AE-8B8D-19D9D814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60A2-E2E9-472E-81C9-54DE2BA8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574D-0278-4160-85E4-9B72F9DA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20F-35C8-40B7-BAA9-9E5AED03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0F6E-3FF2-4518-A509-FA68E832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956C-A820-48BD-B3D9-BEE7E06E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FF2B-B0E5-4280-A436-D6225747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6AC0-8BF7-49EC-8CC3-84340D29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862E-D06E-4C34-B45F-823CFA11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C0E-A0E2-4CBC-B613-018D9C62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9D6-E728-4736-8249-9DE46B70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1A0-5650-414F-9CEF-9538DFE8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2A0-780E-4EB5-9908-E79AB655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5955-2D91-4B16-BC2E-7BA4632C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84B7-0602-4C7D-B02C-67575ACE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B6F-A318-4705-9A44-07680598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01F7-B594-4AD2-80F3-4226FD6885D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12D0-A5D2-485B-AE52-931555FF1C6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3555-4E37-4A3E-894C-AAA0410DFE1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ĚKTERÉ PROBLÉMY VÝPOČTOVÉ SIMULACE TVÁŘECÍCH PROCES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474192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Z historie výpočtového řeš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aint-Venant (70. léta 19.stol.) – deformační teorie plast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.Prandtl (1921) – teorie kluzových č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.Hill (1950) – inkrementální teorie plast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ornfield, Lee, Zienkiewicz (70. léta 20.stol.) – MKP v problémech tvář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5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120" name="Rectangle 6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" name="Object 7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2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23" name="Picture 9" descr="O8"/>
          <p:cNvPicPr/>
          <p:nvPr/>
        </p:nvPicPr>
        <p:blipFill>
          <a:blip r:embed="rId3"/>
          <a:stretch/>
        </p:blipFill>
        <p:spPr>
          <a:xfrm>
            <a:off x="5003640" y="1628640"/>
            <a:ext cx="2727360" cy="152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Picture 10" descr="O9"/>
          <p:cNvPicPr/>
          <p:nvPr/>
        </p:nvPicPr>
        <p:blipFill>
          <a:blip r:embed="rId4"/>
          <a:stretch/>
        </p:blipFill>
        <p:spPr>
          <a:xfrm>
            <a:off x="5364000" y="3213000"/>
            <a:ext cx="3267360" cy="9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5210280" y="4425840"/>
                <a:ext cx="15224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ε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r>
                      <m:t xml:space="preserve">dλ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E183-935C-48AC-89BA-924D8EFB384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plikace explicitního algoritmu MK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Výpočtová predikce zvlnění okrajů při lisování lamel odporníků elektrických lokomoti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6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234" name="Rectangle 7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5" name="Object 8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3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Napětí ve směru osy Z - celá lamela.avi" descr=""/>
          <p:cNvPicPr/>
          <p:nvPr/>
        </p:nvPicPr>
        <p:blipFill>
          <a:blip r:embed="rId3"/>
          <a:stretch/>
        </p:blipFill>
        <p:spPr>
          <a:xfrm>
            <a:off x="755640" y="3429000"/>
            <a:ext cx="3809880" cy="28526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"/>
          <p:cNvPicPr/>
          <p:nvPr/>
        </p:nvPicPr>
        <p:blipFill>
          <a:blip r:embed="rId4"/>
          <a:stretch/>
        </p:blipFill>
        <p:spPr>
          <a:xfrm>
            <a:off x="6443640" y="189000"/>
            <a:ext cx="24494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icture 21" descr=""/>
          <p:cNvPicPr/>
          <p:nvPr/>
        </p:nvPicPr>
        <p:blipFill>
          <a:blip r:embed="rId5"/>
          <a:srcRect l="0" t="0" r="0" b="12434"/>
          <a:stretch/>
        </p:blipFill>
        <p:spPr>
          <a:xfrm>
            <a:off x="5003640" y="2133720"/>
            <a:ext cx="3387960" cy="19717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2" descr=""/>
          <p:cNvPicPr/>
          <p:nvPr/>
        </p:nvPicPr>
        <p:blipFill>
          <a:blip r:embed="rId6"/>
          <a:srcRect l="0" t="2210" r="0" b="6999"/>
          <a:stretch/>
        </p:blipFill>
        <p:spPr>
          <a:xfrm>
            <a:off x="5724360" y="4149720"/>
            <a:ext cx="2907000" cy="20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" name="AutoShape 23"/>
          <p:cNvSpPr/>
          <p:nvPr/>
        </p:nvSpPr>
        <p:spPr>
          <a:xfrm>
            <a:off x="6588000" y="3645000"/>
            <a:ext cx="289080" cy="647640"/>
          </a:xfrm>
          <a:prstGeom prst="upDownArrow">
            <a:avLst>
              <a:gd name="adj1" fmla="val 50000"/>
              <a:gd name="adj2" fmla="val 44599"/>
            </a:avLst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24"/>
          <p:cNvSpPr/>
          <p:nvPr/>
        </p:nvSpPr>
        <p:spPr>
          <a:xfrm>
            <a:off x="7380360" y="260280"/>
            <a:ext cx="216000" cy="289080"/>
          </a:xfrm>
          <a:prstGeom prst="downArrow">
            <a:avLst>
              <a:gd name="adj1" fmla="val 50000"/>
              <a:gd name="adj2" fmla="val 33458"/>
            </a:avLst>
          </a:prstGeom>
          <a:solidFill>
            <a:srgbClr val="e4fb0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0200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BA70-1A07-4DA8-8EAC-C0F17E3BBF4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počtová predikce tvárného poruš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árné porušení jako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nežádoucí fenomé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který limituje míru přípustných tvarových změ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mpirická kritéria tvárného lomu ty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kritické zhodnocení použitelnosti jednotlivých kritéri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návrh postupu výpočtově- experimentální kalibrace jednotlivých kritérií pro konkrétní materiá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implementace kritérií do postprocesoru MK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aplikace na základní typy tvářecích procesů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5" descr="cockroft_srouby_v92"/>
          <p:cNvPicPr/>
          <p:nvPr/>
        </p:nvPicPr>
        <p:blipFill>
          <a:blip r:embed="rId1"/>
          <a:stretch/>
        </p:blipFill>
        <p:spPr>
          <a:xfrm>
            <a:off x="6732720" y="3645000"/>
            <a:ext cx="188748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2" name="Picture 17" descr="P1100478"/>
          <p:cNvPicPr/>
          <p:nvPr/>
        </p:nvPicPr>
        <p:blipFill>
          <a:blip r:embed="rId2"/>
          <a:stretch/>
        </p:blipFill>
        <p:spPr>
          <a:xfrm>
            <a:off x="826920" y="4437000"/>
            <a:ext cx="2629080" cy="1809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file009"/>
          <p:cNvPicPr/>
          <p:nvPr/>
        </p:nvPicPr>
        <p:blipFill>
          <a:blip r:embed="rId3"/>
          <a:stretch/>
        </p:blipFill>
        <p:spPr>
          <a:xfrm>
            <a:off x="3780000" y="4451400"/>
            <a:ext cx="2736720" cy="207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54" name="Object 21"/>
              <p:cNvSpPr txBox="1"/>
              <p:nvPr/>
            </p:nvSpPr>
            <p:spPr>
              <a:xfrm>
                <a:off x="5508720" y="2120760"/>
                <a:ext cx="14824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d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0036-EEEC-43BB-A954-22D6B04B5E5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počtová predikce tvárného poruš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766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várné porušení jako klíčový proces při popisu operací dělení materiá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užití modelů založených na popisu iniciace, růstu a koalescence du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plikace na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roces ořezávání hlav šroub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260" name="Rectangle 5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1" name="Object 6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Radius.avi" descr=""/>
          <p:cNvPicPr/>
          <p:nvPr/>
        </p:nvPicPr>
        <p:blipFill>
          <a:blip r:embed="rId3"/>
          <a:stretch/>
        </p:blipFill>
        <p:spPr>
          <a:xfrm>
            <a:off x="5796000" y="2924280"/>
            <a:ext cx="3101760" cy="2327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1" descr=""/>
          <p:cNvPicPr/>
          <p:nvPr/>
        </p:nvPicPr>
        <p:blipFill>
          <a:blip r:embed="rId4"/>
          <a:stretch/>
        </p:blipFill>
        <p:spPr>
          <a:xfrm>
            <a:off x="826920" y="52466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2" descr=""/>
          <p:cNvPicPr/>
          <p:nvPr/>
        </p:nvPicPr>
        <p:blipFill>
          <a:blip r:embed="rId5"/>
          <a:stretch/>
        </p:blipFill>
        <p:spPr>
          <a:xfrm>
            <a:off x="1835280" y="5064120"/>
            <a:ext cx="1655640" cy="1241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3" descr=""/>
          <p:cNvPicPr/>
          <p:nvPr/>
        </p:nvPicPr>
        <p:blipFill>
          <a:blip r:embed="rId6"/>
          <a:stretch/>
        </p:blipFill>
        <p:spPr>
          <a:xfrm>
            <a:off x="2771640" y="4776840"/>
            <a:ext cx="1656000" cy="1241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4" descr="16"/>
          <p:cNvPicPr/>
          <p:nvPr/>
        </p:nvPicPr>
        <p:blipFill>
          <a:blip r:embed="rId7"/>
          <a:stretch/>
        </p:blipFill>
        <p:spPr>
          <a:xfrm>
            <a:off x="3419640" y="3552840"/>
            <a:ext cx="24699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8200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Zástupný symbol pro číslo snímku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1018-3CC4-4807-97CB-BE73F4C6CDE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61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ýpočtová simulace tvářecích procesů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hrnutí a perspekti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-2160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etoda konečných prvků se i v oblasti tváření prosadila jako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standardní nástroj počítačové podpor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ro návrh a optimalizaci procesních parametrů a geometrie nástrojů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alší vývoj lze díky stále rostoucím výkonům výpočetní techniky očekávat v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ostupném nahrazování dosud dominujícího modelu makroskopického kontinua strukturně-mechanickými materiálovými model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na bázi mesomechaniky. Zejména se to týká modelů v oblasti  - lokalizace plastických efektů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poškozování a tvárného lom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strukturně vázaných výpočtových model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stykových podmínek u „multibody“ úlo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5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276" name="Rectangle 6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7" name="Object 7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8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Zástupný symbol pro číslo snímku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54FC-918E-4694-AFC4-CB5B1B5AAC1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uhoplastická rychlostní 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formu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5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130" name="Rectangle 6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1" name="Object 7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133" name="Object 141"/>
              <p:cNvSpPr txBox="1"/>
              <p:nvPr/>
            </p:nvSpPr>
            <p:spPr>
              <a:xfrm>
                <a:off x="5068800" y="2781360"/>
                <a:ext cx="1519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40"/>
              <p:cNvSpPr txBox="1"/>
              <p:nvPr/>
            </p:nvSpPr>
            <p:spPr>
              <a:xfrm>
                <a:off x="3564000" y="3463920"/>
                <a:ext cx="22320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39"/>
              <p:cNvSpPr txBox="1"/>
              <p:nvPr/>
            </p:nvSpPr>
            <p:spPr>
              <a:xfrm>
                <a:off x="6300720" y="3429000"/>
                <a:ext cx="22320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38"/>
              <p:cNvSpPr txBox="1"/>
              <p:nvPr/>
            </p:nvSpPr>
            <p:spPr>
              <a:xfrm>
                <a:off x="3564000" y="4197240"/>
                <a:ext cx="14396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l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Rectangle 150"/>
          <p:cNvSpPr/>
          <p:nvPr/>
        </p:nvSpPr>
        <p:spPr>
          <a:xfrm>
            <a:off x="0" y="2104920"/>
            <a:ext cx="445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53"/>
          <p:cNvSpPr/>
          <p:nvPr/>
        </p:nvSpPr>
        <p:spPr>
          <a:xfrm>
            <a:off x="0" y="2104920"/>
            <a:ext cx="228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55"/>
          <p:cNvSpPr/>
          <p:nvPr/>
        </p:nvSpPr>
        <p:spPr>
          <a:xfrm>
            <a:off x="0" y="210492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58"/>
          <p:cNvSpPr/>
          <p:nvPr/>
        </p:nvSpPr>
        <p:spPr>
          <a:xfrm>
            <a:off x="0" y="2104920"/>
            <a:ext cx="228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60"/>
          <p:cNvSpPr/>
          <p:nvPr/>
        </p:nvSpPr>
        <p:spPr>
          <a:xfrm>
            <a:off x="0" y="2781360"/>
            <a:ext cx="2171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65"/>
          <p:cNvSpPr/>
          <p:nvPr/>
        </p:nvSpPr>
        <p:spPr>
          <a:xfrm>
            <a:off x="6229440" y="51195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álního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konu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61"/>
          <p:cNvSpPr/>
          <p:nvPr/>
        </p:nvSpPr>
        <p:spPr>
          <a:xfrm>
            <a:off x="0" y="475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3"/>
          <p:cNvSpPr/>
          <p:nvPr/>
        </p:nvSpPr>
        <p:spPr>
          <a:xfrm>
            <a:off x="1180080" y="1773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roblé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65"/>
          <p:cNvSpPr/>
          <p:nvPr/>
        </p:nvSpPr>
        <p:spPr>
          <a:xfrm>
            <a:off x="3702600" y="1773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lastic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66"/>
          <p:cNvSpPr/>
          <p:nvPr/>
        </p:nvSpPr>
        <p:spPr>
          <a:xfrm>
            <a:off x="6588000" y="1773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vář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86"/>
          <p:cNvSpPr/>
          <p:nvPr/>
        </p:nvSpPr>
        <p:spPr>
          <a:xfrm>
            <a:off x="870480" y="2205000"/>
            <a:ext cx="214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Neznámá veliči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88"/>
          <p:cNvSpPr/>
          <p:nvPr/>
        </p:nvSpPr>
        <p:spPr>
          <a:xfrm>
            <a:off x="2676600" y="5148360"/>
            <a:ext cx="3408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irtuální prá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89"/>
          <p:cNvSpPr/>
          <p:nvPr/>
        </p:nvSpPr>
        <p:spPr>
          <a:xfrm>
            <a:off x="3709800" y="2205000"/>
            <a:ext cx="1038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suv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90"/>
          <p:cNvSpPr/>
          <p:nvPr/>
        </p:nvSpPr>
        <p:spPr>
          <a:xfrm>
            <a:off x="6601320" y="2168640"/>
            <a:ext cx="1303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ost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91"/>
          <p:cNvSpPr/>
          <p:nvPr/>
        </p:nvSpPr>
        <p:spPr>
          <a:xfrm>
            <a:off x="866160" y="2852640"/>
            <a:ext cx="228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Rovnice rovnováh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94"/>
          <p:cNvSpPr/>
          <p:nvPr/>
        </p:nvSpPr>
        <p:spPr>
          <a:xfrm>
            <a:off x="819360" y="3429000"/>
            <a:ext cx="232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Geometrické vztah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95"/>
          <p:cNvSpPr/>
          <p:nvPr/>
        </p:nvSpPr>
        <p:spPr>
          <a:xfrm>
            <a:off x="764640" y="4221000"/>
            <a:ext cx="246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onstitutivní rovn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96"/>
          <p:cNvSpPr/>
          <p:nvPr/>
        </p:nvSpPr>
        <p:spPr>
          <a:xfrm>
            <a:off x="839880" y="5157720"/>
            <a:ext cx="229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Výchozí princi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Diskretizace MK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9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97"/>
              <p:cNvSpPr txBox="1"/>
              <p:nvPr/>
            </p:nvSpPr>
            <p:spPr>
              <a:xfrm>
                <a:off x="6300720" y="3860640"/>
                <a:ext cx="15321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acc>
                          <m:accPr>
                            <m:chr m:val="¯"/>
                          </m:acc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</m:acc>
                      </m:den>
                    </m:f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Rectangle 30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99"/>
              <p:cNvSpPr txBox="1"/>
              <p:nvPr/>
            </p:nvSpPr>
            <p:spPr>
              <a:xfrm>
                <a:off x="6300720" y="4683240"/>
                <a:ext cx="23036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¯"/>
                      </m:acc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</m:acc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30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01"/>
              <p:cNvSpPr txBox="1"/>
              <p:nvPr/>
            </p:nvSpPr>
            <p:spPr>
              <a:xfrm>
                <a:off x="3830760" y="5751360"/>
                <a:ext cx="10476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03"/>
              <p:cNvSpPr txBox="1"/>
              <p:nvPr/>
            </p:nvSpPr>
            <p:spPr>
              <a:xfrm>
                <a:off x="6227640" y="5746680"/>
                <a:ext cx="2376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Line 305"/>
          <p:cNvSpPr/>
          <p:nvPr/>
        </p:nvSpPr>
        <p:spPr>
          <a:xfrm>
            <a:off x="3276720" y="1773360"/>
            <a:ext cx="0" cy="4392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06"/>
          <p:cNvSpPr/>
          <p:nvPr/>
        </p:nvSpPr>
        <p:spPr>
          <a:xfrm>
            <a:off x="5867280" y="1773360"/>
            <a:ext cx="0" cy="934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07"/>
          <p:cNvSpPr/>
          <p:nvPr/>
        </p:nvSpPr>
        <p:spPr>
          <a:xfrm>
            <a:off x="5867280" y="3357720"/>
            <a:ext cx="0" cy="28080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08"/>
          <p:cNvSpPr/>
          <p:nvPr/>
        </p:nvSpPr>
        <p:spPr>
          <a:xfrm>
            <a:off x="684360" y="2205000"/>
            <a:ext cx="7991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09"/>
          <p:cNvSpPr/>
          <p:nvPr/>
        </p:nvSpPr>
        <p:spPr>
          <a:xfrm>
            <a:off x="684360" y="2708280"/>
            <a:ext cx="7991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10"/>
          <p:cNvSpPr/>
          <p:nvPr/>
        </p:nvSpPr>
        <p:spPr>
          <a:xfrm>
            <a:off x="684360" y="3357720"/>
            <a:ext cx="7991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11"/>
          <p:cNvSpPr/>
          <p:nvPr/>
        </p:nvSpPr>
        <p:spPr>
          <a:xfrm>
            <a:off x="684360" y="3895560"/>
            <a:ext cx="7991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12"/>
          <p:cNvSpPr/>
          <p:nvPr/>
        </p:nvSpPr>
        <p:spPr>
          <a:xfrm>
            <a:off x="684360" y="5157720"/>
            <a:ext cx="7991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13"/>
          <p:cNvSpPr/>
          <p:nvPr/>
        </p:nvSpPr>
        <p:spPr>
          <a:xfrm>
            <a:off x="755640" y="5661000"/>
            <a:ext cx="7920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14"/>
          <p:cNvSpPr/>
          <p:nvPr/>
        </p:nvSpPr>
        <p:spPr>
          <a:xfrm>
            <a:off x="684360" y="1773360"/>
            <a:ext cx="7991280" cy="4392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CF57-BAAA-4496-914F-3E67B74A2C0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4" descr="O6"/>
          <p:cNvPicPr/>
          <p:nvPr/>
        </p:nvPicPr>
        <p:blipFill>
          <a:blip r:embed="rId1"/>
          <a:stretch/>
        </p:blipFill>
        <p:spPr>
          <a:xfrm>
            <a:off x="826920" y="3789360"/>
            <a:ext cx="3071880" cy="24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- aplikace válc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77336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D a 3D problé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družené teplotně-deformační řeš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stacionární analý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apojení studen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polupráce s průmys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ÚHŽ Dobrá, ITA Ostr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7164360" y="333360"/>
            <a:ext cx="1584360" cy="1152720"/>
            <a:chOff x="7164360" y="333360"/>
            <a:chExt cx="1584360" cy="1152720"/>
          </a:xfrm>
        </p:grpSpPr>
        <p:sp>
          <p:nvSpPr>
            <p:cNvPr id="178" name="Rectangle 6"/>
            <p:cNvSpPr/>
            <p:nvPr/>
          </p:nvSpPr>
          <p:spPr>
            <a:xfrm>
              <a:off x="7164360" y="333360"/>
              <a:ext cx="1584360" cy="11527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9" name="Object 7"/>
            <p:cNvGraphicFramePr/>
            <p:nvPr/>
          </p:nvGraphicFramePr>
          <p:xfrm>
            <a:off x="7215120" y="333360"/>
            <a:ext cx="1486080" cy="1152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0" name="Object 7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15120" y="333360"/>
                      <a:ext cx="148608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21" descr="O1"/>
          <p:cNvPicPr/>
          <p:nvPr/>
        </p:nvPicPr>
        <p:blipFill>
          <a:blip r:embed="rId4"/>
          <a:stretch/>
        </p:blipFill>
        <p:spPr>
          <a:xfrm>
            <a:off x="6659640" y="260280"/>
            <a:ext cx="208584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Picture 25" descr="O7"/>
          <p:cNvPicPr/>
          <p:nvPr/>
        </p:nvPicPr>
        <p:blipFill>
          <a:blip r:embed="rId5"/>
          <a:stretch/>
        </p:blipFill>
        <p:spPr>
          <a:xfrm>
            <a:off x="5224320" y="1700280"/>
            <a:ext cx="3451320" cy="224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8" name="Picture 22" descr="O2"/>
          <p:cNvPicPr/>
          <p:nvPr/>
        </p:nvPicPr>
        <p:blipFill>
          <a:blip r:embed="rId6"/>
          <a:stretch/>
        </p:blipFill>
        <p:spPr>
          <a:xfrm>
            <a:off x="4211640" y="3573360"/>
            <a:ext cx="3987720" cy="208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Zástupný symbol pro číslo snímku 7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4B52-7721-4E30-8345-639D6E9663E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obr01"/>
          <p:cNvPicPr/>
          <p:nvPr/>
        </p:nvPicPr>
        <p:blipFill>
          <a:blip r:embed="rId1"/>
          <a:stretch/>
        </p:blipFill>
        <p:spPr>
          <a:xfrm>
            <a:off x="2700360" y="2349360"/>
            <a:ext cx="5543640" cy="3565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obr02"/>
          <p:cNvPicPr/>
          <p:nvPr/>
        </p:nvPicPr>
        <p:blipFill>
          <a:blip r:embed="rId2"/>
          <a:stretch/>
        </p:blipFill>
        <p:spPr>
          <a:xfrm>
            <a:off x="1044720" y="2349360"/>
            <a:ext cx="4606920" cy="3529080"/>
          </a:xfrm>
          <a:prstGeom prst="rect">
            <a:avLst/>
          </a:prstGeom>
          <a:ln w="0">
            <a:noFill/>
          </a:ln>
        </p:spPr>
      </p:pic>
      <p:pic>
        <p:nvPicPr>
          <p:cNvPr id="193" name="animace04.avi" descr=""/>
          <p:cNvPicPr/>
          <p:nvPr/>
        </p:nvPicPr>
        <p:blipFill>
          <a:blip r:embed="rId3"/>
          <a:stretch/>
        </p:blipFill>
        <p:spPr>
          <a:xfrm>
            <a:off x="5938920" y="189000"/>
            <a:ext cx="2954160" cy="208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1126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imulace příčného válc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20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Zástupný symbol pro číslo snímku 7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21DC-0F65-4A27-8E25-7EC6A5E3FD6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3" descr="obr07"/>
          <p:cNvPicPr/>
          <p:nvPr/>
        </p:nvPicPr>
        <p:blipFill>
          <a:blip r:embed="rId1"/>
          <a:stretch/>
        </p:blipFill>
        <p:spPr>
          <a:xfrm>
            <a:off x="826920" y="1773360"/>
            <a:ext cx="4537080" cy="33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Picture 4" descr="obr08"/>
          <p:cNvPicPr/>
          <p:nvPr/>
        </p:nvPicPr>
        <p:blipFill>
          <a:blip r:embed="rId2"/>
          <a:stretch/>
        </p:blipFill>
        <p:spPr>
          <a:xfrm>
            <a:off x="4356000" y="3206880"/>
            <a:ext cx="4138560" cy="30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Picture 5" descr="FSI-ZP1-ANGL-SPEC"/>
          <p:cNvPicPr/>
          <p:nvPr/>
        </p:nvPicPr>
        <p:blipFill>
          <a:blip r:embed="rId3"/>
          <a:stretch/>
        </p:blipFill>
        <p:spPr>
          <a:xfrm>
            <a:off x="6915240" y="189000"/>
            <a:ext cx="183348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8548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imulace příčného válc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F74B-0F8F-4F53-8BD7-27BB7179997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animace10.avi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810240" cy="3352680"/>
          </a:xfrm>
          <a:prstGeom prst="rect">
            <a:avLst/>
          </a:prstGeom>
          <a:ln w="0">
            <a:noFill/>
          </a:ln>
        </p:spPr>
      </p:pic>
      <p:pic>
        <p:nvPicPr>
          <p:cNvPr id="204" name="animace11.avi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3809880" cy="3352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FSI-ZP1-ANGL-SPEC"/>
          <p:cNvPicPr/>
          <p:nvPr/>
        </p:nvPicPr>
        <p:blipFill>
          <a:blip r:embed="rId3"/>
          <a:stretch/>
        </p:blipFill>
        <p:spPr>
          <a:xfrm>
            <a:off x="6915240" y="189000"/>
            <a:ext cx="183348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imulace příčného válc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2912-FB77-419F-8BBC-894DCB27E00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animace12.avi" descr=""/>
          <p:cNvPicPr/>
          <p:nvPr/>
        </p:nvPicPr>
        <p:blipFill>
          <a:blip r:embed="rId1"/>
          <a:stretch/>
        </p:blipFill>
        <p:spPr>
          <a:xfrm>
            <a:off x="838080" y="2205000"/>
            <a:ext cx="3810240" cy="3208320"/>
          </a:xfrm>
          <a:prstGeom prst="rect">
            <a:avLst/>
          </a:prstGeom>
          <a:ln w="0">
            <a:noFill/>
          </a:ln>
        </p:spPr>
      </p:pic>
      <p:pic>
        <p:nvPicPr>
          <p:cNvPr id="210" name="animace13.avi" descr=""/>
          <p:cNvPicPr/>
          <p:nvPr/>
        </p:nvPicPr>
        <p:blipFill>
          <a:blip r:embed="rId2"/>
          <a:stretch/>
        </p:blipFill>
        <p:spPr>
          <a:xfrm>
            <a:off x="4800600" y="2163600"/>
            <a:ext cx="3809880" cy="3291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FSI-ZP1-ANGL-SPEC"/>
          <p:cNvPicPr/>
          <p:nvPr/>
        </p:nvPicPr>
        <p:blipFill>
          <a:blip r:embed="rId3"/>
          <a:stretch/>
        </p:blipFill>
        <p:spPr>
          <a:xfrm>
            <a:off x="6915240" y="189000"/>
            <a:ext cx="1833480" cy="119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imulace příčného válc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Zástupný symbol pro číslo snímku 7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322E-C04E-480E-9661-4B0FFE71C32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animace14.avi" descr=""/>
          <p:cNvPicPr/>
          <p:nvPr/>
        </p:nvPicPr>
        <p:blipFill>
          <a:blip r:embed="rId1"/>
          <a:stretch/>
        </p:blipFill>
        <p:spPr>
          <a:xfrm>
            <a:off x="755640" y="1763640"/>
            <a:ext cx="3013200" cy="260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6" name="animace15.avi" descr=""/>
          <p:cNvPicPr/>
          <p:nvPr/>
        </p:nvPicPr>
        <p:blipFill>
          <a:blip r:embed="rId2"/>
          <a:stretch/>
        </p:blipFill>
        <p:spPr>
          <a:xfrm>
            <a:off x="3132000" y="2852640"/>
            <a:ext cx="2725920" cy="235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animace16.avi" descr=""/>
          <p:cNvPicPr/>
          <p:nvPr/>
        </p:nvPicPr>
        <p:blipFill>
          <a:blip r:embed="rId3"/>
          <a:stretch/>
        </p:blipFill>
        <p:spPr>
          <a:xfrm>
            <a:off x="5557680" y="3886200"/>
            <a:ext cx="2830680" cy="24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6" descr="FSI-ZP1-ANGL-SPEC"/>
          <p:cNvPicPr/>
          <p:nvPr/>
        </p:nvPicPr>
        <p:blipFill>
          <a:blip r:embed="rId4"/>
          <a:stretch/>
        </p:blipFill>
        <p:spPr>
          <a:xfrm>
            <a:off x="6915240" y="217440"/>
            <a:ext cx="1833480" cy="11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uhoplastická formul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imulace válcování v kalib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BC02-F817-4FB4-8300-5D5629056790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5965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mplicitní a explicitní algoritmus MKP v simulaci tvář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755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Implicitní algorit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kované řešení velké soustavy rovn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eární závislost délky řešení na počtu neznámých,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vadratická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a šířce pásu (fronty) matice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blém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3D analýz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o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btížná predikovatelnost délky výpoč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Explicitní algoritmu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pouze dynamické problé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 u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( 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 (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- u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j-1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diagonální matic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pad soustavy na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nezávislé rovnic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pouze lineární závislost délky řešení na počtu neznámýc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velmi rychlé řešení jednotlivých krok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hodné pro 3D analýzy rychlých děj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od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něně stabilní řeš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8"/>
              <p:cNvSpPr txBox="1"/>
              <p:nvPr/>
            </p:nvSpPr>
            <p:spPr>
              <a:xfrm>
                <a:off x="3276720" y="1700280"/>
                <a:ext cx="14875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6032520" y="2540160"/>
                <a:ext cx="1344600" cy="25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" name="AutoShape 12"/>
          <p:cNvSpPr/>
          <p:nvPr/>
        </p:nvSpPr>
        <p:spPr>
          <a:xfrm flipH="1">
            <a:off x="7424640" y="2637000"/>
            <a:ext cx="503280" cy="288720"/>
          </a:xfrm>
          <a:prstGeom prst="rightArrow">
            <a:avLst>
              <a:gd name="adj1" fmla="val 75824"/>
              <a:gd name="adj2" fmla="val 53335"/>
            </a:avLst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 flipH="1">
            <a:off x="5650920" y="5065560"/>
            <a:ext cx="502920" cy="289080"/>
          </a:xfrm>
          <a:prstGeom prst="rightArrow">
            <a:avLst>
              <a:gd name="adj1" fmla="val 75824"/>
              <a:gd name="adj2" fmla="val 53231"/>
            </a:avLst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7:15:50Z</dcterms:created>
  <dc:creator>Rudolf Fret</dc:creator>
  <dc:description/>
  <dc:language>en-US</dc:language>
  <cp:lastModifiedBy>Prof. Jindrich Petruska</cp:lastModifiedBy>
  <dcterms:modified xsi:type="dcterms:W3CDTF">2010-01-08T11:47:45Z</dcterms:modified>
  <cp:revision>83</cp:revision>
  <dc:subject/>
  <dc:title>STRUKTURNÍ STABILITA ŽÁRUPEVNÝCH OCELÍ A JEJICH SVAROVÝCH SPOJŮ</dc:title>
</cp:coreProperties>
</file>