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51E5-3102-4A7C-807E-F02AEC93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B521-59E2-4DCF-8EB5-3E84F65D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F956-62EB-4393-87F2-3673D67F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7B6E-A79F-4C09-9A02-E232262C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833C-0E51-4BF8-A8C6-012D7053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28F5-ECEB-4F9F-B2AB-12764752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77CD-0B33-44C9-9EB2-53E04274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DE57-A9CD-4295-BD94-DF0AEA51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12D5-21D9-4102-BCC4-602D4FCA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A637-7961-4A3B-8A36-87496D8D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EE64-DFA1-42F9-A458-E869FEBB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954F-B5DB-4744-964E-75EF4370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9ED8-601D-495F-B901-A21A73CCCEB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P&#345;etvo&#345;en&#237;-obr&#225;zek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mluvní přetvoření (pro malé deform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4"/>
              <p:cNvSpPr txBox="1"/>
              <p:nvPr/>
            </p:nvSpPr>
            <p:spPr>
              <a:xfrm>
                <a:off x="3559320" y="1197000"/>
                <a:ext cx="45417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Rectangle 6"/>
          <p:cNvSpPr/>
          <p:nvPr/>
        </p:nvSpPr>
        <p:spPr>
          <a:xfrm>
            <a:off x="384120" y="1185840"/>
            <a:ext cx="807552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Délková (označení viz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brázek 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Pro ostatní složky analogick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Úhlová (zkos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Pro ostatní složky analogick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Vzhledem k tomu, že složkami tenzoru přetvoření jsou poloviční zkosy, lze napsat </a:t>
            </a:r>
            <a:r>
              <a:rPr b="0" lang="cs-CZ" sz="2000" spc="-1" strike="noStrike">
                <a:solidFill>
                  <a:srgbClr val="cc0000"/>
                </a:solidFill>
                <a:latin typeface="Arial"/>
              </a:rPr>
              <a:t>obecný tenzorový vzt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kde souřadnicím X,Y,Z odpovídají X</a:t>
            </a:r>
            <a:r>
              <a:rPr b="0" lang="cs-CZ" sz="1800" spc="-1" strike="noStrike" baseline="-25000">
                <a:solidFill>
                  <a:srgbClr val="80808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 a posuvům u,v,w posuvy u</a:t>
            </a:r>
            <a:r>
              <a:rPr b="0" lang="cs-CZ" sz="1800" spc="-1" strike="noStrike" baseline="-25000">
                <a:solidFill>
                  <a:srgbClr val="808080"/>
                </a:solidFill>
                <a:latin typeface="Arial"/>
              </a:rPr>
              <a:t>i</a:t>
            </a: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 (pro i=1,2,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7"/>
              <p:cNvSpPr txBox="1"/>
              <p:nvPr/>
            </p:nvSpPr>
            <p:spPr>
              <a:xfrm>
                <a:off x="4356000" y="2212920"/>
                <a:ext cx="170676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8"/>
              <p:cNvSpPr txBox="1"/>
              <p:nvPr/>
            </p:nvSpPr>
            <p:spPr>
              <a:xfrm>
                <a:off x="1403280" y="3036960"/>
                <a:ext cx="64105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9"/>
              <p:cNvSpPr txBox="1"/>
              <p:nvPr/>
            </p:nvSpPr>
            <p:spPr>
              <a:xfrm>
                <a:off x="4268880" y="4164120"/>
                <a:ext cx="322092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10"/>
              <p:cNvSpPr txBox="1"/>
              <p:nvPr/>
            </p:nvSpPr>
            <p:spPr>
              <a:xfrm>
                <a:off x="5724360" y="5132520"/>
                <a:ext cx="22161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0:17:26Z</dcterms:created>
  <dc:creator>Jiri Bursa</dc:creator>
  <dc:description/>
  <dc:language>en-US</dc:language>
  <cp:lastModifiedBy>Prof. Jindrich Petruska</cp:lastModifiedBy>
  <dcterms:modified xsi:type="dcterms:W3CDTF">2010-01-08T11:56:54Z</dcterms:modified>
  <cp:revision>2</cp:revision>
  <dc:subject/>
  <dc:title>Smluvní přetvoření (pro malé deformace)</dc:title>
</cp:coreProperties>
</file>