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5D51-D010-4135-9CEC-B497E353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DECB-910F-4C4B-BC4E-193B3C3B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0F9-F49E-48D2-9C88-DC015CD8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8342-DC12-4C34-AB72-3FC6584C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728-E778-44EE-92CA-5D1173B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658-7EBC-40D7-BCF8-973131A4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821-73B8-48F7-AC23-4D323B0D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0E6-AE16-40D8-BFAF-1A8CFEAB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071-8584-4DD6-B8E9-F6535FC2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B33-C0F1-4B96-AD51-09ADEA3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060-0A98-4861-8DB3-C6511D14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CA5-5D45-49F5-B871-5D65CB5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A3D7-1A36-4F1C-89F3-C477E9988F8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&#345;etvo&#345;en&#237;-obr&#225;zek Almansi.ppt" TargetMode="External"/><Relationship Id="rId2" Type="http://schemas.openxmlformats.org/officeDocument/2006/relationships/hyperlink" Target="p&#345;etvo&#345;en&#237;_Green-Lagrange.ppt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Einsteinovo pravidlo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Eulerově popisu deformace se poměrné přetvoření vztahuje ke konečným rozměrům, které tak definují výchozí vztažnou geometrickou konfiguraci – 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ráz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Pak délkové přetvoření lze vyjádř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ým postupem s využitím binomické řady jako pr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reen-Lagrangeův tenzor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me výraz upravit na t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928800" y="2070000"/>
                <a:ext cx="733572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/>
                            </m:sSup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u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746280" y="3573360"/>
                <a:ext cx="7354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w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f>
                          <m:num>
                            <m:r>
                              <m:t xml:space="preserve">2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v</m:t>
                                        </m:r>
                                      </m:num>
                                      <m:den>
                                        <m:r>
                                          <m:t xml:space="preserve">∂</m:t>
                                        </m:r>
                                        <m:r>
                                          <m:t xml:space="preserve">x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2"/>
              <p:cNvSpPr txBox="1"/>
              <p:nvPr/>
            </p:nvSpPr>
            <p:spPr>
              <a:xfrm>
                <a:off x="755640" y="4595760"/>
                <a:ext cx="322092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" name="Rectangle 13"/>
          <p:cNvSpPr/>
          <p:nvPr/>
        </p:nvSpPr>
        <p:spPr>
          <a:xfrm>
            <a:off x="473400" y="5300640"/>
            <a:ext cx="57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ostatní složky délkových přetvoření platí analog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14"/>
              <p:cNvSpPr txBox="1"/>
              <p:nvPr/>
            </p:nvSpPr>
            <p:spPr>
              <a:xfrm>
                <a:off x="803160" y="5667480"/>
                <a:ext cx="32641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5"/>
              <p:cNvSpPr txBox="1"/>
              <p:nvPr/>
            </p:nvSpPr>
            <p:spPr>
              <a:xfrm>
                <a:off x="4572000" y="5676840"/>
                <a:ext cx="352908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z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u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r>
                                      <m:t xml:space="preserve">w</m:t>
                                    </m:r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z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979640" y="2492280"/>
                <a:ext cx="410832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Rectangle 8"/>
          <p:cNvSpPr/>
          <p:nvPr/>
        </p:nvSpPr>
        <p:spPr>
          <a:xfrm>
            <a:off x="468360" y="54514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použití Almansiho tenzoru je omezeno tím, že konečné (deformované) souřadnice obvykle předem nezná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324000" y="155736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zobecnění na všechny složky je možné Almansiho tenzor přetvoření zapsat v kompaktní podobě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insteinova sčítacího pravid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mansi-Hamelův tenzor konečných přetvo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3645000"/>
            <a:ext cx="828036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igorózní odvození tohoto tenzoru včetně mimodiagonálních složek je možno nalézt v literatuře, např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.A. Holzapfel: Nonlinear Solid Mechanics, Wiley and Sons,  20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. Okrouhlík a kol.: Mechanika poddajných těles, numerická matematika a superpočítače, Ústav termomechaniky AV ČR, Praha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0:25:54Z</dcterms:created>
  <dc:creator>Jiri Bursa</dc:creator>
  <dc:description/>
  <dc:language>en-US</dc:language>
  <cp:lastModifiedBy>Prof. Jindrich Petruska</cp:lastModifiedBy>
  <dcterms:modified xsi:type="dcterms:W3CDTF">2010-01-08T11:54:14Z</dcterms:modified>
  <cp:revision>6</cp:revision>
  <dc:subject/>
  <dc:title>Almansi-Hamelův tenzor konečných deformací</dc:title>
</cp:coreProperties>
</file>