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33AC-7039-4A24-911D-E1A80094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166C-8708-4A6F-ACA9-2C71EE3A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1487-7F95-46C8-B9B5-ECAD2042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E7E-8E47-40A9-BD77-5BC27210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3CA-7773-40D2-8776-718AC72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3EB-B31D-46BD-857F-9A5FDA38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D98-D59D-41C9-ADEB-3B5BA82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9489-0DD9-4B75-BD1F-ED44E990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93C-F4E8-47D0-8082-EEC53907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44D-A164-41B2-BFE7-0200E888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30C-1E6C-4B89-B5ED-A35319FE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1034-0428-4E69-AC52-10532778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4D74-3EF3-46B5-A7B7-B558E7FE95E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ův tenzor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8478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definice nepracuje s přetvořeními, ale s poměrnými protaženími, podobně jako tenzor deformačního gradien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 nějž se odvozuje pomocí vztah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vý Cauchy-Greenův tenzor de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ložkovém tvaru lze například pravý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auchy-Greenův tenzor deformace zapsat následovně (s využitím Einsteinova sčítacího pravid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mi souřadnicemi tohoto tenzoru jsou tedy kvadráty poměrných protažení v hlavních směr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Object 22"/>
              <p:cNvSpPr txBox="1"/>
              <p:nvPr/>
            </p:nvSpPr>
            <p:spPr>
              <a:xfrm>
                <a:off x="6041880" y="2421000"/>
                <a:ext cx="15544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Object 19"/>
              <p:cNvSpPr txBox="1"/>
              <p:nvPr/>
            </p:nvSpPr>
            <p:spPr>
              <a:xfrm>
                <a:off x="6059520" y="1773360"/>
                <a:ext cx="1608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36"/>
              <p:cNvSpPr txBox="1"/>
              <p:nvPr/>
            </p:nvSpPr>
            <p:spPr>
              <a:xfrm>
                <a:off x="2411280" y="3645000"/>
                <a:ext cx="1548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38"/>
              <p:cNvSpPr txBox="1"/>
              <p:nvPr/>
            </p:nvSpPr>
            <p:spPr>
              <a:xfrm>
                <a:off x="4573440" y="4581360"/>
                <a:ext cx="23749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Invarianty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auchy-Greenova tenzoru defor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07552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arianty tohoto tenzoru lze v hlavním souřadnicovém systému vyjádřit následovně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e J je třetí invariant tenzoru deformačního gradientu. Třetí invariant tedy i u Cauchy-Greenova tenzoru deformace vyjadřuje změnu objemu (je roven jedné, pokud se při deformaci objem nemění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 vztazích pro funkce měrné energie napjatosti se kromě něj používají tzv. modifikované invarianty Cauchy-Greenova tenzoru deformace, případně modifikované hodnoty hlavních poměrných protažení, které vyjadřují pouze tvarovou (deviátorovou) část tenzoru de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14"/>
              <p:cNvSpPr txBox="1"/>
              <p:nvPr/>
            </p:nvSpPr>
            <p:spPr>
              <a:xfrm>
                <a:off x="2927520" y="2589120"/>
                <a:ext cx="27968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5"/>
              <p:cNvSpPr txBox="1"/>
              <p:nvPr/>
            </p:nvSpPr>
            <p:spPr>
              <a:xfrm>
                <a:off x="684360" y="2301840"/>
                <a:ext cx="196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6"/>
              <p:cNvSpPr txBox="1"/>
              <p:nvPr/>
            </p:nvSpPr>
            <p:spPr>
              <a:xfrm>
                <a:off x="5940360" y="2949480"/>
                <a:ext cx="20415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6:56:55Z</dcterms:created>
  <dc:creator>Jiri Bursa</dc:creator>
  <dc:description/>
  <dc:language>en-US</dc:language>
  <cp:lastModifiedBy>Prof. Jindrich Petruska</cp:lastModifiedBy>
  <dcterms:modified xsi:type="dcterms:W3CDTF">2010-01-08T11:51:54Z</dcterms:modified>
  <cp:revision>10</cp:revision>
  <dc:subject/>
  <dc:title>Tenzor deformačního gradientu</dc:title>
</cp:coreProperties>
</file>