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1843-CD8C-45EC-9410-D62F64D0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E87-8456-4FAB-8A5A-DD9EC87C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35E-3ED9-40D1-8F6C-CDDA7841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A27-D9F6-4743-8AE3-3614CA9A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1A9-88E9-4C5B-BD9D-8FA190A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495C-D82F-4504-B9EC-F98028D9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7C4-B844-4FA4-8E99-544A31E6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931-0B9F-4D17-ACB3-29A0EE28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FD6-E995-4832-8666-A672C5A8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EC7-A1B6-437E-81AA-961ADF8A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158-C4F0-4F8D-A337-82A04A5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D19-E582-4D09-A921-C58C4B9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226E-1A60-4EDB-9A79-9F452EA83AF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0280" y="54936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iola-Kirchhoffův tenzor napětí 1. dru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717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1.Piola-Kirchhoffův tenzor napětí (označovaný také jako Lagrangeův nebo Piolův, v praxi často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smluvní napětí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 – engineering stress) je definován jako skutečná elementární síla vztažená na původní (tj. nedeformovanou) plochu elementu podle vztahu (platí pro hlavní napětí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808080"/>
                </a:solidFill>
                <a:latin typeface="Arial"/>
              </a:rPr>
              <a:t>Konkrétně pro hlavní napětí ve směru 1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4565520" y="3630600"/>
                <a:ext cx="18068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7"/>
              <p:cNvSpPr txBox="1"/>
              <p:nvPr/>
            </p:nvSpPr>
            <p:spPr>
              <a:xfrm>
                <a:off x="3203640" y="5227560"/>
                <a:ext cx="18064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26:19Z</dcterms:created>
  <dc:creator>Jiri Bursa</dc:creator>
  <dc:description/>
  <dc:language>en-US</dc:language>
  <cp:lastModifiedBy>Prof. Jindrich Petruska</cp:lastModifiedBy>
  <dcterms:modified xsi:type="dcterms:W3CDTF">2010-01-08T11:53:37Z</dcterms:modified>
  <cp:revision>5</cp:revision>
  <dc:subject/>
  <dc:title>Piola-Kirchhoffův tenzor napětí 1. druhu </dc:title>
</cp:coreProperties>
</file>