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6122-87E6-40E7-8F93-BCFCDF9D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0EF-A6ED-4879-8088-214514F4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C8D-B44D-4547-8A7E-5E21782A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394-620E-464A-8B01-F213ACDA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323-F32F-4D08-A8A1-D8EEB1DD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04D-60BC-4512-AA94-3F4039CF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0B4-3CA1-4208-9CCF-CA6061DA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28A-E9D6-4D7C-9247-93890E57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E6C-91EA-450C-A4AD-E9241B51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8FA-8489-4516-8421-2809D799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095-BB7D-407F-84E4-27CD03D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6E1-4C77-4A00-9A4B-E1E216E5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B05-3102-4470-969B-F3C3DF03ED2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Energeticky konjugované tenz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tenzorech napětí a přetvoření říkáme, že jso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nergeticky konjug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družené),  jestliže jejich skalární součin integrovaný přes odpovídající vztažnou geometrickou konfigurac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ává práci vnitřních  si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Uvedené tenzory přitom nelze kombinovat libovolně. Energeticky konjugované jsou např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reen-Lagrangeův tenzor přetvoření a 2. Piola-Kirchhoffův tenzor napětí, neb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mansiho tenzor přetvoření a Cauchyho tenzor (skutečných) napět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jich prostřednictvím lze vyjádřit virtuální práci vnitřních sil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V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počáteční, V finální geometrická konfigur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jiná kombinace tenzorů či vztažných geometrií by poskytla nesprávný výsled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4"/>
              <p:cNvSpPr txBox="1"/>
              <p:nvPr/>
            </p:nvSpPr>
            <p:spPr>
              <a:xfrm>
                <a:off x="1692360" y="4349880"/>
                <a:ext cx="50418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V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∂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0:51:50Z</dcterms:created>
  <dc:creator>Jiri Bursa</dc:creator>
  <dc:description/>
  <dc:language>en-US</dc:language>
  <cp:lastModifiedBy>Prof. Jindrich Petruska</cp:lastModifiedBy>
  <dcterms:modified xsi:type="dcterms:W3CDTF">2010-01-08T11:53:08Z</dcterms:modified>
  <cp:revision>5</cp:revision>
  <dc:subject/>
  <dc:title>Energeticky konjugované tenzory</dc:title>
</cp:coreProperties>
</file>