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07DB-F6B3-4782-812B-3871A538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62EB-67B5-4F8D-848F-1912E76F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422E-A3BB-47F8-B84A-AACADBC6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371-2057-4C89-8D89-5ADBAD5C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A9C-0F05-44DE-B6B6-8FD0308E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696-688D-408E-8A72-812C9CAE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DC54-CDB0-4D1E-8E45-0CC1687E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34D-23F0-45C7-AC8B-E3B161A0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091-4A0C-43BC-9763-836C0C19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10E-5AFD-4094-85B9-12B15B0A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CF55-046D-471F-8898-A111D431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D802-8004-4058-8670-562CA992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A8A-2DC1-46D3-B92A-9860DF4C1E6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7138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insteinovo sčítací pravid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76120"/>
            <a:ext cx="85075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Einsteinovo sčítací pravidlo se používá pro zjednodušení obecných tenzorových zápisů. Vyskytuje-li se v některém členu opakovaný index (tzv. sčítací index, v našem případě index k) pak se provádí sumace přes tento index. Např. obecný zápis Green-Lagrangeova tenzoru přetvoření ve tv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Arial"/>
              </a:rPr>
              <a:t>je třeba interpretova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5"/>
              <p:cNvSpPr txBox="1"/>
              <p:nvPr/>
            </p:nvSpPr>
            <p:spPr>
              <a:xfrm>
                <a:off x="3241800" y="2603520"/>
                <a:ext cx="39942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2268360" y="4205160"/>
                <a:ext cx="4116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4:19:40Z</dcterms:created>
  <dc:creator>Jiri Bursa</dc:creator>
  <dc:description/>
  <dc:language>en-US</dc:language>
  <cp:lastModifiedBy>Prof. Jindrich Petruska</cp:lastModifiedBy>
  <dcterms:modified xsi:type="dcterms:W3CDTF">2010-01-08T11:52:55Z</dcterms:modified>
  <cp:revision>4</cp:revision>
  <dc:subject/>
  <dc:title>Einsteinovo sčítací pravidlo</dc:title>
</cp:coreProperties>
</file>