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E41-8EB5-451B-97AB-3265D585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9DF0-33CE-44AB-A877-8F09E4B2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31EE-1E25-4E48-A375-DE30935E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D7D-1AC3-42AD-9D1E-E1793715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24C7-99F6-4903-A9FF-270290E3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FB26-7FCA-412F-A9C8-4354DB72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527B-9BE6-4361-8E4E-695BF6CB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332F-F7FC-44E2-9EBC-B4903A8B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7358-00EA-4A27-955A-B9E13AB7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F48B-07A9-48E4-B3C7-773357A8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659E-E3B6-42AF-9A4C-7B292A8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144-8607-4262-B79E-7CDD3997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2ABE-1366-49EC-BA59-08B71027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C5B5-C4AF-4AFF-80AC-54495A3D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4F6D-14F0-45BF-835D-AF6E833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331-B52F-435E-A67A-E19D7B45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76BD-FFE1-4D9A-8DD5-436F97CD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BAFF-91D3-4DCB-9854-A244574F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1B7-CCAB-4E72-BBE6-CBA240A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9E98-C120-4B15-A516-FED0B28B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EA50-4083-4E00-AB64-1C2B0995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29FB-919F-43B9-B7BD-8AD408C9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77E8-C24A-4E60-AE1A-BDB93802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EB4-2EE4-429D-86FA-525DA451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9C1D-17F9-492D-993C-BB1D9AAFC3C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7812-19F9-4747-A7F9-3DA80192B61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3357720"/>
            <a:ext cx="3743280" cy="2519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346720" y="4508640"/>
                <a:ext cx="21049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∬"/>
                        <m:supHide m:val="1"/>
                      </m:naryPr>
                      <m:sub>
                        <m:r>
                          <m:t xml:space="preserve">S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dy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331280"/>
            <a:ext cx="79869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Je charakterizovaná nevratnou plastickou deformací, která vzniká po překročení meze kluzu (Yield stress). Nelineární závislost mezi napětím a přetvořením přitom nastává již po překročení meze úměrnosti (Proportional limit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Vzhledem k blízkosti obou těchto mezních bodů nejsou v praxi rozlišovány a pracuje se pouze s hodnotou meze kluz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lasticita je nekonzervativní proces jehož výsledek je závislý na celé historii zatěžování. Vyžaduje proto při výpočtovém řešení správně zadat celou sekvenci zatěžovacích (a odlehčovacích) kroků s dostatečně jemným rozdělením zatěžovacích přírůstků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71640" y="3645000"/>
            <a:ext cx="3286080" cy="1933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292720" y="5300640"/>
                <a:ext cx="1279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716360" y="2924280"/>
            <a:ext cx="3816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Závislost matice tuhosti na aktuální deformaci je zprostředkována pomocí matice materiálových charakteristik D, která vyjadřuje závislost mezi napětím a přetvořením 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= D.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. V případě elastoplastického stavu je tato matice závislá na dosažené úrovni a historii průběhu deformace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64000" y="4941720"/>
            <a:ext cx="216000" cy="287640"/>
          </a:xfrm>
          <a:prstGeom prst="downArrow">
            <a:avLst>
              <a:gd name="adj1" fmla="val 50000"/>
              <a:gd name="adj2" fmla="val 33292"/>
            </a:avLst>
          </a:prstGeom>
          <a:solidFill>
            <a:srgbClr val="ff00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EDF-A8F8-4A87-BEA1-DC5CB938F4B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4832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krementální (přírůstková) teorie plasticity poskytuje matematický aparát, umožňující výpočtově modelovat elastoplastickou odezvu materiálu na zatížení. Tři základní komponenty teorie plasticity jsou: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dmínka plasticity, zákon tečení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zpevně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4760" y="299628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Podmínka plasticit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71640" y="3407040"/>
            <a:ext cx="7394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hoduje o úrovni napjatosti, při které je iniciován proces plastizace. Pro obecnou napjatost je kriteriální veličinou ekvivalentní (redukované) napětí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740720" y="4797360"/>
            <a:ext cx="287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5878440"/>
            <a:ext cx="934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415040"/>
            <a:ext cx="43480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dmínka plasticity má 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σ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 prostoru hlavních napětí je reprezentována plochou plasticity, která má pro nejčastěji používanou podmínku HMH válcový tvar dle 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ED6-E1BA-444E-80E6-13380BE6D2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78920" y="126756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ákon teč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6992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rčuje velikost přírůstku složek plastického přetvoření v závislosti na přírůstku napětí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848640" cy="160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940360" y="4437000"/>
            <a:ext cx="2089080" cy="17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7164360" y="5950080"/>
            <a:ext cx="863640" cy="215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0720" y="4797360"/>
            <a:ext cx="287280" cy="216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3427560"/>
            <a:ext cx="6624720" cy="8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tický multiplikátor (rozhoduje o velikosti přírůstk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plastický potenciál, obvykle ztotožněn s plochou plasticit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32E-9BFF-4971-A8AE-C7A1352DD0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48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971640"/>
            <a:ext cx="7777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změnu plochy plasticity během procesu plastické deformace, aby bylo možno formulovat následné podmínky plasticity při opakované, cyklické plastizaci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va základní modely jsou izotropní zpevnění, při kterém se plocha plasticity rovnoměrně „nafukuje“ všemi směry, a kinematické zpevnění, při kterém dochází k jejímu posunu ve směru působícího napětí. Bližší realitě je kinematické zpevnění, které odpovídá experimentálně prokázanému jevu označovanému jako Bauschingerův efek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63640" y="3475080"/>
            <a:ext cx="5451480" cy="26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"/>
          <p:cNvSpPr/>
          <p:nvPr/>
        </p:nvSpPr>
        <p:spPr>
          <a:xfrm flipV="1">
            <a:off x="2556000" y="4901760"/>
            <a:ext cx="576000" cy="73080"/>
          </a:xfrm>
          <a:prstGeom prst="line">
            <a:avLst/>
          </a:prstGeom>
          <a:ln cap="sq" w="284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959360" y="4941360"/>
            <a:ext cx="669960" cy="73080"/>
          </a:xfrm>
          <a:prstGeom prst="line">
            <a:avLst/>
          </a:prstGeom>
          <a:ln cap="sq" w="28440">
            <a:solidFill>
              <a:srgbClr val="ff003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87640" y="463716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33"/>
                </a:solidFill>
                <a:latin typeface="Times New Roman"/>
              </a:rPr>
              <a:t>Loading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4000" y="465300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33"/>
                </a:solidFill>
                <a:latin typeface="Times New Roman"/>
              </a:rPr>
              <a:t>Loading 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0A6-B7B4-4C9B-8D2C-C71F0CC4A3B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260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2360" y="2132280"/>
            <a:ext cx="29253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uschinge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ů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k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2852640"/>
            <a:ext cx="2232000" cy="1865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84760" y="5083920"/>
            <a:ext cx="259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ké zpevně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43280" y="2755800"/>
          <a:ext cx="3097440" cy="240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2755800"/>
                    <a:ext cx="30974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713840" y="5083920"/>
            <a:ext cx="228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rop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n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pev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7FD-3CF1-44DA-95C4-6C558C1CFA7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lastic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1771560"/>
            <a:ext cx="7704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proximace tahového dia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B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Multilin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ár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2924280"/>
            <a:ext cx="5975280" cy="297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961-6481-45D1-98F1-C385B62D4D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1120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stic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základní modely zpevnění: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kinematický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bilineární izotropní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- multilineární izotrop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319640" cy="38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710-58C0-4DEE-AFF1-2B4D58211BFF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Jindřich Petruška</cp:lastModifiedBy>
  <dcterms:modified xsi:type="dcterms:W3CDTF">2010-01-06T18:02:18Z</dcterms:modified>
  <cp:revision>111</cp:revision>
  <dc:subject/>
  <dc:title>STRUKTURNÍ STABILITA ŽÁRUPEVNÝCH OCELÍ A JEJICH SVAROVÝCH SPOJŮ</dc:title>
</cp:coreProperties>
</file>