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AE2-D36A-4785-99F7-BF663441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5C20-F1A7-4644-988E-7C97A5E9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3BA-1752-40A2-AF29-979FA863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395-07D5-4FBB-B90B-E61C10D9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477-CC88-4F8A-890A-1E976C67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AC7-727F-448A-8430-0DCAB42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D39E-8692-48EC-88D4-E680C36C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01A-969E-4325-B093-45976C91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0618-8A7F-4A4B-8DAC-19A90495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69D-97F1-4FF0-8447-62313BE6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4A4-1BF1-4D6E-8BAC-E0502121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25D-AE00-4E35-96F7-1BC7AB0E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9B5-CB16-42FE-8AC8-08357DA2E5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(logaritmický) tenzor konečných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Object 4"/>
              <p:cNvSpPr txBox="1"/>
              <p:nvPr/>
            </p:nvSpPr>
            <p:spPr>
              <a:xfrm>
                <a:off x="971640" y="4797360"/>
                <a:ext cx="67294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" name="Rectangle 5"/>
          <p:cNvSpPr/>
          <p:nvPr/>
        </p:nvSpPr>
        <p:spPr>
          <a:xfrm>
            <a:off x="468360" y="1382760"/>
            <a:ext cx="813600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Nedostatky tenzorů konečných přetvoř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Green-Lagrange: změny délek jsou stále vztahovány k původním hodnotám, zatímco aktuální již mohou být v průběhu procesu zatěžování významně odliš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Almansi-Hamel: změny délek jsou stále vztahovány ke konečným (deformovaným) hodnotám délek, zatímco aktuální od nich mohou být v průběhu procesu zatěžování ještě podstatně odlišn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Cauchyho definice přetvoření je exaktnější v tom, že infinitezimální přírůstek délky vztahuje vždy k aktuální délce v daném stadiu zatěžovacího proces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Přetvoření úsečky o původní délce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0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která se vlivem zatížení mění na aktuální hodnotu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až dosáhne konečné (deformované) délky 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, určíme integrací přírůstků její délky dx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(viz obráze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39640" y="5925960"/>
            <a:ext cx="8136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Hlavní souřadnice tohoto tenzoru jsou tedy rovny přirozeným  logaritmům odpovídajících souřadnic tenzoru deformačního gradien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44:05Z</dcterms:created>
  <dc:creator>Jiri Bursa</dc:creator>
  <dc:description/>
  <dc:language>en-US</dc:language>
  <cp:lastModifiedBy>Prof. Jindrich Petruska</cp:lastModifiedBy>
  <dcterms:modified xsi:type="dcterms:W3CDTF">2010-01-08T11:54:25Z</dcterms:modified>
  <cp:revision>6</cp:revision>
  <dc:subject/>
  <dc:title>Cauchyho (logaritmický) tenzor přetvoření</dc:title>
</cp:coreProperties>
</file>