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297-B86A-4F87-87F9-FB3CC000215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342B-73B9-4E3F-A73A-A9420332E4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C1E7-D5AD-4C40-AE9C-FFE38F49A3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50C6-917F-4C05-BC57-93F268F1482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4E33-06E3-4AEB-B97B-FD37CFD9E7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22F6-C543-4263-9171-E2EF5341E7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D252-D5F9-43FF-AE5F-B2D845601FA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C448-A712-4B32-AB13-6F5E376FE1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C054-38E6-4AD1-B380-184058F26A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90E-3085-4FFE-84D6-549B8C71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A435-5027-4325-A147-D695AAF4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022-0E4D-4AD2-B20B-AD06176B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029-4AD1-417D-B0CC-9674DBC9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1F49-A6B2-4CBF-BB3D-95D36BF2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B597-E491-4027-B5A9-1BB8B58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CA6-64F1-48A5-8B88-ACE8A41C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064-F9EB-4655-9CD1-8EAF7D5D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B5A0-668A-43D5-9D28-B46F827B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5D4-4D53-4EF9-B008-E29FDE79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D86-E5EA-4290-9296-0099AE7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363C-64F3-4922-A2B3-B45D3EC1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9847-D394-4FF0-906B-547296FE2F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deformovan&#233;%20sou&#345;adnice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hyperlink" Target="file:///p&#345;etvo&#345;en&#237;_smluvn&#237;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&#345;etvo&#345;en&#237;_Green-Lagrange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1344600" y="1571760"/>
          <a:ext cx="645480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571760"/>
                    <a:ext cx="645480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6" descr="GSTR110"/>
          <p:cNvPicPr/>
          <p:nvPr/>
        </p:nvPicPr>
        <p:blipFill>
          <a:blip r:embed="rId3"/>
          <a:stretch/>
        </p:blipFill>
        <p:spPr>
          <a:xfrm>
            <a:off x="1332000" y="2565360"/>
            <a:ext cx="6750000" cy="18223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826920" y="4503600"/>
            <a:ext cx="77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linearita je zapříčiněna „velkými“ posuvy, kter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h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ýt doprovázeny velkým přetvořením. Podle toho rozlišujeme dva rozdílné případy geometrické nelinea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elké posuvy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displace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elká přetvořen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stra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zahrnují v sobě vždy i velké posu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4081320" y="3616200"/>
                <a:ext cx="2578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26920" y="4765680"/>
            <a:ext cx="3468960" cy="14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Text Box 10"/>
          <p:cNvSpPr/>
          <p:nvPr/>
        </p:nvSpPr>
        <p:spPr>
          <a:xfrm>
            <a:off x="5076720" y="5013360"/>
            <a:ext cx="32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ární rozklad na příkladu smykové deform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Rotace + Změna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84360" y="620640"/>
            <a:ext cx="799128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olární rozklad deformačního gradien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 = R.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rtogonální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ro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rotace elementárního okol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avý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enzor protažen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 hlavním souřadn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změna tvaru elementárního prvk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enzor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řirozených přetvoř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12"/>
              <p:cNvSpPr txBox="1"/>
              <p:nvPr/>
            </p:nvSpPr>
            <p:spPr>
              <a:xfrm>
                <a:off x="3564000" y="1844640"/>
                <a:ext cx="32400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AutoShape 13"/>
          <p:cNvSpPr/>
          <p:nvPr/>
        </p:nvSpPr>
        <p:spPr>
          <a:xfrm>
            <a:off x="4427640" y="5373720"/>
            <a:ext cx="503280" cy="288720"/>
          </a:xfrm>
          <a:prstGeom prst="leftArrow">
            <a:avLst>
              <a:gd name="adj1" fmla="val 50000"/>
              <a:gd name="adj2" fmla="val 43579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5"/>
              <p:cNvSpPr txBox="1"/>
              <p:nvPr/>
            </p:nvSpPr>
            <p:spPr>
              <a:xfrm>
                <a:off x="6399360" y="2565360"/>
                <a:ext cx="20602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755640" y="836640"/>
            <a:ext cx="79200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nzory napětí při velkých přetvořen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ší se podle toho, v jaké geometrické konfiguraci je vyjádřena plocha, přenášející vnitřní síly v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uchyho tenzor skutečných napětí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e skutečné ploše v aktuální deformovan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napě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íla je vztažena k ploše v počáteční geometrické konfigur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z tenzorů je energeticky konjugovaný s Almansiho tenzorem přetvoření, druhý s Green-Lagrangeovým tenzorem přetvoření, proto využíván v oblasti analýzy deformovatelných tě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posouzení mezních stavů těles je nutno znát přepočet mezi oběma tenz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de představuje deformační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5065560" y="2421000"/>
                <a:ext cx="10191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086440" y="3500280"/>
                <a:ext cx="99828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547640" y="5843520"/>
                <a:ext cx="1729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6"/>
          <p:cNvSpPr/>
          <p:nvPr/>
        </p:nvSpPr>
        <p:spPr>
          <a:xfrm>
            <a:off x="468360" y="476280"/>
            <a:ext cx="7993080" cy="64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Piola-Kirchhoffův tenzor napětí je de facto dobře známým „smluvním napětím“, používaným tradičně pro záznam tahové zkoušky materiál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é napětí F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luvní napětí F/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ktické využití prvního P.-K. tenzoru je komplikováno skutečností, že se jedná o nesymetrický tenzor. Proto se více vy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Druhý Piola-Kirchhoffův tenzor napětí S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 ploše v počáteční geometrické konfiguraci je vztažena fiktivní síla, přepočtená ze skutečné síly pomocí deformačního gradientu. Jedná se o symetrický tenzor bez jasné fyzikální interpretace, který je používán proto, že je energeticky konjugovaný s Green-Lagrangeovým tenzorem přetvoření. Jeho transformace na skutečný tenzor napětí je dána vzta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1763640" y="1197000"/>
          <a:ext cx="2743200" cy="21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274320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763640" y="5943600"/>
                <a:ext cx="2376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903240" y="2573280"/>
          <a:ext cx="3354480" cy="26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2573280"/>
                    <a:ext cx="33544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5859360" y="4964040"/>
                <a:ext cx="14493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4181400" y="4521240"/>
                <a:ext cx="10731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4249800" y="5186520"/>
                <a:ext cx="9237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4086360" y="3357720"/>
                <a:ext cx="7063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"/>
              <p:cNvSpPr txBox="1"/>
              <p:nvPr/>
            </p:nvSpPr>
            <p:spPr>
              <a:xfrm>
                <a:off x="4086360" y="2708280"/>
                <a:ext cx="769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5640480" y="3130560"/>
                <a:ext cx="1476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3"/>
          <p:cNvSpPr/>
          <p:nvPr/>
        </p:nvSpPr>
        <p:spPr>
          <a:xfrm>
            <a:off x="4356000" y="256536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788000" y="4221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468360" y="692280"/>
            <a:ext cx="813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počet pracovního diagramu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smluvních hodnot inženýrského napětí a přetvoření na závislost mezi skutečným napětím a přirozeným (logaritmickým) přetvoř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468360" y="732240"/>
            <a:ext cx="7705800" cy="56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elké posuvy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Rozdíl mezi výchozí nedeformovanou geometri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deformovanou geometrickou konfigura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le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brázk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popsán jednoduchým vztahem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 = X + 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dmínky rovnováhy v lineárním případě, vyjádřené pomocí MKP známou rovnicí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.U = F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pisují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deformovan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stav. Pro sestavení matice tuhosti se ovšem vychází z výchozí, známé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nedeformovan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onfigurace, te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tom j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rozpo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a výsledky lze akceptovat pouze za předpokladu, že posuv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je zanedbatelný z hlediska změny geometrie řešeného problém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Kdy to lze předpokláda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 to bohužel neexistuje jednoduše kvantifikovatelná odpověď.  Například u tenkostěnných konstrukcí se uvádí jako hrubé měřítko požadavek, aby průhyb nepřesáhl tloušťku stěn. Jak se lze přesvědčit, v některých případech dominantního ohybového namáhání, případně spojeného s tahovou membránovou napjatostí stěn, je odezva lineární i při významném překročení zmíněného kritéria. Naopak v přítomnosti tlakového membránového namáhání stěn může dojít k nelineárnímu chování už při průhybech řádově menší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Závěr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v případě tlakového membránového namáhání a i v dalších sporných případech nezbývá než použít nelineární algoritmus řešení, který je obecnější a lineární případy v sobě přirozeně zahrnuj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7"/>
              <p:cNvSpPr txBox="1"/>
              <p:nvPr/>
            </p:nvSpPr>
            <p:spPr>
              <a:xfrm>
                <a:off x="2987640" y="2708280"/>
                <a:ext cx="1944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D</m:t>
                        </m:r>
                      </m:e>
                    </m:nary>
                    <m:r>
                      <m:t xml:space="preserve">B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inear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1104840" y="2948040"/>
          <a:ext cx="274320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94804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39640" y="963360"/>
            <a:ext cx="77058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2.  Velká přetvoření - Příčina nelineari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 odvození geometrických vztahů mezi složkami posuvů a přetvoření jsme v základním kurzu pružnosti předpokládali, že složky tenzoru přetvoření jsou malé, řádu 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Pak lze zanedbat kvadratické členy geometrických vztahů a používat běžně známý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ženýrský (též smluvní, infinitesimální) tenzor přetvoř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ato formulace zcela vyhovuje pro inženýrskou analýzu ocelových strojních konstrukcí. Hranice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užitelnosti inženýrského tenzoru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řetvoření bývá obvykle uváděna hodnotou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řetvoření 1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%,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ted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řádem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cs-CZ" sz="1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případech jako je simulace toku materiálu při tváření, deformace komponent z pryže, plastu a jiných netradičních materiálů, mohou složky přetvoření dosáhnout i stovek procent. Nelineární členy pak není možno zanedbat a je nutno používat obecnější tenzory přetvoření. Ty lze definovat různým způsobem podle toho, kterou geometrickou konfiguraci tělesa považujeme za základní vztažnou. Existují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dva základní přístup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k popisu kinematiky při velkých deformací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kdy nezávisle proměnnou je ne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nezávisle proměnnou je deformovaná geometrie 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pohyb je popsán funkcí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cs-CZ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,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4427640" y="2421000"/>
                <a:ext cx="16570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55640" y="543960"/>
            <a:ext cx="7705800" cy="54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dnoduchým způsobem lze rozdíl mezi oběma přístupy znázornit na příkladu řady vozidel projíždějících úsekem dálnice. Zatímco pozice řidiče, pevně svázaného s vozidlem a zaznamenávajícího změny polohy, rychlosti a zrychlení, odpovídá Lagrangeově popisu, Eulerův popis odpovídá pozici pozorovatele, sledujícího z místa na okraji silnice proud voz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grange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ypický pro popis pohybu tvárných těl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 čase sledována trajektorie jednotlivých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ch bod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přiřazených počáteční geometrické konfiguraci v čase t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Jednoduchým způsobem tak lze průběžně sledovat deformačně napěťovou historii v každém bodě kontinua, která je nezbytná pro adekvátní popis chování materiálu u mnoha typů konstitutivních vztahů (plasticita, viskoplasticita). Někdy se proto používá termí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teriálový popi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Tenzor přetvoření svázaný s Lagrange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reenův-Lagrangeův tenz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z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Pro úlohy MKP řešené Lagrangeovským přístupem je typická síť prvků, jejichž uzlové body jsou svázány s materiálem a která se v průběhu řešení deformuje a „protéká“ vymezeným prostor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0"/>
              <p:cNvSpPr txBox="1"/>
              <p:nvPr/>
            </p:nvSpPr>
            <p:spPr>
              <a:xfrm>
                <a:off x="2571840" y="3749760"/>
                <a:ext cx="322416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690120"/>
            <a:ext cx="77054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ulerů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řístup je naopak typický pro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opis pohybu kapalin a plynů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je vztažný souřadný systém svázán s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fixovanou oblastí prostor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lopatková mříž, průtokový profil potrubí, armatury) a sledované médium touto oblastí protéká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enzor přetvoření svázaný s Eulerovým popisem se nazýv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Almansih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 též Almansiho-Hamelův) tenzor přetvo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eho odvození je názorným způsobem uvedeno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de. Pro úlohy MKP řešené Eulerovským přístupem je typická síť prvků, jejichž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zlové body jsou svázány s pevnými bo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v prostoru, kterými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edované médium volně proték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k se lze snadno přesvědčit, v případě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lých přetvoř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dy lze zanedbat kvadratické členy,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lývají oba uvedené tenzor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e známým inženýrským tenzorem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ůležitou vlastností obou uvedených tenzorů j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bjektivnos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tedy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závislost na posuvech a rotacích těles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ako tuhého celku. Tuto vlastnost nemá inženýrský tenzor a je proto použitelný pouze pro malá přetvoř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6"/>
              <p:cNvSpPr txBox="1"/>
              <p:nvPr/>
            </p:nvSpPr>
            <p:spPr>
              <a:xfrm>
                <a:off x="3708360" y="2235240"/>
                <a:ext cx="23036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611280" y="239400"/>
            <a:ext cx="770580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eformační gradient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adřuje transformaci mezi aktuální a výchozí geometrickou konfigur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yzikální význam jeho složek jsou poměrná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otaže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stretch). V jednoosém případě s uvažováním konečných hodnot tyče protažené z délky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dél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je protažení rov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obecném trojosém případě je tvar deformačního gradientu uveden zde, v případě orientace ve směru hlavních os protažení bývá označován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                       , obdobně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eformační gradient je tenzor, který sám o sobě nemůže sloužit jako míra přetvoření, protože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ní objektiv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– při pohybu tělesa jako tuhého celku jsou jeho složky nenulové.  Jeho prostřednictvím je však možno vyjádřit další tenzory přetvoření, např. Greenův-Lagrangeů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možňuje rovněž vyjádření dalších kinematických veličin při velkých deformacích, například poměrnou změnu objem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203640" y="1011240"/>
                <a:ext cx="8636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7"/>
              <p:cNvSpPr txBox="1"/>
              <p:nvPr/>
            </p:nvSpPr>
            <p:spPr>
              <a:xfrm>
                <a:off x="2906640" y="2133720"/>
                <a:ext cx="5209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0"/>
              <p:cNvSpPr txBox="1"/>
              <p:nvPr/>
            </p:nvSpPr>
            <p:spPr>
              <a:xfrm>
                <a:off x="2627280" y="3295800"/>
                <a:ext cx="13683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5076720" y="3348000"/>
                <a:ext cx="86364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7" name="Picture 16" descr=""/>
          <p:cNvPicPr/>
          <p:nvPr/>
        </p:nvPicPr>
        <p:blipFill>
          <a:blip r:embed="rId1"/>
          <a:stretch/>
        </p:blipFill>
        <p:spPr>
          <a:xfrm>
            <a:off x="5364000" y="5229360"/>
            <a:ext cx="2202120" cy="46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17" descr=""/>
          <p:cNvPicPr/>
          <p:nvPr/>
        </p:nvPicPr>
        <p:blipFill>
          <a:blip r:embed="rId2"/>
          <a:stretch/>
        </p:blipFill>
        <p:spPr>
          <a:xfrm>
            <a:off x="4356000" y="5950080"/>
            <a:ext cx="1513080" cy="6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539640" y="404640"/>
            <a:ext cx="8064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irozené (Cauchyho, logaritmické) přetvoř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říve uvedených tenzorů přetvoření byly všechny poměrné změny vztaženy ke konkrétní, počáteční nebo konečné geometrické konfiguraci. Přirozené přetvoření vztahuje každý přírůstek k okamžité aktuální geometrii. V jednoosém případě je tedy přirozené přetvoření definová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orientace ve směru hlavních os protažení je možno tenzor přirozeného přetvoření získat jednoduše logaritmováním složek deformačního gradie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403280" y="2349360"/>
                <a:ext cx="518472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l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Δ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1332000" y="4208400"/>
                <a:ext cx="2303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Vzájemné přepočtové vztahy pro tenzory přetvoř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1979640" y="494172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Rectangle 4"/>
          <p:cNvSpPr/>
          <p:nvPr/>
        </p:nvSpPr>
        <p:spPr>
          <a:xfrm>
            <a:off x="468360" y="1525680"/>
            <a:ext cx="8136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Nejvhodnější pro vzájemný přepočet tenzorů přetvoření jsou poměrná protažení </a:t>
            </a:r>
            <a:r>
              <a:rPr b="0" lang="el-GR" sz="2000" spc="-1" strike="noStrike">
                <a:solidFill>
                  <a:srgbClr val="333333"/>
                </a:solidFill>
                <a:latin typeface="Tahoma"/>
                <a:ea typeface="Tahoma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Tahoma"/>
                <a:ea typeface="Tahoma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, tedy složky tenzoru deformačního gradientu. Pro jednoduchost jsou uvedena jen hlavní přetvoření jako funkce hlavních poměrných protažení </a:t>
            </a:r>
            <a:r>
              <a:rPr b="0" lang="el-GR" sz="2000" spc="-1" strike="noStrike">
                <a:solidFill>
                  <a:srgbClr val="333333"/>
                </a:solidFill>
                <a:latin typeface="Arial"/>
              </a:rPr>
              <a:t>λ</a:t>
            </a:r>
            <a:r>
              <a:rPr b="0" lang="cs-CZ" sz="2000" spc="-1" strike="noStrike" baseline="-25000">
                <a:solidFill>
                  <a:srgbClr val="333333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Smluvní přetvoření - vztah se odvozuje v základní PP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Green-Lagran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Almansi-Ham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33"/>
                </a:solidFill>
                <a:latin typeface="Tahoma"/>
              </a:rPr>
              <a:t>Cauch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6769080" y="2587680"/>
                <a:ext cx="1116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2838600" y="3230640"/>
                <a:ext cx="53337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690640" y="4005360"/>
                <a:ext cx="54817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zdíly mezi jednotlivými definicemi tenzoru přetvoř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457200" y="2743200"/>
          <a:ext cx="4792680" cy="32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43200"/>
                    <a:ext cx="4792680" cy="32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5"/>
          <p:cNvSpPr/>
          <p:nvPr/>
        </p:nvSpPr>
        <p:spPr>
          <a:xfrm>
            <a:off x="1187280" y="2492280"/>
            <a:ext cx="302436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187280" y="2708280"/>
            <a:ext cx="4537080" cy="73080"/>
          </a:xfrm>
          <a:prstGeom prst="rect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211640" y="2540160"/>
            <a:ext cx="151128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68360" y="2133720"/>
            <a:ext cx="64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916360" y="27813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57200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1"/>
              <p:cNvSpPr txBox="1"/>
              <p:nvPr/>
            </p:nvSpPr>
            <p:spPr>
              <a:xfrm>
                <a:off x="5187960" y="2708280"/>
                <a:ext cx="31161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L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2"/>
              <p:cNvSpPr txBox="1"/>
              <p:nvPr/>
            </p:nvSpPr>
            <p:spPr>
              <a:xfrm>
                <a:off x="5243400" y="3645000"/>
                <a:ext cx="3000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3"/>
              <p:cNvSpPr txBox="1"/>
              <p:nvPr/>
            </p:nvSpPr>
            <p:spPr>
              <a:xfrm>
                <a:off x="5289480" y="4292640"/>
                <a:ext cx="1874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4"/>
              <p:cNvSpPr txBox="1"/>
              <p:nvPr/>
            </p:nvSpPr>
            <p:spPr>
              <a:xfrm>
                <a:off x="5381640" y="4946760"/>
                <a:ext cx="214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15"/>
          <p:cNvSpPr/>
          <p:nvPr/>
        </p:nvSpPr>
        <p:spPr>
          <a:xfrm>
            <a:off x="1619280" y="1700280"/>
            <a:ext cx="468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4:40:05Z</dcterms:created>
  <dc:creator>Jindřich Petruška</dc:creator>
  <dc:description/>
  <dc:language>en-US</dc:language>
  <cp:lastModifiedBy>Prof. Jindrich Petruska</cp:lastModifiedBy>
  <dcterms:modified xsi:type="dcterms:W3CDTF">2010-01-08T11:53:22Z</dcterms:modified>
  <cp:revision>18</cp:revision>
  <dc:subject/>
  <dc:title>Geometric nonlinearity </dc:title>
</cp:coreProperties>
</file>