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3E98-E86D-4076-A1E5-C0953565B8B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E9BF-9E51-44BD-B70D-6BEFC783D1A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3AEA-6105-4C60-B56A-FCEBA49C1A6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DB69-7CF0-4502-8BE7-53DECFA56C3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8872-5B4B-4B2B-871E-F6519442745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290D-8FE7-483D-A767-E2E0F6EDD27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B7F4-11D0-49D8-8152-47125A61585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5493-6DDA-45FA-85F7-97277B0B0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A4A5-EEC0-4B19-B4D9-1D9BA71F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157A-CA43-4CB5-88F2-5A497834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85DD-59C4-4C9D-BF44-5A7D29DA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4A69-1F9F-477E-9A09-61E62329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B2F6-6F9C-49D4-BC48-B1C3455B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DF18-22D5-4036-9525-627111D1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9FB6-FD72-49DA-88ED-8F4E3D94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8ADE-2E49-40FF-BCFB-087FC8E3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90CB-DE35-477C-8E97-DA21A4CB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04A8-9CE8-4B6B-8217-ED5A23D5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CFF-BD95-4F39-BFD3-A3955433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65CE-149D-4967-A710-3636851A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EF13-248F-42F7-9205-E65F079D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9C8B-32D7-4FE5-83E0-C72E57F7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34A8-018D-4F04-AB41-DC3914DF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ABB7-2233-4962-8299-EA1AD7D2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299B-05E0-4153-94DA-45DBDE3E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3DFA-E93D-4776-B590-15C4FB901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FB02-2B30-4E03-A1B5-28D62613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1522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0C29-A87C-4F21-AB0E-0A45538B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212C-B3E7-485E-871E-8F02E053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6904-473A-49F5-81F2-493899E5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3986-AF61-4C96-91E6-ED52DD92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Group 3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8088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99960" y="1600200"/>
                <a:ext cx="8364600" cy="4726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Group 7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Rectangle 8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33520" y="1751040"/>
                <a:ext cx="153720" cy="442116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Rectangle 12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80" y="304920"/>
                <a:ext cx="306360" cy="114444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E309-FC18-4E7F-B861-1EC00346C94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Group 3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Rectangle 4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378000" y="1676520"/>
                <a:ext cx="8370720" cy="221112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Freeform 6"/>
              <p:cNvSpPr/>
              <p:nvPr/>
            </p:nvSpPr>
            <p:spPr>
              <a:xfrm>
                <a:off x="396720" y="1676520"/>
                <a:ext cx="8371080" cy="221112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Group 7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Rectangle 8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9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0"/>
              <p:cNvSpPr/>
              <p:nvPr/>
            </p:nvSpPr>
            <p:spPr>
              <a:xfrm>
                <a:off x="380880" y="5943600"/>
                <a:ext cx="8383680" cy="1540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1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Rectangle 12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536400" y="1905120"/>
                <a:ext cx="154080" cy="1752480"/>
              </a:xfrm>
              <a:prstGeom prst="pie">
                <a:avLst/>
              </a:pr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FE2C-5563-44F5-9717-8CED508146F1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Zástupný symbol pro číslo snímku 3"/>
          <p:cNvSpPr/>
          <p:nvPr/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9EAE-EF60-4BB9-ABDB-265E07643DB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684360" y="692280"/>
            <a:ext cx="7772400" cy="30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Grantový  projekt  FRVŠ  MŠMT  č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599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/2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/F1/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novace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ýuky nelineární mechaniky těles ve vybraných předmětech studia strojního inženýrstv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bdélník 5"/>
          <p:cNvSpPr/>
          <p:nvPr/>
        </p:nvSpPr>
        <p:spPr>
          <a:xfrm>
            <a:off x="1071720" y="4572000"/>
            <a:ext cx="66434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itel:    Prof. Ing. Jindřich Petruška, CSc.,  FSI VUT v Brn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bdélník 8"/>
          <p:cNvSpPr/>
          <p:nvPr/>
        </p:nvSpPr>
        <p:spPr>
          <a:xfrm>
            <a:off x="2071800" y="4929120"/>
            <a:ext cx="692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of. Ing. Stanislav Holý, CSc., FS ČVUT Pra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oc. Ing. Miroslav Španiel, CSc., FS ČVUT Pra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g. Jitka Jágrová, CSc., FS TU Liber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ovéPole 9"/>
          <p:cNvSpPr/>
          <p:nvPr/>
        </p:nvSpPr>
        <p:spPr>
          <a:xfrm>
            <a:off x="169560" y="4005360"/>
            <a:ext cx="88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Část 1 – MKP v nelineárních úlohách mechaniky těles - podklady k přednáškám a samostudi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ovéPole 10"/>
          <p:cNvSpPr/>
          <p:nvPr/>
        </p:nvSpPr>
        <p:spPr>
          <a:xfrm>
            <a:off x="433800" y="485784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poluřešitelé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8D6E-57A3-4C44-BB4E-3F0EC35057F5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o je příčinou nelineárního chování konstrukcí?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58920" y="3428640"/>
            <a:ext cx="3809880" cy="28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met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er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GSTR111"/>
          <p:cNvPicPr/>
          <p:nvPr/>
        </p:nvPicPr>
        <p:blipFill>
          <a:blip r:embed="rId1"/>
          <a:stretch/>
        </p:blipFill>
        <p:spPr>
          <a:xfrm>
            <a:off x="1042920" y="3357720"/>
            <a:ext cx="3800520" cy="28670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8"/>
          <p:cNvSpPr/>
          <p:nvPr/>
        </p:nvSpPr>
        <p:spPr>
          <a:xfrm>
            <a:off x="808200" y="18432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755640" y="1541520"/>
            <a:ext cx="784872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ůžeme identifikovat tři základní příčiny nelineárního chování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k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é posuvy (případně i přetvoření), tedy změna geometrické konfigurace v průběhu zatěžování (jako např. ztráta stabilit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lineární odezva materiálu (plasticita, viskózní chování …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měna stykové plochy při kontaktu mezi těle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Zástupný symbol pro číslo snímku 7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19BA-7A1B-40D3-BB67-0B4CDA2C91D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o je příčinou nelineárního chování konstrukcí?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3"/>
              <p:cNvSpPr txBox="1"/>
              <p:nvPr/>
            </p:nvSpPr>
            <p:spPr>
              <a:xfrm>
                <a:off x="3924360" y="2924280"/>
                <a:ext cx="11142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 txBox="1"/>
          <p:nvPr/>
        </p:nvSpPr>
        <p:spPr>
          <a:xfrm>
            <a:off x="900000" y="1773360"/>
            <a:ext cx="7710480" cy="43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e všech případech dostaneme nelineární průběh závislosti mezi zatížením a deformací tělesa – tedy proměnnou tuhost konstrukce. Základní rovnice deformační varianty MKP pro statickou lineární úloh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de tuhost nezávisela na deformaci se mění tak, že matice tuhosti je závislá na dosaženém stupni deform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6"/>
              <p:cNvSpPr txBox="1"/>
              <p:nvPr/>
            </p:nvSpPr>
            <p:spPr>
              <a:xfrm>
                <a:off x="3924360" y="4221000"/>
                <a:ext cx="15192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Zástupný symbol pro číslo snímku 5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D54A-E3EB-4F24-8F77-46A437962DE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Řešení nelineární soustavy rov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3324240" cy="41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Line 5"/>
          <p:cNvSpPr/>
          <p:nvPr/>
        </p:nvSpPr>
        <p:spPr>
          <a:xfrm>
            <a:off x="3059280" y="3141720"/>
            <a:ext cx="792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3708360" y="3141720"/>
            <a:ext cx="0" cy="208764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2124000" y="3933720"/>
            <a:ext cx="1295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3276720" y="3933720"/>
            <a:ext cx="0" cy="129564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2124000" y="3933720"/>
            <a:ext cx="1295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619280" y="4459320"/>
            <a:ext cx="1079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2556000" y="3933720"/>
            <a:ext cx="0" cy="50328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3995640" y="3789360"/>
            <a:ext cx="792360" cy="504720"/>
          </a:xfrm>
          <a:prstGeom prst="borderCallout2">
            <a:avLst>
              <a:gd name="adj1" fmla="val 18750"/>
              <a:gd name="adj2" fmla="val -8333"/>
              <a:gd name="adj3" fmla="val 22643"/>
              <a:gd name="adj4" fmla="val -22444"/>
              <a:gd name="adj5" fmla="val 77986"/>
              <a:gd name="adj6" fmla="val -35671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ad 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3995640" y="4581360"/>
            <a:ext cx="79236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48495"/>
              <a:gd name="adj5" fmla="val -29513"/>
              <a:gd name="adj6" fmla="val -89379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2987640" y="3429000"/>
            <a:ext cx="878040" cy="298440"/>
          </a:xfrm>
          <a:prstGeom prst="borderCallout2">
            <a:avLst>
              <a:gd name="adj1" fmla="val 18750"/>
              <a:gd name="adj2" fmla="val -8333"/>
              <a:gd name="adj3" fmla="val 38296"/>
              <a:gd name="adj4" fmla="val -8680"/>
              <a:gd name="adj5" fmla="val 262763"/>
              <a:gd name="adj6" fmla="val -47921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er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4788000" y="1989000"/>
            <a:ext cx="3816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 mnoha MKP systémech je pro řešení nelineárních problémů aplikován algoritmus modifikované Newtonovy-Raphsonovy metody. Celkové zatížení je zde zpravidla rozděleno do jednoho nebo více zatěžovacích kroků (load steps). I v rámci jednoho kroku narůstá zatížení po přírůstcích (substeps), jejichž velikost je obvykle automaticky přizpůsobována aktuální rychlosti konvergence – tedy počtu iterací nutných k dosažení rovnováhy v rámci daného substep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6"/>
          <p:cNvSpPr/>
          <p:nvPr/>
        </p:nvSpPr>
        <p:spPr>
          <a:xfrm>
            <a:off x="1258920" y="5516640"/>
            <a:ext cx="19447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7"/>
              <p:cNvSpPr txBox="1"/>
              <p:nvPr/>
            </p:nvSpPr>
            <p:spPr>
              <a:xfrm>
                <a:off x="5508720" y="662040"/>
                <a:ext cx="17272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0902-8C64-4B0F-89FA-D3297CAF440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Řešení nelineární soustavy rovn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5"/>
              <p:cNvSpPr txBox="1"/>
              <p:nvPr/>
            </p:nvSpPr>
            <p:spPr>
              <a:xfrm>
                <a:off x="5435640" y="662040"/>
                <a:ext cx="180036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3324240" cy="41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6" name="Text Box 7"/>
          <p:cNvSpPr/>
          <p:nvPr/>
        </p:nvSpPr>
        <p:spPr>
          <a:xfrm>
            <a:off x="4572000" y="1916280"/>
            <a:ext cx="3851280" cy="45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Každá z iterací představuje řešení lineární soustavy rovnic pro přírůstek posuvů 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T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F – K(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e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Ti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okamžitá matice tuhosti (tečná ke křivce F-u) a na pravé straně je rozdíl mezi aktuálním vnějším zatížením a vnitřními silami v řešeném tělese, označovaný jako reziduum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rační proces je ukončen po splnění kritérií konvergence, která kontrolují velikost reziduálních sil vůči celkovému zatížen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F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ot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 </a:t>
            </a:r>
            <a:r>
              <a:rPr b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řípadně i velikost přírůstku posuv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u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ot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1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zhledem k předem daným tolerancím 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1547640" y="4581360"/>
            <a:ext cx="0" cy="503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1846440" y="4219560"/>
            <a:ext cx="0" cy="865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0"/>
          <p:cNvSpPr/>
          <p:nvPr/>
        </p:nvSpPr>
        <p:spPr>
          <a:xfrm>
            <a:off x="1547640" y="5013360"/>
            <a:ext cx="287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619280" y="4508640"/>
            <a:ext cx="1512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2050920" y="3933720"/>
            <a:ext cx="1081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2411280" y="3971880"/>
            <a:ext cx="0" cy="50328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1763640" y="4797360"/>
            <a:ext cx="647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2268360" y="4005360"/>
            <a:ext cx="180036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 F – K(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 u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17"/>
          <p:cNvSpPr/>
          <p:nvPr/>
        </p:nvSpPr>
        <p:spPr>
          <a:xfrm>
            <a:off x="1989000" y="2246400"/>
            <a:ext cx="638280" cy="39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2579" y="6322"/>
                </a:moveTo>
                <a:lnTo>
                  <a:pt x="-20257" y="6322"/>
                </a:lnTo>
                <a:lnTo>
                  <a:pt x="-20257" y="64010"/>
                </a:lnTo>
                <a:lnTo>
                  <a:pt x="-10048" y="105278"/>
                </a:lnTo>
              </a:path>
            </a:pathLst>
          </a:custGeom>
          <a:solidFill>
            <a:srgbClr val="ffffff"/>
          </a:solidFill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1042920" y="5445000"/>
            <a:ext cx="3240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wtonova-Raphsonova iterační meto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3978360" y="515772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EF90-2CC5-4F2B-BFA1-1FEA37AC353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940360" y="1844640"/>
            <a:ext cx="2664000" cy="15843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Řešení nelineární soustavy rov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908000" y="4076640"/>
            <a:ext cx="5616720" cy="196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2" name="Text Box 5"/>
          <p:cNvSpPr/>
          <p:nvPr/>
        </p:nvSpPr>
        <p:spPr>
          <a:xfrm>
            <a:off x="755640" y="1773360"/>
            <a:ext cx="5040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 některých případech může být matice tuhosti singulární, což způsobuje velké problémy s konvergencí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ton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v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aphson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ovy metody. V takových případech je vhodné aktivovat metodu „arc length“, která hledá rovnovážný bod v rámci iterací podél oblouku a snáze se tak vyrovná s případy nulové nebo i negativní tuhosti konstrukce, která nastává typicky u stabilitních problémů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Object 7"/>
          <p:cNvGraphicFramePr/>
          <p:nvPr/>
        </p:nvGraphicFramePr>
        <p:xfrm>
          <a:off x="5940360" y="1773360"/>
          <a:ext cx="2579760" cy="172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0360" y="1773360"/>
                    <a:ext cx="257976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Zástupný symbol pro číslo snímku 6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B249-8A29-48BC-816B-0A1C8BC7D2B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2556000" y="3429000"/>
            <a:ext cx="3527280" cy="28083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onzervativní a nekonzervativní soust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755640" y="1773360"/>
            <a:ext cx="7632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ro volbu velikosti zatěžovacích přírůstků je důležité, zda je vyšetřovaný problém pružný, tj. křivka F-u je stejná pro fázi zatížení i odlehčení, nebo ne. V prvním případě hovoříme o konzervativní, ve druhém o nekonzervativní soustavě. U konzervativních soustav nezáleží na posloupnosti zatěžovacích kroků a pro dané zatížení je deformace i napjatost vždy stejná. U nekonzervativních záleží výsledek na celé historii zatěžování, nejen na finální hodnotě. Zpravidla je proto nutné u takových úloh volit menší přírůstky zatížení, abychom správně kopírovali celou zatěžovací cestu. Typickým příkladem nekonzervativních problémů jsou úlohy z oblasti plastic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10" descr="GSTR105"/>
          <p:cNvPicPr/>
          <p:nvPr/>
        </p:nvPicPr>
        <p:blipFill>
          <a:blip r:embed="rId1"/>
          <a:stretch/>
        </p:blipFill>
        <p:spPr>
          <a:xfrm>
            <a:off x="2771640" y="3706920"/>
            <a:ext cx="3110040" cy="23860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2"/>
          <p:cNvSpPr/>
          <p:nvPr/>
        </p:nvSpPr>
        <p:spPr>
          <a:xfrm>
            <a:off x="3276720" y="3645000"/>
            <a:ext cx="1871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lastický klo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7:15:50Z</dcterms:created>
  <dc:creator>Rudolf Fret</dc:creator>
  <dc:description/>
  <dc:language>en-US</dc:language>
  <cp:lastModifiedBy>Jindřich Petruška</cp:lastModifiedBy>
  <dcterms:modified xsi:type="dcterms:W3CDTF">2010-01-11T21:03:14Z</dcterms:modified>
  <cp:revision>119</cp:revision>
  <dc:subject/>
  <dc:title>STRUKTURNÍ STABILITA ŽÁRUPEVNÝCH OCELÍ A JEJICH SVAROVÝCH SPOJŮ</dc:title>
</cp:coreProperties>
</file>