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E1F1-3FFE-4A8D-919F-D102B7AA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0080-E6A0-43A0-8A9D-AC093908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A180-BFEA-45BF-89E0-9FC379F02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5102-BB44-4A52-A55B-333527EE1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0D79-9E97-40C1-93FC-07B56AD5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427E-57B5-40AE-8061-C3F6901B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9438-69FE-4F48-BE6A-765361FD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F4EC-E156-431C-BACD-DBB8663F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4FA0-1AAA-4C9F-8D21-DB37546E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7E1B-03ED-477F-A24D-0CD79C7C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EFD5-1FEC-458D-B675-51F75A0F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50CF-15E0-4694-AA62-94B15BA0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3C57-14CE-4EA6-BFCF-2110DE76F26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Energeticky%20konjugovan&#233;%20tenzory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549000"/>
            <a:ext cx="8435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iola-Kirchhoffův tenzor napětí 2. druh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8748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2. Piola-Kirchhoffův (označovaný také jen jako Kirchhoffův) tenzor napětí je definován jako elementární síla dF</a:t>
            </a:r>
            <a:r>
              <a:rPr b="0" lang="cs-CZ" sz="2000" spc="-1" strike="noStrike" baseline="-25000">
                <a:solidFill>
                  <a:srgbClr val="808080"/>
                </a:solidFill>
                <a:latin typeface="Arial"/>
              </a:rPr>
              <a:t>0i</a:t>
            </a: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 vztažená na původní (tj. nedeformovanou) plochu elementu. Tato síla je však při přenášení na původní element změněna oproti skutečné síle  dF</a:t>
            </a:r>
            <a:r>
              <a:rPr b="0" lang="cs-CZ" sz="2000" spc="-1" strike="noStrike" baseline="-25000">
                <a:solidFill>
                  <a:srgbClr val="808080"/>
                </a:solidFill>
                <a:latin typeface="Arial"/>
              </a:rPr>
              <a:t>i</a:t>
            </a: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 stejným poměrem jako elementární rozměr v odpovídajícím směru. Ten se mění při zatížení podle vztahu</a:t>
            </a: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       , res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při zpětné transformaci do nedeformovaného tvaru. Podobně transformujeme i elementární sí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takže  napětí 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Konkrétně pro normálové napětí ve směru 1 plat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Tento tenzor nemá jasný fyzikální význam, používá se proto, že je i pro velká přetvoření symetrický a je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nergeticky konjugovaný </a:t>
            </a: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s Green-Lagrangeovým tenzorem přetvoře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5"/>
              <p:cNvSpPr txBox="1"/>
              <p:nvPr/>
            </p:nvSpPr>
            <p:spPr>
              <a:xfrm>
                <a:off x="2700360" y="3929040"/>
                <a:ext cx="15080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Object 7"/>
              <p:cNvSpPr txBox="1"/>
              <p:nvPr/>
            </p:nvSpPr>
            <p:spPr>
              <a:xfrm>
                <a:off x="6365880" y="4640400"/>
                <a:ext cx="157644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Object 9"/>
              <p:cNvSpPr txBox="1"/>
              <p:nvPr/>
            </p:nvSpPr>
            <p:spPr>
              <a:xfrm>
                <a:off x="3389400" y="2482920"/>
                <a:ext cx="150156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10"/>
              <p:cNvSpPr txBox="1"/>
              <p:nvPr/>
            </p:nvSpPr>
            <p:spPr>
              <a:xfrm>
                <a:off x="6183360" y="2482920"/>
                <a:ext cx="14605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11"/>
              <p:cNvSpPr txBox="1"/>
              <p:nvPr/>
            </p:nvSpPr>
            <p:spPr>
              <a:xfrm>
                <a:off x="5487840" y="3419640"/>
                <a:ext cx="152100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9:26:19Z</dcterms:created>
  <dc:creator>Jiri Bursa</dc:creator>
  <dc:description/>
  <dc:language>en-US</dc:language>
  <cp:lastModifiedBy>Prof. Jindrich Petruska</cp:lastModifiedBy>
  <dcterms:modified xsi:type="dcterms:W3CDTF">2010-01-08T11:53:45Z</dcterms:modified>
  <cp:revision>9</cp:revision>
  <dc:subject/>
  <dc:title>Piola-Kirchhoffův tenzor napětí 1. druhu </dc:title>
</cp:coreProperties>
</file>