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EF88-E866-483B-BA52-A9C463A5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383-9CA5-4903-AEA8-74FDA75C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55F-B410-4CC0-BB7D-8F85B58A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162-D31A-4FAC-B491-D5B3D3FE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F10-73DA-4480-B1BC-56AC6C04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0E7-C64F-455C-BAE0-CA216DB8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B2C-6F8F-4923-9D60-A40748BA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266A-F759-4775-95C3-0DB8D2FF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738-D54D-4765-BCFC-61D56578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73B-0798-40CA-9318-C3D517C4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7C3-4288-43D4-9DB6-A09498A7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F89-1D6E-468D-BD8E-448DDB91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CFAA-6C30-4EF5-AC2F-66222EF6C52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nap&#283;t&#237;-Cauchy.ppt" TargetMode="External"/><Relationship Id="rId2" Type="http://schemas.openxmlformats.org/officeDocument/2006/relationships/hyperlink" Target="nap&#283;t&#237;-1.Piola-Kirchhoff.ppt" TargetMode="External"/><Relationship Id="rId3" Type="http://schemas.openxmlformats.org/officeDocument/2006/relationships/hyperlink" Target="nap&#283;t&#237;-2.Piola-Kirchhoff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8548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zájemné přepočtové vztahy pro tenzory napě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68360" y="1382760"/>
            <a:ext cx="8136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18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18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, tedy složky tenzoru deformačního gradientu. V hlavním souřadnicovém systému platí následující vzta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Hlavn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Cauchyho (skutečné) napětí 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lze vyjádřit pomocí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1.P.K.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Pro nestlačitelný materiál platí 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a tedy napětí jsou ve vzta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Podobně lze vyjádřit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2.P.K. 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Cauchyho napětí lze vyjádřit i pomocí 2.P.K. napě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ahoma"/>
              </a:rPr>
              <a:t>nebo jednodušeji pro nestlačitelný materi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8"/>
              <p:cNvSpPr txBox="1"/>
              <p:nvPr/>
            </p:nvSpPr>
            <p:spPr>
              <a:xfrm>
                <a:off x="3454560" y="2421000"/>
                <a:ext cx="40701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9"/>
              <p:cNvSpPr txBox="1"/>
              <p:nvPr/>
            </p:nvSpPr>
            <p:spPr>
              <a:xfrm>
                <a:off x="3708360" y="3189240"/>
                <a:ext cx="1295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10"/>
              <p:cNvSpPr txBox="1"/>
              <p:nvPr/>
            </p:nvSpPr>
            <p:spPr>
              <a:xfrm>
                <a:off x="1332000" y="3500280"/>
                <a:ext cx="18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1"/>
              <p:cNvSpPr txBox="1"/>
              <p:nvPr/>
            </p:nvSpPr>
            <p:spPr>
              <a:xfrm>
                <a:off x="4356000" y="3933720"/>
                <a:ext cx="29019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2"/>
              <p:cNvSpPr txBox="1"/>
              <p:nvPr/>
            </p:nvSpPr>
            <p:spPr>
              <a:xfrm>
                <a:off x="6149880" y="4903920"/>
                <a:ext cx="20224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3"/>
              <p:cNvSpPr txBox="1"/>
              <p:nvPr/>
            </p:nvSpPr>
            <p:spPr>
              <a:xfrm>
                <a:off x="5219640" y="5689440"/>
                <a:ext cx="15670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03:58Z</dcterms:created>
  <dc:creator>Jiri Bursa</dc:creator>
  <dc:description/>
  <dc:language>en-US</dc:language>
  <cp:lastModifiedBy>Prof. Jindrich Petruska</cp:lastModifiedBy>
  <dcterms:modified xsi:type="dcterms:W3CDTF">2010-01-08T11:54:03Z</dcterms:modified>
  <cp:revision>6</cp:revision>
  <dc:subject/>
  <dc:title>Vzájemné přepočtové vztahy pro tenzory napětí</dc:title>
</cp:coreProperties>
</file>