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EF5B-FFF8-46EC-AB71-B7D481A29E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B0E-039A-4AE0-B5A1-D07AD6B981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040-3B2A-4A5D-B17C-75D803D3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F85-9106-435E-9A78-5484C4B6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5DFC-FE29-4D35-BB5A-A691A60C2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685-1A3E-4653-A3B5-CA2F7A68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589-EFCD-492A-B831-531FB6B2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A44-AB87-4ECA-9E53-753D2264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8110-B9D4-4845-B105-D518354A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EB0-D53B-4596-BE29-A040B5EC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893-261A-47D6-8E33-397776FC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FAEF-09A1-46BE-99D7-27DAF374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24A-C69A-4378-B7CD-3B37735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7639-AB25-46E8-A211-BBEFBC2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AB17-5DA9-416B-9087-CEB85065892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6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7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8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Rectangle 7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3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4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16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Text Box 28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1:20Z</dcterms:created>
  <dc:creator>Jiri Bursa</dc:creator>
  <dc:description/>
  <dc:language>en-US</dc:language>
  <cp:lastModifiedBy>Prof. Jindrich Petruska</cp:lastModifiedBy>
  <dcterms:modified xsi:type="dcterms:W3CDTF">2010-01-08T11:55:01Z</dcterms:modified>
  <cp:revision>7</cp:revision>
  <dc:subject/>
  <dc:title>Vzájemné přepočtové vztahy pro tenzory přetvoření</dc:title>
</cp:coreProperties>
</file>