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51D-79DB-46ED-9980-F0C941B9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613-ABAD-4A12-BF7E-09EF1074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CF6-248D-4A9C-A87E-AD2D0F1B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C3E-4D8E-4DC9-ABA9-BE3B67A9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4CB-84EF-4F1A-8901-EAE60ABC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FD4-8E31-4CC1-8AC0-E6023F1B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713-DD7D-41F2-9925-EC813C7A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F4A1-7699-4040-9C20-914069EC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F7BE-3E67-4CD8-A569-E0B6CAD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22F-4184-493F-BF0E-D4DD30AA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7BD-6559-4EEC-8ECD-72E311C5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660-3EA3-4D9D-9ADE-7062CCE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BE0E-B898-446F-8059-7FD59834675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-obr&#225;zek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Einsteinovo%20pravid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(poměrná deformace) je vztažena k původním (nedeformovaným) rozměrům, ale je respektováno i natáčení elementu. Pak je délkové přetvoření (označení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Deformovaná délka elementu dx se zde počítá aplikací Pythagorovy věty ve 3D prostoru (není v obrázku zakresleno). Pro zjednodušení vztahu použijeme první dva členy binomické řad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ak dostan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ro ostatní složky délkových přetvoření platí analogick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600120" y="1919160"/>
                <a:ext cx="78944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4572000" y="3154320"/>
                <a:ext cx="24620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κ</m:t>
                        </m:r>
                      </m:e>
                    </m:ra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κ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κ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5092560" y="4484520"/>
                <a:ext cx="322128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8"/>
              <p:cNvSpPr txBox="1"/>
              <p:nvPr/>
            </p:nvSpPr>
            <p:spPr>
              <a:xfrm>
                <a:off x="687240" y="3745080"/>
                <a:ext cx="6356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99540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0"/>
              <p:cNvSpPr txBox="1"/>
              <p:nvPr/>
            </p:nvSpPr>
            <p:spPr>
              <a:xfrm>
                <a:off x="5086440" y="5559480"/>
                <a:ext cx="313992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Green-Lagrangeův tenzor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obecnění na všechny složky tenzoru přetvoření je možné pomocí tenzorového zápi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zápis používá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o sčítací pravid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979640" y="192564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Rectangle 6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3:28Z</dcterms:created>
  <dc:creator>Jiri Bursa</dc:creator>
  <dc:description/>
  <dc:language>en-US</dc:language>
  <cp:lastModifiedBy>Prof. Jindrich Petruska</cp:lastModifiedBy>
  <dcterms:modified xsi:type="dcterms:W3CDTF">2010-01-08T11:54:35Z</dcterms:modified>
  <cp:revision>6</cp:revision>
  <dc:subject/>
  <dc:title>Green-Lagrangeův tenzor konečných deformací</dc:title>
</cp:coreProperties>
</file>