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6FCF-390E-4D29-BF83-F2333A0D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EDEC-6132-424A-AB62-D34FC67E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5F4-5071-43A7-BA44-6722B6D57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FC0-8306-4DA5-949C-1161CB5F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261-4E56-40D4-AA47-95AC1FFD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F1C-2819-4A69-A7C2-0D0F0A53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FBB-50E6-4C85-AE8C-3D9728A6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05D-D26E-4DBF-8508-5A3EF033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F7A-C6DD-4FEF-8BED-0ADECF70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833-36E7-4832-98D8-DFAB1788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F5F6-79FC-475E-BE0F-B493A925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C687-5678-4E1A-A795-C11DDCFC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6B73-8973-4CEB-8B5D-C13431E8A4D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značení deformovaných a nedeformovaných souřad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068480" y="2006640"/>
            <a:ext cx="7248600" cy="41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09:31:44Z</dcterms:created>
  <dc:creator>Jiri Bursa</dc:creator>
  <dc:description/>
  <dc:language>en-US</dc:language>
  <cp:lastModifiedBy>Prof. Jindrich Petruska</cp:lastModifiedBy>
  <dcterms:modified xsi:type="dcterms:W3CDTF">2010-01-08T11:52:40Z</dcterms:modified>
  <cp:revision>2</cp:revision>
  <dc:subject/>
  <dc:title>Označení deformovaných a nedeformovaných souřadnic</dc:title>
</cp:coreProperties>
</file>