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E8A-9792-4DE3-9BEC-AF96F61B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E42-04B3-4F2E-924A-393C3881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722-BCF8-4773-95EA-3FC3A160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9F0-7D0B-4F72-9447-F63F0050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0F9-EC86-49D6-AC82-719FF7AE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490-83E5-4C04-A687-A160AB28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C5A-5928-4DF5-9414-07D45E87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5A8-3D83-4439-94F3-2D28E3B1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F9A-EB0F-4F3D-880B-82E4A78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40C-5F0A-4A87-ACB8-46D7B99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CA7-0066-4E4B-8994-069E4A06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5DA-09FE-43E8-8C67-10EB446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F416-2372-4295-8A0D-56C31356A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e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4" descr="Elastin1.JPG"/>
          <p:cNvPicPr/>
          <p:nvPr/>
        </p:nvPicPr>
        <p:blipFill>
          <a:blip r:embed="rId1"/>
          <a:stretch/>
        </p:blipFill>
        <p:spPr>
          <a:xfrm>
            <a:off x="611280" y="1989000"/>
            <a:ext cx="2838240" cy="404028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5" descr="Elastin2.JPG"/>
          <p:cNvPicPr/>
          <p:nvPr/>
        </p:nvPicPr>
        <p:blipFill>
          <a:blip r:embed="rId2"/>
          <a:stretch/>
        </p:blipFill>
        <p:spPr>
          <a:xfrm>
            <a:off x="3924360" y="4213080"/>
            <a:ext cx="3973320" cy="1879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ligament after having removed the collagen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200-400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narrow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13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gligibl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476360" y="2001960"/>
            <a:ext cx="19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ck ligamen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292720" y="4078440"/>
            <a:ext cx="194328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ck ligamen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403280" y="374184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268360" y="4654440"/>
            <a:ext cx="1295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loading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084720" y="5805360"/>
            <a:ext cx="2016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68360" y="5734080"/>
            <a:ext cx="15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col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7" descr="Kolagen1.JPG"/>
          <p:cNvPicPr/>
          <p:nvPr/>
        </p:nvPicPr>
        <p:blipFill>
          <a:blip r:embed="rId1"/>
          <a:stretch/>
        </p:blipFill>
        <p:spPr>
          <a:xfrm>
            <a:off x="468360" y="1960560"/>
            <a:ext cx="383220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8" descr="Kolagen2.JPG"/>
          <p:cNvPicPr/>
          <p:nvPr/>
        </p:nvPicPr>
        <p:blipFill>
          <a:blip r:embed="rId2"/>
          <a:stretch/>
        </p:blipFill>
        <p:spPr>
          <a:xfrm>
            <a:off x="3995640" y="3973680"/>
            <a:ext cx="4619880" cy="226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716360" y="119700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a tendon – created of a nearly pure collagen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0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rrow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- 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 90-130 MPa;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 more pronounc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836720" y="2062080"/>
            <a:ext cx="19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581800" y="4005360"/>
            <a:ext cx="1942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916360" y="595008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6588000" y="5878440"/>
            <a:ext cx="2016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1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smooth muscl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7" descr="Hladký_sval1.JPG"/>
          <p:cNvPicPr/>
          <p:nvPr/>
        </p:nvPicPr>
        <p:blipFill>
          <a:blip r:embed="rId1"/>
          <a:stretch/>
        </p:blipFill>
        <p:spPr>
          <a:xfrm>
            <a:off x="539640" y="1197000"/>
            <a:ext cx="3629160" cy="5040360"/>
          </a:xfrm>
          <a:prstGeom prst="rect">
            <a:avLst/>
          </a:prstGeom>
          <a:ln w="0">
            <a:noFill/>
          </a:ln>
        </p:spPr>
      </p:pic>
      <p:pic>
        <p:nvPicPr>
          <p:cNvPr id="61" name="Obrázek 8" descr="Hladký_sval2.JPG"/>
          <p:cNvPicPr/>
          <p:nvPr/>
        </p:nvPicPr>
        <p:blipFill>
          <a:blip r:embed="rId2"/>
          <a:stretch/>
        </p:blipFill>
        <p:spPr>
          <a:xfrm>
            <a:off x="3995640" y="4151160"/>
            <a:ext cx="4727520" cy="187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6516720" y="5734080"/>
            <a:ext cx="201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700360" y="58053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37080" y="4149720"/>
            <a:ext cx="244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ooth muscle tissue of intestin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19280" y="1700280"/>
            <a:ext cx="244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ooth muscle tissue of intestin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716360" y="126828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smooth muscle tissue of intestine in a passive (relaxed) stat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oad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prononounced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Influence of smooth muscle excitation on the arterial wall stiffness (canine carotid art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" descr="vliv-svaloviny.jpg"/>
          <p:cNvPicPr/>
          <p:nvPr/>
        </p:nvPicPr>
        <p:blipFill>
          <a:blip r:embed="rId1"/>
          <a:srcRect l="12126" t="0" r="0" b="11597"/>
          <a:stretch/>
        </p:blipFill>
        <p:spPr>
          <a:xfrm>
            <a:off x="3714840" y="1428840"/>
            <a:ext cx="4754520" cy="50004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916360" y="1989000"/>
            <a:ext cx="115416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ner pressur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076640" y="5877000"/>
            <a:ext cx="3880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nge of artery radiu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443640" y="5237280"/>
            <a:ext cx="1946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ooth muscle cells relax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0" y="4365720"/>
            <a:ext cx="19461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ooth muscle cells excit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7-03T09:08:18Z</dcterms:modified>
  <cp:revision>295</cp:revision>
  <dc:subject/>
  <dc:title>Biomechanics  of smooth muscle cells </dc:title>
</cp:coreProperties>
</file>