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39AB-E134-4C18-9500-0E2E6B1C8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189B-2B17-455A-8E0F-8957C4C46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4CAB-D91A-4270-9675-A6A58685A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3D98-D508-44FC-885C-0A91622D8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913D-066F-48AA-8746-1F0EE620E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A2EE-1524-45A2-83CA-55907B6A4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1348-C0F3-4737-9A0C-4B522C090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4ACD-0334-412C-A41F-81BEB0780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7020-361F-4EA3-AAC4-8DA3C1A2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744D-B32A-4287-A145-7C6D3569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48B4-CBD2-43C3-ADE0-AC6897C9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F0A0-335F-4961-A228-30B9FDF0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3141A-8039-4DB6-AC67-2844312091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44280"/>
            <a:ext cx="8134200" cy="5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Times New Roman"/>
              </a:rPr>
              <a:t>Scheme of some types of material behaviour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8920" y="620640"/>
            <a:ext cx="8682120" cy="5829480"/>
            <a:chOff x="178920" y="620640"/>
            <a:chExt cx="8682120" cy="5829480"/>
          </a:xfrm>
        </p:grpSpPr>
        <p:sp>
          <p:nvSpPr>
            <p:cNvPr id="43" name=""/>
            <p:cNvSpPr/>
            <p:nvPr/>
          </p:nvSpPr>
          <p:spPr>
            <a:xfrm>
              <a:off x="6923160" y="2792160"/>
              <a:ext cx="360" cy="102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722760" y="4164120"/>
              <a:ext cx="893160" cy="457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Times New Roman"/>
                </a:rPr>
                <a:t>Elastic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Times New Roman"/>
                </a:rPr>
                <a:t>sol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037640" y="279216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178920" y="620640"/>
              <a:ext cx="8682120" cy="5829480"/>
              <a:chOff x="178920" y="620640"/>
              <a:chExt cx="8682120" cy="5829480"/>
            </a:xfrm>
          </p:grpSpPr>
          <p:sp>
            <p:nvSpPr>
              <p:cNvPr id="47" name=""/>
              <p:cNvSpPr/>
              <p:nvPr/>
            </p:nvSpPr>
            <p:spPr>
              <a:xfrm>
                <a:off x="4751640" y="1077840"/>
                <a:ext cx="36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751640" y="1077840"/>
                <a:ext cx="205740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flipH="1">
                <a:off x="2236320" y="1077840"/>
                <a:ext cx="251460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flipH="1">
                <a:off x="4294080" y="1992240"/>
                <a:ext cx="457200" cy="34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4751640" y="1992240"/>
                <a:ext cx="914400" cy="34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550880" y="1534320"/>
                <a:ext cx="1371600" cy="45756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Elastic-plastic mat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2236680" y="1992240"/>
                <a:ext cx="571320" cy="34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550880" y="4849920"/>
                <a:ext cx="1028520" cy="685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Perfectly rigid-plastic mat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055600" y="5535720"/>
                <a:ext cx="45720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73000" y="3249360"/>
                <a:ext cx="112212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Viscoelastic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ga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825880" y="3249360"/>
                <a:ext cx="96192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Viscoelastic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liqui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666040" y="3021120"/>
                <a:ext cx="57132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5780160" y="3021120"/>
                <a:ext cx="194328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847120" y="4164120"/>
                <a:ext cx="779040" cy="4572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Viscous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liqui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H="1">
                <a:off x="6237360" y="3706920"/>
                <a:ext cx="7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208840" y="4849920"/>
                <a:ext cx="9144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Newtonean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liqui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>
                <a:off x="5665680" y="4621320"/>
                <a:ext cx="5713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>
                <a:off x="5094000" y="5307120"/>
                <a:ext cx="57132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809040" y="1992240"/>
                <a:ext cx="228600" cy="34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>
                <a:off x="1550520" y="3821040"/>
                <a:ext cx="537228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550880" y="3821040"/>
                <a:ext cx="360" cy="34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42880" y="3135240"/>
                <a:ext cx="82476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Isotropic harden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094360" y="2334960"/>
                <a:ext cx="1257120" cy="685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Visco-elastic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fluid (with unlimited creep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722760" y="2329920"/>
                <a:ext cx="1257120" cy="690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Visco-elastic solid (with limited creep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751640" y="5992920"/>
                <a:ext cx="779040" cy="457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Times New Roman"/>
                  </a:rPr>
                  <a:t>Perf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Times New Roman"/>
                  </a:rPr>
                  <a:t>liqui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515720" y="4164120"/>
                <a:ext cx="779040" cy="4572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Viscous ga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952040" y="4621320"/>
                <a:ext cx="571320" cy="137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968200" y="3249360"/>
                <a:ext cx="11448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with </a:t>
                </a:r>
                <a:r>
                  <a:rPr b="0" lang="cs-CZ" sz="1000" spc="-1" strike="noStrike">
                    <a:solidFill>
                      <a:srgbClr val="000000"/>
                    </a:solidFill>
                    <a:latin typeface="Times New Roman"/>
                  </a:rPr>
                  <a:t>immediate </a:t>
                </a: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deform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225680" y="3249360"/>
                <a:ext cx="13716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without immediate deform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>
                <a:off x="3722400" y="3021120"/>
                <a:ext cx="57132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94080" y="3021120"/>
                <a:ext cx="57132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922480" y="4849920"/>
                <a:ext cx="799920" cy="685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Linear elastic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mat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732120" y="3706920"/>
                <a:ext cx="49536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179960" y="4621320"/>
                <a:ext cx="3427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065480" y="4849920"/>
                <a:ext cx="914400" cy="685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Non-linear elasti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mat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3265560" y="4621320"/>
                <a:ext cx="9144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>
                <a:off x="2693520" y="5535720"/>
                <a:ext cx="5713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723440" y="3706920"/>
                <a:ext cx="1141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07520" y="2334960"/>
                <a:ext cx="153144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Elastic-plastic matter with harden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>
                <a:off x="864720" y="2792160"/>
                <a:ext cx="342720" cy="34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207800" y="2792160"/>
                <a:ext cx="914400" cy="34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93400" y="963360"/>
                <a:ext cx="16002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Elastic-perfectly visco-plastic matter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179960" y="1530000"/>
                <a:ext cx="1122120" cy="45720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Visco-elastic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mat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258600" y="1529280"/>
                <a:ext cx="1122120" cy="45720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Visco-plastic mat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465960" y="2329560"/>
                <a:ext cx="112212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Perfectly visco -plastic mat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550880" y="3135240"/>
                <a:ext cx="84564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Kinematic harden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122200" y="2334960"/>
                <a:ext cx="13716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Elastic-perfectly plastic mat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779480" y="5992200"/>
                <a:ext cx="1600200" cy="4575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Times New Roman"/>
                  </a:rPr>
                  <a:t>Rigid soli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>
                <a:off x="1093320" y="1992240"/>
                <a:ext cx="1143000" cy="34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>
                <a:off x="178920" y="2792160"/>
                <a:ext cx="1028520" cy="34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666040" y="848880"/>
                <a:ext cx="12571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2922120" y="5535720"/>
                <a:ext cx="160020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511680" y="4849920"/>
                <a:ext cx="12574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Non-Newtonean liqui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237360" y="4621320"/>
                <a:ext cx="9144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654520" y="5421240"/>
                <a:ext cx="1177200" cy="685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With properties independent of ti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175600" y="5992920"/>
                <a:ext cx="685440" cy="457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Times New Roman"/>
                  </a:rPr>
                  <a:t>Perfect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Times New Roman"/>
                  </a:rPr>
                  <a:t>ga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912000" y="5421240"/>
                <a:ext cx="1170360" cy="685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With properties dependent on ti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>
                <a:off x="6351480" y="5307120"/>
                <a:ext cx="68580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037640" y="5307120"/>
                <a:ext cx="68544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>
                <a:off x="6008760" y="6107400"/>
                <a:ext cx="34272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351840" y="6107400"/>
                <a:ext cx="72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351840" y="6107400"/>
                <a:ext cx="34272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>
                <a:off x="7266240" y="6107400"/>
                <a:ext cx="34272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608960" y="6107400"/>
                <a:ext cx="34272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716600" y="2334960"/>
                <a:ext cx="1122120" cy="685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Visco-plastic matter with harden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809040" y="1992240"/>
                <a:ext cx="1485720" cy="34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808360" y="2792160"/>
                <a:ext cx="4536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853720" y="3706920"/>
                <a:ext cx="13258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>
                <a:off x="6237360" y="3935520"/>
                <a:ext cx="79992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93400" y="5992920"/>
                <a:ext cx="685800" cy="457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Plasm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07520" y="4849920"/>
                <a:ext cx="960120" cy="685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Perfectly plastic-rigid mat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2510640" y="2792160"/>
                <a:ext cx="29700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1436400" y="3706920"/>
                <a:ext cx="107424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1436040" y="3706920"/>
                <a:ext cx="36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64720" y="5535720"/>
                <a:ext cx="14857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50600" y="4164120"/>
                <a:ext cx="1645920" cy="4572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Conditionally perfectly plastic mat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436400" y="4621320"/>
                <a:ext cx="6854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864360" y="4621320"/>
                <a:ext cx="5713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923160" y="848880"/>
                <a:ext cx="18288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Elastic-visco-plastic matter with harden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944880" y="620640"/>
                <a:ext cx="171468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Times New Roman"/>
                  </a:rPr>
                  <a:t>Elastic-visco-plastic mat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1939320" y="848880"/>
                <a:ext cx="1943280" cy="34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06:35:38Z</dcterms:created>
  <dc:creator>Ing. Jiří Burša</dc:creator>
  <dc:description/>
  <dc:language>en-US</dc:language>
  <cp:lastModifiedBy>Jiří Burša</cp:lastModifiedBy>
  <dcterms:modified xsi:type="dcterms:W3CDTF">2008-05-30T10:53:57Z</dcterms:modified>
  <cp:revision>313</cp:revision>
  <dc:subject/>
  <dc:title>Biomechanics  of smooth muscle cells </dc:title>
</cp:coreProperties>
</file>