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6349-41F1-4F6E-93BE-811B8E7CF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CE98-7FD4-41B7-AB43-673B19B8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B36A-3F0E-41F3-A530-055D92E0A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F5D0-3CC6-402E-8481-E98F4E81C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3D10-DEEC-46A4-8D50-BFB2D548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FDB9-E992-4718-AC4E-44F58D10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0FF1-DB62-4C6B-A9AF-259F4E44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724C-81A6-4103-B602-EF727F2C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1971-B86D-4742-9C6C-22F8A0FC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4068-E640-4B27-B06A-288C9CAB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512E-F9AD-4B9A-9F58-89099150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0EFF-DC2D-4ABC-8172-9A741AAA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8B42-3643-4A59-BCE8-623DECDD82A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27280" y="2997000"/>
            <a:ext cx="597528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Clinical biomechan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719280" y="4149720"/>
            <a:ext cx="7993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oc. Prof. Jiří Burša, Ph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stitute of Solid Mechanics, Mechatronics and Biomecha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aculty of Mechanical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rno University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zech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FSI-ZP1-ANGL-SPEC"/>
          <p:cNvPicPr/>
          <p:nvPr/>
        </p:nvPicPr>
        <p:blipFill>
          <a:blip r:embed="rId1"/>
          <a:stretch/>
        </p:blipFill>
        <p:spPr>
          <a:xfrm>
            <a:off x="468360" y="333360"/>
            <a:ext cx="2232000" cy="145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" name="Obrázek 6" descr=""/>
          <p:cNvPicPr/>
          <p:nvPr/>
        </p:nvPicPr>
        <p:blipFill>
          <a:blip r:embed="rId2"/>
          <a:stretch/>
        </p:blipFill>
        <p:spPr>
          <a:xfrm>
            <a:off x="3205080" y="407880"/>
            <a:ext cx="575964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ff"/>
                </a:solidFill>
                <a:latin typeface="Times New Roman"/>
              </a:rPr>
              <a:t>What is clinical biomechanic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Biomechanics is application of knowledge, approaches and methods of mechanics to biological objects (human body – human biomechanic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Clinical biomechanics aims at solutions to biomechanical problems required by clinical practi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Experimental and computational metho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Times New Roman"/>
              </a:rPr>
              <a:t>Basic quantities</a:t>
            </a:r>
            <a:r>
              <a:rPr b="1" lang="cs-CZ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tress (force per unit area [N/m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= Pa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train (relative deformation, elongation per unit length [m/m = 1 –dimensionless quantity])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(Young’s) modulus of elasticity– stress/strain [N/m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= Pa] – represents the material stiffness (slope of the stress-strain dependenc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Times New Roman"/>
              </a:rPr>
              <a:t>Basic types of stress-strain behaviour</a:t>
            </a:r>
            <a:r>
              <a:rPr b="1" lang="cs-CZ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lastic (linear or non-linear) – no permanent deformation after unlo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lastic-plastic (some portion of deformation remains perman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iscoelastic (deformation is time and velocity depend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Basic types of animal living t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0755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imal living tissues can be divided (from the mechanical viewpoint) into two basic grou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ard tissues (e.g. bones) – showing small str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oft tissues (e.g. muscles) – showing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arge str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riated muscle tiss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mooth muscle tissue (occurs also in blood vessel wa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specially organs created of soft tissues show highly non-linear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ess-strain dependenc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hy is the description of large strain behaviour as difficul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ometric nonlinearit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FSI-ZP1-ANGL-SPEC"/>
          <p:cNvPicPr/>
          <p:nvPr/>
        </p:nvPicPr>
        <p:blipFill>
          <a:blip r:embed="rId1"/>
          <a:stretch/>
        </p:blipFill>
        <p:spPr>
          <a:xfrm>
            <a:off x="6915240" y="189000"/>
            <a:ext cx="1833480" cy="119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52" name="Object 5"/>
          <p:cNvGraphicFramePr/>
          <p:nvPr/>
        </p:nvGraphicFramePr>
        <p:xfrm>
          <a:off x="1344600" y="1628640"/>
          <a:ext cx="6454800" cy="446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44600" y="1628640"/>
                    <a:ext cx="6454800" cy="446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Picture 6" descr="GSTR110"/>
          <p:cNvPicPr/>
          <p:nvPr/>
        </p:nvPicPr>
        <p:blipFill>
          <a:blip r:embed="rId4"/>
          <a:stretch/>
        </p:blipFill>
        <p:spPr>
          <a:xfrm>
            <a:off x="1332000" y="2565360"/>
            <a:ext cx="6750000" cy="1822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7"/>
          <p:cNvSpPr/>
          <p:nvPr/>
        </p:nvSpPr>
        <p:spPr>
          <a:xfrm>
            <a:off x="468360" y="4428000"/>
            <a:ext cx="806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ometric nonlinearity is characterized by "large" displacements and/or rotations, whi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n b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ccompanied by large stra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displacement … slender structures – fishing rod, frames, sh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strai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lasticity of steels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ing simulatio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),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... hyperelasticity of elastomers (rubber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Properties of arterial wall t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075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echanical behaviour of arterial wall tissues sh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tructural non-homogeneity – arterial wall consists of several layers with different structure and properties, changing also in axial 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each layer created of several components (elastin membranes and fibres, collagen fibres, smooth muscle ce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large strain under physiological loa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on-linear stress-strain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iscoelasticity– time-dependent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nisotropy –  material properties are dependent on 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ifferent properties under tension or com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ery low compressi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ery pronounced temperature dependence of proper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ependence on loading hi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ependence on the age of an individ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emodelation under influence of 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ctive behaviour – mechanical properties can be changed substantially by activation (or relaxation) of muscle fib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...to be 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any different constitutive models have been created to describe these propert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Hyperelastic isotropic or anisotropic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models are most frequently used for modelling of soft tiss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ff"/>
                </a:solidFill>
                <a:latin typeface="Times New Roman"/>
              </a:rPr>
              <a:t>Clinical Biomecha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674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deals with human bod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olutions to biomechanical problems required by clinical practic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olutions at the level of tissues and higher structures (organs, systems of organs, whole body)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Times New Roman"/>
              </a:rPr>
              <a:t>Ilustrative probl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Biomechanics of big joints (e.g. hip, knee, elbow joi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without implants (osteotomies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with implants (endoprosthe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Biomechanics of vertebral column and its elements (vertebras, intervertebral pl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Biomechanics of arteries (e.g. aneurysms, vascular graf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Biomechanics of fixators of lower extrem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Biomechanics of  vertebral fixa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72000" y="1855440"/>
            <a:ext cx="5184720" cy="4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Thank you for your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nocni brno1"/>
          <p:cNvPicPr/>
          <p:nvPr/>
        </p:nvPicPr>
        <p:blipFill>
          <a:blip r:embed="rId1"/>
          <a:srcRect l="5197" t="7171" r="5194" b="9837"/>
          <a:stretch/>
        </p:blipFill>
        <p:spPr>
          <a:xfrm>
            <a:off x="1835280" y="2490840"/>
            <a:ext cx="6913440" cy="4106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FSI-ZP1-ANGL-SPEC"/>
          <p:cNvPicPr/>
          <p:nvPr/>
        </p:nvPicPr>
        <p:blipFill>
          <a:blip r:embed="rId2"/>
          <a:stretch/>
        </p:blipFill>
        <p:spPr>
          <a:xfrm>
            <a:off x="468360" y="333360"/>
            <a:ext cx="2813040" cy="183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" name="Obrázek 4" descr=""/>
          <p:cNvPicPr/>
          <p:nvPr/>
        </p:nvPicPr>
        <p:blipFill>
          <a:blip r:embed="rId3"/>
          <a:stretch/>
        </p:blipFill>
        <p:spPr>
          <a:xfrm>
            <a:off x="3384720" y="297000"/>
            <a:ext cx="561636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3:38:20Z</dcterms:created>
  <dc:creator>janicek</dc:creator>
  <dc:description/>
  <dc:language>en-US</dc:language>
  <cp:lastModifiedBy>Jiří Burša</cp:lastModifiedBy>
  <dcterms:modified xsi:type="dcterms:W3CDTF">2011-09-05T09:14:00Z</dcterms:modified>
  <cp:revision>140</cp:revision>
  <dc:subject/>
  <dc:title>VÝPOČTOVÉ MODELOVÁNÍ V KLINICKÉ MAKROBIOMECHANICE</dc:title>
</cp:coreProperties>
</file>