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E10-D370-4C4F-83F9-BCE04644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194-B5C6-41E1-A0F2-BA5F3CD0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32B-062B-41A5-8351-C3C43C3C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334-AA53-4BD0-972D-0374084B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A3D-083D-4992-A2B4-C4C14452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FD0-257F-416A-8D31-DDB9EA21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4F7-7982-4C95-BC80-D0C899EC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96A-FF38-430B-9CCF-ADE9D49F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1B6-9603-459E-B8C7-677FEB87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0BE-0EF0-44BF-A5C1-F324C83F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4CD-8798-4D64-9F61-2C6C3967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EC5-19F3-4935-ACD3-EEE255C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947-3A47-409C-82ED-CF697ECA73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572436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cture of arterial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7"/>
          <p:cNvGrpSpPr/>
          <p:nvPr/>
        </p:nvGrpSpPr>
        <p:grpSpPr>
          <a:xfrm>
            <a:off x="468360" y="333360"/>
            <a:ext cx="8064360" cy="6048000"/>
            <a:chOff x="468360" y="333360"/>
            <a:chExt cx="8064360" cy="6048000"/>
          </a:xfrm>
        </p:grpSpPr>
        <p:pic>
          <p:nvPicPr>
            <p:cNvPr id="43" name="Picture 4" descr="CEVA"/>
            <p:cNvPicPr/>
            <p:nvPr/>
          </p:nvPicPr>
          <p:blipFill>
            <a:blip r:embed="rId1"/>
            <a:stretch/>
          </p:blipFill>
          <p:spPr>
            <a:xfrm>
              <a:off x="1663560" y="1947600"/>
              <a:ext cx="6126120" cy="44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468360" y="4285440"/>
              <a:ext cx="1223640" cy="11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outer elastic membran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6518160" y="4043520"/>
              <a:ext cx="1295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inner elastic membrán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" name="Text Box 7"/>
            <p:cNvSpPr/>
            <p:nvPr/>
          </p:nvSpPr>
          <p:spPr>
            <a:xfrm>
              <a:off x="4610160" y="1639800"/>
              <a:ext cx="129528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erythr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3132000" y="2308320"/>
              <a:ext cx="13874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endothelium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" name="Text Box 9"/>
            <p:cNvSpPr/>
            <p:nvPr/>
          </p:nvSpPr>
          <p:spPr>
            <a:xfrm>
              <a:off x="2700360" y="2635560"/>
              <a:ext cx="1004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intima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2124000" y="3273840"/>
              <a:ext cx="9856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media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6627600" y="1250280"/>
              <a:ext cx="1158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leuc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86680" y="333360"/>
              <a:ext cx="13460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thromb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5784840" y="5472720"/>
              <a:ext cx="12286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adventitia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 flipV="1">
              <a:off x="2762280" y="5753520"/>
              <a:ext cx="31845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 flipV="1">
              <a:off x="7692840" y="706320"/>
              <a:ext cx="17784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5" name="Line 16"/>
            <p:cNvSpPr/>
            <p:nvPr/>
          </p:nvSpPr>
          <p:spPr>
            <a:xfrm>
              <a:off x="7256520" y="163980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12400"/>
            <a:ext cx="84247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tructure of aortic wall obtained by histologic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Aorta-histo1"/>
          <p:cNvPicPr/>
          <p:nvPr/>
        </p:nvPicPr>
        <p:blipFill>
          <a:blip r:embed="rId1"/>
          <a:srcRect l="0" t="0" r="0" b="13416"/>
          <a:stretch/>
        </p:blipFill>
        <p:spPr>
          <a:xfrm>
            <a:off x="2411280" y="635040"/>
            <a:ext cx="4589640" cy="5962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977160" y="1484280"/>
            <a:ext cx="1482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loured by orcein for elastic fibre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52360" y="1413000"/>
            <a:ext cx="15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loured by haematoxyline and eosin for SMC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604960" y="5805360"/>
            <a:ext cx="2266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7-08T08:36:51Z</dcterms:modified>
  <cp:revision>258</cp:revision>
  <dc:subject/>
  <dc:title>Biomechanics  of smooth muscle cells </dc:title>
</cp:coreProperties>
</file>