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30A-6CD8-4FAD-9DDC-62F99DEA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12D-F49F-4BF6-B094-AC95669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D6F-31ED-4630-9AFC-CB88AA67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8C0-EB11-48DF-BBCB-908F7B86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247-64C4-4C43-8029-92C77CB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16F-2A4D-4B4F-BB48-538D97E9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445-4D1D-4579-B961-D8815068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A17-23E9-4054-A2FD-3D89B57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F34-C48A-4839-8599-42E4FB5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7A4B-9D95-4E97-8EF4-047494F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2C8-794E-42C5-804C-0E3EF8C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7D4-61D8-4643-9F4C-DA214DD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3BB-90EF-458C-B036-079E39E7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 úrovně struktury příčně pruhovaného svalu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 podle Smith T.: Lidské tělo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ortuna pri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raha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240" y="1760400"/>
            <a:ext cx="7566120" cy="411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15280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é snopce (fascik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08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á vlákna (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rko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26701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é myofila-mentum (myos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470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nké myo-filamentum (aktin, tropo-myos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16:58Z</dcterms:created>
  <dc:creator>Jiří Burša</dc:creator>
  <dc:description/>
  <dc:language>en-US</dc:language>
  <cp:lastModifiedBy>Jiri Bursa</cp:lastModifiedBy>
  <dcterms:modified xsi:type="dcterms:W3CDTF">2007-01-07T10:40:49Z</dcterms:modified>
  <cp:revision>2</cp:revision>
  <dc:subject/>
  <dc:title>Hierarchické úrovně struktury příčně pruhovaného svalu ( podle Smith T.: Lidské tělo. Fortuna print, Praha, 1996).</dc:title>
</cp:coreProperties>
</file>