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E25-A7F8-4861-A4C2-A13FB007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FCEB-6658-47F3-880D-8FE36F78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E3C3-22FB-4E6F-B541-EEC82A95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CD2-D98E-44BC-ADFD-8B7739D9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3B1-C83F-4488-9722-79F8EF14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0EC-9608-40B3-A4FB-A4A1A185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625A-D9A8-4D32-8BA4-0B8561FC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E969-6EBC-493A-938B-5F26D2DF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512B-004F-4E26-863C-DAC16923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ED66-2EA6-46B5-A196-B4487FF4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1FA1-92C9-47A2-9420-2AE49167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DD3-FD39-4EC9-B01F-2D3D5E08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2F7F-E534-484B-8F9A-163061A9332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Skler&#243;za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Součásti kardiovaskulární </a:t>
            </a:r>
            <a:br>
              <a:rPr sz="2800"/>
            </a:b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soustavy </a:t>
            </a:r>
            <a:br>
              <a:rPr sz="2800"/>
            </a:b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a jejich základní fun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5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Rectangle 176"/>
          <p:cNvSpPr/>
          <p:nvPr/>
        </p:nvSpPr>
        <p:spPr>
          <a:xfrm>
            <a:off x="755640" y="2421000"/>
            <a:ext cx="77724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rdce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dvojitá pumpa, která zajišťuje krevní oběh, tedy průtok krve velkým (tělním) i malým (plicním) krevním okruhem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revní cévy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 tvoří oba krevní okruh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(celkem 96.000km)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, jsou trojího druhu: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rterie (tepny) – zajišťují rozvod krve ze srdce do jednotlivých orgánů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ény (žíly) – zajišťují návrat krve z těla do srdce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apiláry (vlásečnice) – zajišťují látkovou výměnu mezi krví a tkáněmi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rev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 kromě základní funkce zásobování tkání kyslíkem a živinami a odvádění zplodin metabolismu zajišťuje řadu dalších funkcí – imunitní, termoregulační, udržování pH tělních tekutin aj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 širším smyslu k ní patří ještě další tkáně, orgány a soustavy: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Mízní cévy a uzliny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 zajišťují návrat mízy (lymfy) do krevního oběhu a její filtraci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ostní dřeň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 zajišťuje krvetvorbu, především tvorbu erytrocytů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lezina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 zajišťuje likvidaci odumřelých erytrocytů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Nervové řízení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řídí funkci soustavy a koordinaci s ostatními částmi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71480"/>
          <a:ext cx="8229600" cy="749520"/>
        </p:xfrm>
        <a:graphic>
          <a:graphicData uri="http://schemas.openxmlformats.org/drawingml/2006/table">
            <a:tbl>
              <a:tblPr/>
              <a:tblGrid>
                <a:gridCol w="876240"/>
                <a:gridCol w="1608120"/>
                <a:gridCol w="878040"/>
                <a:gridCol w="1754280"/>
                <a:gridCol w="1118880"/>
                <a:gridCol w="890640"/>
                <a:gridCol w="1103400"/>
              </a:tblGrid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dce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evní cévy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ev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ízní cévy a uzliny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stní dřeň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zina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rvové řízení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Line 219"/>
          <p:cNvSpPr/>
          <p:nvPr/>
        </p:nvSpPr>
        <p:spPr>
          <a:xfrm>
            <a:off x="3808440" y="14270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6" name="Obrázek 6" descr=""/>
          <p:cNvPicPr/>
          <p:nvPr/>
        </p:nvPicPr>
        <p:blipFill>
          <a:blip r:embed="rId1"/>
          <a:stretch/>
        </p:blipFill>
        <p:spPr>
          <a:xfrm>
            <a:off x="4284720" y="220680"/>
            <a:ext cx="46083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Vymezení základních lékařských ob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atom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zabývá se popisem geometrie a topologie (topografická anatomie) tělních orgánů a orgánových soustav, tedy popisem jejich tvaru a rozmístění ve zdravém organis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yziologi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zabývá se popisem procesů, probíhajících ve zdravém organismu a zajišťujících jeho životní funkce. Přitom využívá poznatků biochemie, biofyziky i dalších obor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istologi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zabývá se popisem složení a struktury jednotlivých tkání na mikroskopické úrov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atologie (patologická anatomie a patologická fyziologie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zabývá se změnami v anatomii a fyziologii, způsobenými chorobnými procesy v organism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aterosklerotické změny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 tepnách, vady a choroby srd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Rozdělení cé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epny (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rteri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elké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- 26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ředn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- 8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é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pénky (arterio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1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lásečnice (kapiláry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průměr v setinách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Žíl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vé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ilky (venuly 0,02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1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řed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el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nastomóz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propojení mezi různými větvemi tepenné nebo žilní soustavy, vytvářející možnosti obtokových t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rteriovenóz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nastomóz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přímé propojení mezi tepnami a žilami silnější než kapiláry – slouží regulaci průtoku a tlaku k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Schema kapilárního řeč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457200" y="1285920"/>
            <a:ext cx="74278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elkový periferní odpor tělního oběhu 77-150 MPa.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elkový periferní odpor plicního oběhu 2-12 MPa.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měnný průtočný odpor tepen je ovlivňován aktivním chováním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valové složky tkáně ve stěně tepn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valový tonus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ekapilární sfinkter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rteriovenózní anastomóz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3" name="Obrázek 4" descr="anastomózy.JPG"/>
          <p:cNvPicPr/>
          <p:nvPr/>
        </p:nvPicPr>
        <p:blipFill>
          <a:blip r:embed="rId1"/>
          <a:stretch/>
        </p:blipFill>
        <p:spPr>
          <a:xfrm>
            <a:off x="5557680" y="2201760"/>
            <a:ext cx="3086280" cy="4370400"/>
          </a:xfrm>
          <a:prstGeom prst="rect">
            <a:avLst/>
          </a:prstGeom>
          <a:ln w="0">
            <a:noFill/>
          </a:ln>
        </p:spPr>
      </p:pic>
      <p:sp>
        <p:nvSpPr>
          <p:cNvPr id="54" name="Line 13"/>
          <p:cNvSpPr/>
          <p:nvPr/>
        </p:nvSpPr>
        <p:spPr>
          <a:xfrm flipV="1">
            <a:off x="4049640" y="3714480"/>
            <a:ext cx="36655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9-05T08:17:39Z</dcterms:modified>
  <cp:revision>241</cp:revision>
  <dc:subject/>
  <dc:title>Biomechanics  of smooth muscle cells </dc:title>
</cp:coreProperties>
</file>