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69B-57AC-4E7E-AAC1-067C13E6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893-9A4E-4BCD-AD42-B3B8DD7C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54A-4196-447B-9FB5-A8237ED3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50F-F2D3-445D-87CF-000FB232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F66-FD52-45FF-8853-79C8444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FE0-27D3-43EC-B550-96A3CC27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E49-7252-4CBF-9C13-34E84EB0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574-7171-4210-9A41-DF3765A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289-6C1C-46F3-B0CF-1309C0ED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17A-B101-448E-9F44-25EEB55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7E2-FB0F-4098-9DBD-6A22314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3CA-8305-4B4A-B290-C0E8E77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116-8130-47F2-9296-26DDBEDFEE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dmínky vnitřní statické určitosti a neurčitosti prutových sou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vzp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styč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to podmínky se běžně používají pro orientační posouzení statické určitosti prutových soustav, selhávají však u výjimkových konfigu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29040" y="1916280"/>
                <a:ext cx="2479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59280" y="2492280"/>
                <a:ext cx="2570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09960" y="3068640"/>
                <a:ext cx="2570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788000" y="3716280"/>
                <a:ext cx="257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59:23Z</dcterms:created>
  <dc:creator>Jiří Burša</dc:creator>
  <dc:description/>
  <dc:language>en-US</dc:language>
  <cp:lastModifiedBy>Jiří Burša</cp:lastModifiedBy>
  <dcterms:modified xsi:type="dcterms:W3CDTF">2007-01-08T17:13:15Z</dcterms:modified>
  <cp:revision>2</cp:revision>
  <dc:subject/>
  <dc:title>Podmínky vnitřní statické určitosti a neurčitosti prutových soustav</dc:title>
</cp:coreProperties>
</file>