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3652-DEA3-490D-8FFD-5D6493A9B1D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5C9B-9E77-471D-8D04-16A8793C06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užití výpočtového modelování v této oblasti spočívá především v řešení úloh o identifikaci materiálových vlastností buně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ýstupem mechanických zkoušek prováděných na buňkách nejčastěji bývá jistá závislost mezi deformačním zatížením buňky a její silovou odezvou. Pokud chceme z naměřených údajů získat konstitutivní popis materiálu buňky, musíme nejprve zvolit vhodný konstitutivní model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potom identifikovat jeho parametry. K této identifikaci se využívá právě výpočtových simulací experimentálních met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4213-DEE9-4CA5-8000-1545594558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í přejdeme k samotnému výpočtovému modelování v oblasti biomechaniky buňky. Nejprve se ve stručnosti  seznámíme se současným stavem poznání.   V současné době používané výpočtové modely lze rozdělit do dvou hlavních kategorií. Jednak jsou to nestrukturní modely,- ty nezohledňují vnitřní struktury buň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 jdnak jsou to  strukturně založené modely-Jsou tvořeny dvěma nebo více strukturními složkami s odlišným materiálovými vlastnostmi, které reprezentují vybrané buněčné komponenty. Strukturní modely  můžeme dále dělit n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tinuální--všechny strukturní složky buňky jsou modelovány jako kontinu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skrétní--buňka nebo její komponenty jsou modelovány diskrétními strukturam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 komplexní ---je tvořen kombinací diskrétního a kontinuálního strukturního model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Jednotlivé reprezentanty těchto kategoríí si následně ukáže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35BB-F97F-4B2E-88F6-095821DF91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Řešení problém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iomechaniky bu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ňky vyžaduje interdiscilinární přístup, jehož součástí je i studium chování buňky jako mechanické soustav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o vyžaduje znalosti jednak o struktuře buňky, o jejích interakcích s okolím a v neposlední řadě o jejích mechanických vlastnoste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koumání mechanického chování buněk se v současnosti provádí jednak na základě experimentů prostřednictvím různých mechanických zkoušek a jednak pomocí jejích výpočtového modelová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DF5-5DA5-4C92-9BD5-5280D391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BE7-C8FF-490B-A896-03257401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04E-1254-4157-BEE7-D9871B10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355-9297-4848-AAC2-35FD9FDE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FD8-A03E-4BF1-818F-BC5043E1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A1F-8C42-490C-A2E7-6BC0A679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6102-D3A6-4E30-9222-DB5EADD1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902-5C1C-487C-8BCE-9422DF31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85D-1186-4E71-A0C9-95580FCD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BCF-9714-4368-B03A-F68EC511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556-80E8-47E7-956D-2E7C6B3F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D5E-B3AE-4EA3-A9FA-69A3EB79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CA30-F5D3-4FEB-BA1A-B6201B40655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ukaryotick&#225;%20bu&#328;ka.ppt" TargetMode="External"/><Relationship Id="rId2" Type="http://schemas.openxmlformats.org/officeDocument/2006/relationships/hyperlink" Target="file:///mechanotransdukce.pp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sval_p&#345;&#237;&#269;n&#283;_pruhovan&#253;.ppt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sval_hladk&#253;.ppt" TargetMode="External"/><Relationship Id="rId2" Type="http://schemas.openxmlformats.org/officeDocument/2006/relationships/hyperlink" Target="file:///SMC-kontraktiln&#237;.ppt" TargetMode="External"/><Relationship Id="rId3" Type="http://schemas.openxmlformats.org/officeDocument/2006/relationships/hyperlink" Target="file:///SMC-kontraktiln&#237;.ppt" TargetMode="External"/><Relationship Id="rId4" Type="http://schemas.openxmlformats.org/officeDocument/2006/relationships/hyperlink" Target="file:///SMC-kontraktiln&#237;.ppt" TargetMode="External"/><Relationship Id="rId5" Type="http://schemas.openxmlformats.org/officeDocument/2006/relationships/hyperlink" Target="file:///SMC-kontraktiln&#237;.ppt" TargetMode="External"/><Relationship Id="rId6" Type="http://schemas.openxmlformats.org/officeDocument/2006/relationships/hyperlink" Target="file:///kolagen-fibrila.ppt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ukaryotick&#225;%20bu&#328;ka.ppt" TargetMode="External"/><Relationship Id="rId2" Type="http://schemas.openxmlformats.org/officeDocument/2006/relationships/hyperlink" Target="file:///Cytoskelet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spojen&#237;_bun&#283;k.ppt" TargetMode="External"/><Relationship Id="rId2" Type="http://schemas.openxmlformats.org/officeDocument/2006/relationships/hyperlink" Target="file:///gap%20junction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bu&#328;ky-mechanick&#233;_vlastnosti.doc" TargetMode="External"/><Relationship Id="rId2" Type="http://schemas.openxmlformats.org/officeDocument/2006/relationships/hyperlink" Target="file:///bu&#328;ky-mechanick&#233;_vlastnosti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zkou&#353;ka_aspira&#269;n&#237;.ppt" TargetMode="External"/><Relationship Id="rId2" Type="http://schemas.openxmlformats.org/officeDocument/2006/relationships/hyperlink" Target="file:///zkou&#353;ka_vtla&#269;en&#237;m.ppt" TargetMode="External"/><Relationship Id="rId3" Type="http://schemas.openxmlformats.org/officeDocument/2006/relationships/hyperlink" Target="file:///zkou&#353;ka_tahem.pp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Biomechanika buňky</a:t>
            </a:r>
            <a:br>
              <a:rPr sz="44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Výpočtové modely mechanického chování buň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2636640"/>
            <a:ext cx="7058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Přednáška je součástí předmě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Biomechanika I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(Biomechanika srdečně-cévní sousta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Tato přednáška předpokládá zvládnutí úvodních částí předmětu, týkajících se především základů anatomie, histologie a patologie  srdečně-cévní soustav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Úrovně modelů cévní stě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omog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ní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ěn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–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ejjednodušší model nerespektující vnitřní strukturu stěn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eh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moge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ě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ěna složená z homogenních vrstev s různými konstitutivními vztahy, odpovídajících adven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, medii a intimě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á vrstva rozložená na nižší strukturní prvky, např. elastické a svalové membrány (podvrstvy) v případě medie tep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á podvrstva rozložena na její prvky, např. na různé typy vláken a základní substanci, příp. buňk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333399"/>
                </a:solidFill>
                <a:latin typeface="Times New Roman"/>
              </a:rPr>
              <a:t>Využití výpočtového modelování buně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y mechanických zkoušek buněk = informace o závislostech mezi  silou a deformac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roky nutné pro modelování vlastností buň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olba vhodných konstitutivních modelů buňky, resp. jejích k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dentifikace jejich parametrů pomocí výpočtových simulací experi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 tomu je třeba mít k dispozici univerzální výpočtový model mechanického chování buňky, zohledňující co nejpřesněji její strukturu a umožňující simulovat různé mechanické zkouš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Dílčí kro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tvořit výpočtový model mechanického chování buňky, zahrnující všechny její strukturní složk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statné z mechanického hledis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lézt vhodné modely konstitutivního chování pro jednotlivé strukturní složky výpočtového modelu buň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užít vytvořeného modelu buňky pro simulování různých mechanických zkouš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Typy výpočtových modelů buň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strukturní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uňka modelovaná jako homogenní kontinu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ktur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zohledňuje nějakým způsobem vnitřní strukturu buň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inuál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buňka modelovaná jako nehomogenní kontinuum s částečným zohledněním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skrétn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uňka modelovaná pomocí diskrétních prvků (např. tensegritní struktu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mplexní - buňka modelovaná kombinací spojitých a diskrétních prvků (např. cytoplasma jako kontinuum a cytoskelet pomocí tensegritní struktu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Perspekti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o vyhodnocení deformačně-napěťových stav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 buňce je nutný věrohodný výpočtový model buňky a identifikace jeho parametrů založená na simulaci různých typů mechanických zkouš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del by měl vytvořit předpoklady pro výpočtov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delování skupin buněk nebo složitější struktury jednotlivé svalové vrstvy v medii arteriální stěny za normálních i patologických podmí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ýsledky by měly napomáhat k pochopení vlivu mechanických faktorů na remodelaci cévní stěny i na patologické procesy provázející vznik a rozvoj sklerotických změn ve stěně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Motivace - mechanické důsledky </a:t>
            </a:r>
            <a:br>
              <a:rPr sz="4000"/>
            </a:b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chorob cévní soustavy a prováděných zákroků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modelace tkáně,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íp. apoptóza buněk  nastává v reakci na změny mechanického zatížení – např. za těchto podmín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nekompenzované hypertenzi - dlouhodobé přetížení tká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nik a růst ateromatického plátu - v místech zvýšeného mechanického namáh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rapeutické zákroky navozující změny mechanického zatížení tká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átkodobé přetížení při zákroku (např. angioplastika) – může vést až k apoptóze (programová smrt) buněk hladkého svalst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louhodobé přetížení (aneurysma, aplikace stentu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soulad tuhostí mezi tkání a umělým materiálem – např. po aplikaci cévní protézy –  vyvolává přídavné namáhání tká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ilní autotransplantáty – v důsledku změny mechanických podmínek, jimž je tkáň vystavena ,  dochází k její remodelaci, příp. až k apoptóze buně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emodelační i sklerotické procesy začínají na úrovni jednotlivých (hladkých svalových) buněk cévní stěny a jsou významně ovlivňovány mechanickými faktory. Základním elementem strukturních změn živých tkání je tedy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eukaryotická buň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Biochemické procesy, které v ní probíhají jsou zjevně ovlivněny jejím mechanickým namáháním, tento proces přeměny mechanického signálu na biochemickou odezvu se nazývá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mechanotransduk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20760"/>
            <a:ext cx="815328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Hierarchic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ké 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stru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k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tur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ní úrovně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br>
              <a:rPr sz="3600"/>
            </a:b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příčně pruhovaného svalu (</a:t>
            </a:r>
            <a:r>
              <a:rPr b="0" lang="cs-CZ" sz="36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1"/>
              </a:rPr>
              <a:t>viz obr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1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 jako anatomická jednotka, tzv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akro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2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ové snopce různých strukturních úrovní a velikostí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ezzo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3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každý svalový snopec se skládá z 10 až 100 jednotlivých svalových vláken, z nichž každé představuje jednojadernou svalovou buňku. Délka svalových vláken bývá obvykle v desítkách mm, zatímco jejich tloušťka je pouhých 10 až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. Proto bývá tato strukturní úroveň označována jako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ikro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4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ždé svalové vlákno je tvořeno tzv. myofibrilami o průměru kolem 1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ultra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5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yofibrily jsou tvořeny sadou aktinových (tenkých) a myozinových (tlustých) vláken a dále tzv. Z-disky (Z-liniemi)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nano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6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ždé filamentum se skládá z makromolekul příslušné bílkoviny, které mají rovněž svou atomovou strukturu; vzhledem k jiným typům podstatných silových interakcí není řešitelná metodami mechaniky těles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Hierarchic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ké 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stru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k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tur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ní úrovně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br>
              <a:rPr sz="3600"/>
            </a:b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hladkého sva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roveň 1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val jako anatomická jednotka ( 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mm), nebo jednotlivé vrstvy cévní stěny, tzv.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kro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roveň 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valová buňk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řetenovitého tvaru o délc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ž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ikro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roveň 3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vnitř buňky je kromě p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ních vláken (např. intermediálních) soustav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aktinových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tenkých) 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myozinových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tlustých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vláken (filam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která vzájemně propojují tzv.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densní tělísk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no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roveň 4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é filamentum se skládá z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vláknitých makromolekul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lušné bílkoviny, ty mají dále svou atomovou strukturu; vzhledem k jiným typům podstatných silových interakcí není tato úroveň řešitelná metodami mechaniky tě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Strukturní </a:t>
            </a:r>
            <a:r>
              <a:rPr b="0" lang="cs-CZ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vky živočišné buňky </a:t>
            </a: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odstatné z mechanického hlediska</a:t>
            </a: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Buněčná membrán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tvořená většinou fosfolipidy a cholestero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ytoplazm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zahrnuje základní hmotu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organe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ytoskel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nd cytoplas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tické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Jádr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nese informaci pro reprodukci buňky v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or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ě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N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hrom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ome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Cytoskele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je z mechanického hlediska nejdůležitější složkou hladké svalové buňky, podílí se rozhodující měrou na jejím mechanickém ch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609480"/>
            <a:ext cx="80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vzájemného </a:t>
            </a:r>
            <a:r>
              <a:rPr b="0" lang="cs-CZ" sz="4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opojení buněk 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– nexy neboli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ap junctions 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(podle Fyziologie, Troj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188"/>
          <p:cNvPicPr/>
          <p:nvPr/>
        </p:nvPicPr>
        <p:blipFill>
          <a:blip r:embed="rId3"/>
          <a:stretch/>
        </p:blipFill>
        <p:spPr>
          <a:xfrm>
            <a:off x="468360" y="1700280"/>
            <a:ext cx="822960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Studium buňky jako mechanické soust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vyžaduj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Znalosti o struktuře buňky a jejích interakcích s okolí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Znalosti o </a:t>
            </a:r>
            <a:r>
              <a:rPr b="0" lang="cs-CZ" sz="2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echanických vlastnostech buňky</a:t>
            </a:r>
            <a:r>
              <a:rPr b="0" lang="cs-CZ" sz="2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Times New Roman"/>
              </a:rPr>
              <a:t>Vyšetřování mechanických vlastností buněk se provádí na základě experimentů a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výpočtového model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Experimentální určování mechanických vlastností buně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793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chanické zkoušky buněčných popul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tížení deformací podložky (membrane stre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tížení fluidními smykovými  silami (fluid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chanické zkoušky izolovaných buněk - z hlediska zatížení lze děli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lobální - zatěžována celá buň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okální  - zatížení se na buňku přenáší jen v malé obl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mechanických zkoušek prováděných na izolovaných buňk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8487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dělení podle principu vyvození zátěžné sí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echanické met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1"/>
              </a:rPr>
              <a:t>Aspirační zkoušk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nasáváním do mikropipe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Vtlačovací zkou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Zkouška tahem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kouška tlakem s mikrodestičk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gnetické met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gnetic twisting cyt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gnetická pinz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cké met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ptická pinz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ptical stret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3-03-27T07:38:47Z</dcterms:modified>
  <cp:revision>245</cp:revision>
  <dc:subject/>
  <dc:title>Biomechanics  of smooth muscle cells </dc:title>
</cp:coreProperties>
</file>