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7FD-343D-44DB-810D-E23CA301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C5F-603D-4480-AAA2-FF619220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FB9-7CEB-4B8F-ACF4-EF82FFCC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217-88BC-4E35-9861-CDDBACBF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26D-7D52-4B00-9345-7EFF95F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34D-04E4-4E59-A9D5-799EB445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78B-D9B4-4E57-852C-7A467F91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6D3-0B4F-4406-B66F-0335BCEB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55B-2C7D-476F-84AF-D182EB7F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720-063B-422E-BFA0-4516C6A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C51-E134-428A-A0B5-B3EEFBD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3ED-C14E-49E9-A24B-2AE97B0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BF6-2492-4E65-A030-2CF072A0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héma zkoušky tlakem 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ikrodestič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097080" cy="22971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564000" y="1484280"/>
            <a:ext cx="5257800" cy="5113440"/>
            <a:chOff x="3564000" y="1484280"/>
            <a:chExt cx="5257800" cy="51134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564000" y="1484280"/>
              <a:ext cx="525780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59960" y="4501800"/>
              <a:ext cx="943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3440" y="5172480"/>
              <a:ext cx="53712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ěsně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1200" y="5388480"/>
              <a:ext cx="76572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jektiv mikrosko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85240" y="5783400"/>
              <a:ext cx="66168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Čo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21680" y="5160960"/>
              <a:ext cx="51768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81120" y="5002920"/>
              <a:ext cx="35496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k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818760" y="5082480"/>
              <a:ext cx="210960" cy="1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82160" y="3424320"/>
              <a:ext cx="987120" cy="25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silova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66680" y="3944160"/>
              <a:ext cx="987120" cy="25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81080" y="2774160"/>
              <a:ext cx="986760" cy="489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Piezoelktrick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akční čl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05200" y="2936160"/>
              <a:ext cx="597600" cy="226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žá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41840" y="2796840"/>
              <a:ext cx="79668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66200" y="2554200"/>
              <a:ext cx="37620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ň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8720" y="3320640"/>
              <a:ext cx="79668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8320" y="438804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0040" y="5154480"/>
              <a:ext cx="36324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73680" y="5353200"/>
              <a:ext cx="94356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3640" y="620172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D kame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957800" y="4437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ň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3:54:42Z</dcterms:created>
  <dc:creator>umt</dc:creator>
  <dc:description/>
  <dc:language>en-US</dc:language>
  <cp:lastModifiedBy>umt</cp:lastModifiedBy>
  <dcterms:modified xsi:type="dcterms:W3CDTF">2007-01-08T13:57:06Z</dcterms:modified>
  <cp:revision>2</cp:revision>
  <dc:subject/>
  <dc:title>Snímek 1</dc:title>
</cp:coreProperties>
</file>