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9A6-5507-4A15-8C9B-19D333B5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C2A-DC7B-4B6A-A3ED-178FEC2C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61A-81E8-41C0-9824-71098212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E36-B3FB-4A8B-82CC-68B693E0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68D-D8EA-4936-B143-2B2ACB4D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E0E-9CC3-46DE-B529-C5D991AD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17B-06B5-4406-AAF2-C4B6D355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089-04A0-4C7D-884A-D600661F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24B-368F-436D-8944-177F2828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9E0-BED0-43FE-A060-6426BC4B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9B1-CA79-48B5-ABE2-D556A841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579-51CE-4C5E-A222-C9FDE284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B9EE-4EC5-488F-9E3F-1D58FB954C5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17240"/>
            <a:ext cx="82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Čerpadla pro podporu a náhradu srd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55640" y="3933720"/>
            <a:ext cx="2521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incipy čerpadel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ulz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zpulz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ěkteré typy VAD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eartmat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horatec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iomed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4360" y="1052640"/>
            <a:ext cx="7920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půrné srdeční čerpadlo - VAD (ventricular assist device)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„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Umělé srdce“ – TAH (total artificial heart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to přístroj implantovaný nebo připojený chirurgicky do pacientova těla, který poskytuje podporu (VAD) nebo plnou náhradu (TAH)  pacientovu srdci. Jednotlivé typy se vzájemně liší především těmito charakteristikami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á energie pro pohon čerpadla – stlačený vzduch nebo elektřin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třebná antikoagulační medikace – Coumadin, Heparin, Aspirin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místění – uvnitř nebo vně těl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da poskytuje možnost pobytu pacienta v domácím prostředí (mimo JIP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274920" y="3860640"/>
            <a:ext cx="40338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ožné komplikace při použití VAD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váce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arkt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ekc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elhání přístroj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5" name="Obrázek 7" descr=""/>
          <p:cNvPicPr/>
          <p:nvPr/>
        </p:nvPicPr>
        <p:blipFill>
          <a:blip r:embed="rId1"/>
          <a:stretch/>
        </p:blipFill>
        <p:spPr>
          <a:xfrm>
            <a:off x="3780000" y="5516640"/>
            <a:ext cx="46796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VAD typu Thor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rcRect l="68063" t="26230" r="21407" b="53740"/>
          <a:stretch/>
        </p:blipFill>
        <p:spPr>
          <a:xfrm>
            <a:off x="611280" y="1125360"/>
            <a:ext cx="4437000" cy="5007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5078520" y="1268280"/>
            <a:ext cx="3670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ná se o univerzální jednotku, která může sloužit k podpoře levé komory (LVAD), pravé komory (RVAD) nebo i obou současně (BIVAD). Pacient je medikován nízkými dávkami heparinu nebo coumadinu. Přenosná řídící jednotka byla schválena pro použití v domácím ošetřování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VAD typu Abiomed BVS 5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rcRect l="68240" t="48824" r="17775" b="33514"/>
          <a:stretch/>
        </p:blipFill>
        <p:spPr>
          <a:xfrm>
            <a:off x="1332000" y="1916280"/>
            <a:ext cx="6453000" cy="4462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6804000" y="1700280"/>
            <a:ext cx="17985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84360" y="836640"/>
            <a:ext cx="806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stroj určený k dočasné podpoře levé komory (LVAD), pravé komory (RVAD) nebo i obou současně (BIVAD), při potenciálně reverzibilním postižení myokardu. Vzduchem poháněné čerpadlo je umístěno vně těla a jeho řídicí jednotka je napájena elektřinou.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ůže být použito i pro překlenutí doby do transplantace srdce nebo implantace jiného přístroje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Rozvoj a perspektivy použití V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61920" y="1239840"/>
          <a:ext cx="6778800" cy="2378160"/>
        </p:xfrm>
        <a:graphic>
          <a:graphicData uri="http://schemas.openxmlformats.org/drawingml/2006/table">
            <a:tbl>
              <a:tblPr/>
              <a:tblGrid>
                <a:gridCol w="873360"/>
                <a:gridCol w="2119320"/>
                <a:gridCol w="3786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k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ast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aplikací na mil. obyvatel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7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7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áp. Evrop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áp. Evrop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6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R (pouze IKEM)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25"/>
          <p:cNvSpPr/>
          <p:nvPr/>
        </p:nvSpPr>
        <p:spPr>
          <a:xfrm>
            <a:off x="900000" y="386064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ndidáti na použití VAD –pacienti se srdečními chorobami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Rectangle 126"/>
          <p:cNvSpPr/>
          <p:nvPr/>
        </p:nvSpPr>
        <p:spPr>
          <a:xfrm>
            <a:off x="971640" y="4292640"/>
            <a:ext cx="4824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ok 2000 – Evropa (15 zemí)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dváha 81%, obezita 33 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ulová fyzická aktivita 61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řáci 20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ypertenze 50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výšená hladina cholesterolu 59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Zapojení VAD do krevního obě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8" name="Picture 5" descr="VAD1"/>
          <p:cNvPicPr/>
          <p:nvPr/>
        </p:nvPicPr>
        <p:blipFill>
          <a:blip r:embed="rId1"/>
          <a:stretch/>
        </p:blipFill>
        <p:spPr>
          <a:xfrm>
            <a:off x="3102120" y="1101600"/>
            <a:ext cx="5717880" cy="5597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468360" y="1268280"/>
            <a:ext cx="287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66"/>
                </a:solidFill>
                <a:latin typeface="Times New Roman"/>
              </a:rPr>
              <a:t>červ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odstředivé (bezpulzní) čerpadlo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Times New Roman"/>
              </a:rPr>
              <a:t>modr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1800" spc="-1" strike="noStrike">
                <a:solidFill>
                  <a:srgbClr val="33cc33"/>
                </a:solidFill>
                <a:latin typeface="Times New Roman"/>
              </a:rPr>
              <a:t>zel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ulzní čerpadlo </a:t>
            </a:r>
            <a:r>
              <a:rPr b="0" lang="cs-CZ" sz="1800" spc="-1" strike="noStrike">
                <a:solidFill>
                  <a:srgbClr val="0000ff"/>
                </a:solidFill>
                <a:latin typeface="Times New Roman"/>
              </a:rPr>
              <a:t>lev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33cc33"/>
                </a:solidFill>
                <a:latin typeface="Times New Roman"/>
              </a:rPr>
              <a:t>prav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Princip připojení implantovaného  V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rcRect l="39701" t="39129" r="30646" b="32432"/>
          <a:stretch/>
        </p:blipFill>
        <p:spPr>
          <a:xfrm>
            <a:off x="1195560" y="1484280"/>
            <a:ext cx="6400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417240"/>
            <a:ext cx="82915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Použití podpůrných srdečních čerpadel (V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84360" y="1341360"/>
            <a:ext cx="8064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eklenutí doby do zotave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odpora srdce během procesu zotavení u méně vážně postižených pacientů za podmínek jako například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stavení od mimotělního oběhu po srdeční operaci;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v po vážném srdečním selhání;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vládnutí vážných virových infekcí postihujících srdeční sval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eklenutí doby do transplanta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udržení při životě po dobu, než je nalezen vhodný dárce pro transplantaci srdce. Většina pacientů indikovaných pro tuto transplantaci umírá dříve, než je nalezen vhodný dárce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blémy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ivotnost – v interakci s krví o řád nižší než v inertním prostředí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emolýz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ěsnění pohyblivých částí (hřídelů) – použití magnetických spojek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vorba trombů na hřídelích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lcifikace membrán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Čerpadlo Heartmate - levostranné trva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7" name="Picture 6" descr="u3v16"/>
          <p:cNvPicPr/>
          <p:nvPr/>
        </p:nvPicPr>
        <p:blipFill>
          <a:blip r:embed="rId1"/>
          <a:srcRect l="5790" t="0" r="17369" b="0"/>
          <a:stretch/>
        </p:blipFill>
        <p:spPr>
          <a:xfrm>
            <a:off x="826920" y="692280"/>
            <a:ext cx="3383280" cy="518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rcRect l="68069" t="28179" r="21038" b="52013"/>
          <a:stretch/>
        </p:blipFill>
        <p:spPr>
          <a:xfrm>
            <a:off x="4319640" y="836640"/>
            <a:ext cx="3997440" cy="4321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4716360" y="5229360"/>
            <a:ext cx="3670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acient je medikován aspirinem a za určitých okolností může být propuštěn do domácího ošetřování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68360" y="5950080"/>
            <a:ext cx="28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lektronická řídicí jednotk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24000" y="907920"/>
            <a:ext cx="187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pájecí jednotka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468360" y="1268280"/>
            <a:ext cx="64764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Line 15"/>
          <p:cNvSpPr/>
          <p:nvPr/>
        </p:nvSpPr>
        <p:spPr>
          <a:xfrm flipV="1">
            <a:off x="826920" y="5373360"/>
            <a:ext cx="1008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VAD – podpůrné srdeční čerpadlo </a:t>
            </a: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oboustranné dočasné (umístěné mimotělně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5" descr="u3v17"/>
          <p:cNvPicPr/>
          <p:nvPr/>
        </p:nvPicPr>
        <p:blipFill>
          <a:blip r:embed="rId1"/>
          <a:srcRect l="6765" t="0" r="13530" b="0"/>
          <a:stretch/>
        </p:blipFill>
        <p:spPr>
          <a:xfrm>
            <a:off x="4976640" y="1197000"/>
            <a:ext cx="3483000" cy="5084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755640" y="1413000"/>
            <a:ext cx="38149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dvou odstředivých čerpadel, hadice procházejí přes pokožku, levé čerpadlo odebírá krev z levé síně a vrací do aorty, pravé odebírá z pravé síně a vrací do arterie pulmonalis (plícnice)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Odstředivé čerpadlo Biomedi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0" name="Picture 5" descr="kardio7"/>
          <p:cNvPicPr/>
          <p:nvPr/>
        </p:nvPicPr>
        <p:blipFill>
          <a:blip r:embed="rId1"/>
          <a:stretch/>
        </p:blipFill>
        <p:spPr>
          <a:xfrm>
            <a:off x="900000" y="1101600"/>
            <a:ext cx="3527640" cy="52801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5003640" y="1268280"/>
            <a:ext cx="288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značuje se minimální traumatizací krevních elementů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Princip pneumatického membránového čerpadla - vhodné i jako 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191628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skové chlopně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5" name="Picture 6" descr="VAD2"/>
          <p:cNvPicPr/>
          <p:nvPr/>
        </p:nvPicPr>
        <p:blipFill>
          <a:blip r:embed="rId1"/>
          <a:stretch/>
        </p:blipFill>
        <p:spPr>
          <a:xfrm>
            <a:off x="1908000" y="1052640"/>
            <a:ext cx="4392720" cy="41828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6084720" y="2852640"/>
            <a:ext cx="2089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evní komor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698920" y="5084640"/>
            <a:ext cx="23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duchová komor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6084720" y="3716280"/>
            <a:ext cx="230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mbrána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diastolické poloz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084720" y="4508640"/>
            <a:ext cx="230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mbrána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systolické poloz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395280" y="5659560"/>
            <a:ext cx="7920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ozměr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průměr membrány 65 mm, celková délka vč. nátrubků 100mm, průměry nátrubků 18 mm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meze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kalcifikace membrány v místech maximálního ohybového namáhání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Princip elektromechanického čerpadla – testován i jako 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50920" y="1268280"/>
            <a:ext cx="38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hyb </a:t>
            </a:r>
            <a:r>
              <a:rPr b="0" lang="cs-CZ" sz="1800" spc="-1" strike="noStrike">
                <a:solidFill>
                  <a:srgbClr val="33cc33"/>
                </a:solidFill>
                <a:latin typeface="Times New Roman"/>
              </a:rPr>
              <a:t>membrá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e vyvoláván elektromotorem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95280" y="2278080"/>
            <a:ext cx="4753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evýhody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ětší rozměr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lze nezávisle regulovat levou a pravou komoru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hod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iniaturizace řídicí jednotk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žnost bezdrátového přenosu energie přes pokožku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4" name="Picture 11" descr="VAD3"/>
          <p:cNvPicPr/>
          <p:nvPr/>
        </p:nvPicPr>
        <p:blipFill>
          <a:blip r:embed="rId1"/>
          <a:srcRect l="0" t="1664" r="0" b="0"/>
          <a:stretch/>
        </p:blipFill>
        <p:spPr>
          <a:xfrm>
            <a:off x="5170320" y="1195560"/>
            <a:ext cx="30736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15:47Z</dcterms:modified>
  <cp:revision>299</cp:revision>
  <dc:subject/>
  <dc:title>Biomechanics  of smooth muscle cells </dc:title>
</cp:coreProperties>
</file>