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9A2F-FA1D-4AD8-AC0E-E4F49D049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2492-33A7-4B36-99EA-E82C1C33F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1D49-52D0-4C6B-83AF-35C9B68EA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C6C8-8A5D-4C7A-9554-46291D3F4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B5C7-0506-4609-9F9D-2B21C12B9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75D4-48F1-4D95-B2C9-F17004FD2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91C8-3658-4B1C-AB34-BC10D0771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F7F4-F336-4BA0-9359-8DD9D7CDD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4982-4F96-42B9-B686-4B476FDDA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9A5B-DF7D-4579-A30D-C8B73FC4C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7882-1E8B-4617-B8FB-B292E7079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8880-B0CB-4FCB-9D63-372D6FF38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E1DA6-2757-4D0B-8B05-8DA70885C4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Porovnání výchozí odhadnuté křivky s křivkou získanou iterační výpočtovou simulací </a:t>
            </a:r>
            <a:br>
              <a:rPr sz="2800"/>
            </a:b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homogenní nelineárně-elastický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755640" y="1989000"/>
          <a:ext cx="7704000" cy="4411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989000"/>
                    <a:ext cx="7704000" cy="441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7T10:58:10Z</dcterms:created>
  <dc:creator>Jiri Bursa</dc:creator>
  <dc:description/>
  <dc:language>en-US</dc:language>
  <cp:lastModifiedBy>umt</cp:lastModifiedBy>
  <dcterms:modified xsi:type="dcterms:W3CDTF">2007-01-08T13:02:50Z</dcterms:modified>
  <cp:revision>3</cp:revision>
  <dc:subject/>
  <dc:title>Porovnání výchozí odhadnuté křivky     s křivkou získanou iterační výpočtovou simulací  homogenní nelineárně-elastický model</dc:title>
</cp:coreProperties>
</file>