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FFB-6B32-4CF5-9836-B4307E8F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E70-7145-4EC0-97B8-E67D3645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533-9D6A-4B5C-8C43-A6958C5F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53A-907B-4B60-914E-DDF88249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204-6461-4AFC-ADDC-4C2DC005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D71-A273-4FB8-BC9C-46EFF664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359-B024-4828-A300-55BE9A89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6F0-9D74-4A6B-9453-73DA0D48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475-53CF-4958-93A6-CA08BFE3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CF7-7EF8-4189-9C40-3D23276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CBB-B193-44B5-A18A-3D0B1D8F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33C-4EC1-46DF-8575-37E7BAA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A012-BED7-4184-9A84-AAC0A924720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zonuly occludens (tight junction)</a:t>
            </a:r>
            <a:br>
              <a:rPr sz="36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 spojení bez štěrbiny mezi oběma membrá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43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60360" y="184464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30040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xtracelulární pro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0720" y="5516640"/>
            <a:ext cx="158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ytoplasmická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360" y="5516640"/>
            <a:ext cx="194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ransmembránová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5080" y="5516640"/>
            <a:ext cx="158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xtracelulární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480" y="4681440"/>
            <a:ext cx="93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cclud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67640" y="3933720"/>
            <a:ext cx="71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6-12-27T12:32:07Z</dcterms:modified>
  <cp:revision>5</cp:revision>
  <dc:subject/>
  <dc:title>Schéma spojení gap junction  Spojení zajišťující transport iontů, aminokyselin, sacharidů a jiných rozpuštěných látek mezi buňkami</dc:title>
</cp:coreProperties>
</file>