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BF05-7C37-447C-B58A-55067D2E8DC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e máme druhý případ komplexního modelu. Cytoskelet je modelován tensegritní strukturou, a ostatní složky buňky jsou modelovány jako kontin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e máme druhý případ komplexního modelu. Cytoskelet je modelován tensegritní strukturou, a ostatní složky buňky jsou modelovány jako kontin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e máme druhý případ komplexního modelu. Cytoskelet je modelován tensegritní strukturou, a ostatní složky buňky jsou modelovány jako kontin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4B75-573E-4BC1-B966-146DACF8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7DE5-B088-44BA-B724-FEDF9890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B1BB-726C-4521-9492-E674A190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5A0E-B6FE-4A8A-AFA0-E931E842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7AB5-E836-4BF1-A6C7-D8ACD424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F391-743E-478F-8421-0D6E7BBE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3A81-F821-4A51-A31C-467C83FA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8AEA-77D9-4E2F-A9B6-5E3E1395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D897-879F-4519-AEEB-24F60F27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053B-1277-4AAB-B42C-9FA7BC76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7795-BAB5-43AC-AD2B-BADD5E9A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1521-7290-4D01-885D-AFE0BC6D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AFBE-C69C-4A28-869C-1BEE9AB8C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Komplexní model buňky</a:t>
            </a: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400"/>
            </a:b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s tensegritní soustavou modelující cytoskle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55640" y="1484280"/>
            <a:ext cx="7777080" cy="4897440"/>
            <a:chOff x="755640" y="1484280"/>
            <a:chExt cx="7777080" cy="4897440"/>
          </a:xfrm>
        </p:grpSpPr>
        <p:pic>
          <p:nvPicPr>
            <p:cNvPr id="50" name="" descr=""/>
            <p:cNvPicPr/>
            <p:nvPr/>
          </p:nvPicPr>
          <p:blipFill>
            <a:blip r:embed="rId1"/>
            <a:srcRect l="17546" t="6999" r="28074" b="6999"/>
            <a:stretch/>
          </p:blipFill>
          <p:spPr>
            <a:xfrm>
              <a:off x="1512720" y="2146320"/>
              <a:ext cx="2949840" cy="35496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1" name=""/>
            <p:cNvGraphicFramePr/>
            <p:nvPr/>
          </p:nvGraphicFramePr>
          <p:xfrm>
            <a:off x="4457880" y="2467080"/>
            <a:ext cx="2908080" cy="3078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457880" y="2467080"/>
                      <a:ext cx="2908080" cy="307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"/>
            <p:cNvSpPr/>
            <p:nvPr/>
          </p:nvSpPr>
          <p:spPr>
            <a:xfrm>
              <a:off x="1512720" y="5670720"/>
              <a:ext cx="635976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br. X: Model hladké svalové buňk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(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ádro, cytoplazma a membránový skelet modelovaný skořepinovými prvk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(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ýztužná tensegritní struktura buňky – model hlubokého endoskeletu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12720" y="5076720"/>
              <a:ext cx="4716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57880" y="5076720"/>
              <a:ext cx="469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b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1055160" y="2733840"/>
              <a:ext cx="824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1055160" y="2263680"/>
              <a:ext cx="824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55800" y="2263680"/>
              <a:ext cx="471600" cy="47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55800" y="2733840"/>
              <a:ext cx="706320" cy="82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341520" y="2381400"/>
              <a:ext cx="471600" cy="12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98720" y="2381400"/>
              <a:ext cx="1060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313320" y="2851200"/>
              <a:ext cx="471600" cy="58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770520" y="2851200"/>
              <a:ext cx="941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5627520" y="2146320"/>
              <a:ext cx="47160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28720" y="1674720"/>
              <a:ext cx="15825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membrá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vý  skel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26920" y="2381400"/>
              <a:ext cx="12956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ytoplas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51280" y="1989000"/>
              <a:ext cx="106056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ádr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84720" y="2146320"/>
              <a:ext cx="1530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84720" y="1484280"/>
              <a:ext cx="1295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ahové čle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588000" y="2205000"/>
              <a:ext cx="141300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lakové čle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55640" y="5734080"/>
              <a:ext cx="77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nsegritní soustava je vložena do kontinuálního modelu buňk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Použití komplexního strukturního modelu pro modelování buňky na podlož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J. McGarry G., Prendergast P.J., A three-dimensional finite element model of an      adherent eukaryotic cell, European cells and</a:t>
            </a:r>
            <a:r>
              <a:rPr b="1" i="1" lang="cs-CZ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Materiáles,27-34,2004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960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Komplexní výpočtový model buň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zentovaný komplexní strukturní model buňky je tvořen těmito prvk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Bunečná membrána (sarkolemma) a membránový skelet – modelovány pomocí skořepinových prv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Cyt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l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modelována pomocí 3D solid prvků jako velmi poddajné kontinu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ádro a přilehlé organely modelováno pomocí 3D solid prvků jako méně poddajné kontinu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luboký cytoskelet - modelovaný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segritní soustavo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reprezentující síť mikrotubulů a mikrofila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Komplexní strukturní model </a:t>
            </a:r>
            <a:br>
              <a:rPr sz="3600"/>
            </a:b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se složitější tensegritní strukturou cytoskele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222200" y="1773360"/>
            <a:ext cx="6805800" cy="4534920"/>
            <a:chOff x="1222200" y="1773360"/>
            <a:chExt cx="6805800" cy="4534920"/>
          </a:xfrm>
        </p:grpSpPr>
        <p:pic>
          <p:nvPicPr>
            <p:cNvPr id="79" name="" descr=""/>
            <p:cNvPicPr/>
            <p:nvPr/>
          </p:nvPicPr>
          <p:blipFill>
            <a:blip r:embed="rId1"/>
            <a:srcRect l="14518" t="5618" r="17192" b="4969"/>
            <a:stretch/>
          </p:blipFill>
          <p:spPr>
            <a:xfrm>
              <a:off x="4908600" y="1952280"/>
              <a:ext cx="3060360" cy="370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2"/>
            <a:srcRect l="15707" t="5744" r="16792" b="3705"/>
            <a:stretch/>
          </p:blipFill>
          <p:spPr>
            <a:xfrm>
              <a:off x="1505520" y="1773360"/>
              <a:ext cx="3230280" cy="399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1222200" y="1778040"/>
              <a:ext cx="141768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ytoplaz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89200" y="5612040"/>
              <a:ext cx="141768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ádr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42960" y="5616000"/>
              <a:ext cx="198504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mbránový skel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41240" y="1773360"/>
              <a:ext cx="141768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ytoskel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22200" y="2121840"/>
              <a:ext cx="99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14360" y="2121840"/>
              <a:ext cx="141480" cy="52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341240" y="2121840"/>
              <a:ext cx="85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92280" y="2121840"/>
              <a:ext cx="2268360" cy="122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4340880" y="2121840"/>
              <a:ext cx="850680" cy="10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89200" y="5960880"/>
              <a:ext cx="42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214360" y="3864960"/>
              <a:ext cx="850680" cy="209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42960" y="5956920"/>
              <a:ext cx="155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5617080" y="4561920"/>
              <a:ext cx="425160" cy="13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32400" y="5608440"/>
              <a:ext cx="1701360" cy="69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grinové recep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32400" y="5956920"/>
              <a:ext cx="170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5191920" y="4039560"/>
              <a:ext cx="141480" cy="19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5334120" y="2782440"/>
              <a:ext cx="432360" cy="31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Tvorba komplexního strukturního modelu </a:t>
            </a:r>
            <a:br>
              <a:rPr sz="3600"/>
            </a:b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buňky přilnuté k podlož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14195" t="2940" r="14363" b="2450"/>
          <a:stretch/>
        </p:blipFill>
        <p:spPr>
          <a:xfrm>
            <a:off x="1076400" y="2205000"/>
            <a:ext cx="2558880" cy="255924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1139400" y="1916280"/>
            <a:ext cx="2424240" cy="1871280"/>
            <a:chOff x="1139400" y="1916280"/>
            <a:chExt cx="2424240" cy="1871280"/>
          </a:xfrm>
        </p:grpSpPr>
        <p:sp>
          <p:nvSpPr>
            <p:cNvPr id="101" name=""/>
            <p:cNvSpPr/>
            <p:nvPr/>
          </p:nvSpPr>
          <p:spPr>
            <a:xfrm flipH="1">
              <a:off x="1375560" y="2504880"/>
              <a:ext cx="18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1982880" y="2143800"/>
              <a:ext cx="144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356200" y="1916280"/>
              <a:ext cx="18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727000" y="2121120"/>
              <a:ext cx="18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344760" y="2521800"/>
              <a:ext cx="18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946600" y="2773080"/>
              <a:ext cx="18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561840" y="3128400"/>
              <a:ext cx="18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1755000" y="2756160"/>
              <a:ext cx="144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139400" y="3148200"/>
              <a:ext cx="18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757160" y="3503880"/>
              <a:ext cx="18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960280" y="3519720"/>
              <a:ext cx="18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" descr=""/>
          <p:cNvPicPr/>
          <p:nvPr/>
        </p:nvPicPr>
        <p:blipFill>
          <a:blip r:embed="rId2"/>
          <a:srcRect l="11367" t="27078" r="11872" b="27260"/>
          <a:stretch/>
        </p:blipFill>
        <p:spPr>
          <a:xfrm>
            <a:off x="4572000" y="1628640"/>
            <a:ext cx="3745080" cy="1571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rcRect l="20030" t="41985" r="17572" b="15113"/>
          <a:stretch/>
        </p:blipFill>
        <p:spPr>
          <a:xfrm>
            <a:off x="4067280" y="3760920"/>
            <a:ext cx="482580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20:01:12Z</dcterms:created>
  <dc:creator>Jiri Bursa</dc:creator>
  <dc:description/>
  <dc:language>en-US</dc:language>
  <cp:lastModifiedBy>Jiří Burša</cp:lastModifiedBy>
  <dcterms:modified xsi:type="dcterms:W3CDTF">2009-03-31T14:13:17Z</dcterms:modified>
  <cp:revision>9</cp:revision>
  <dc:subject/>
  <dc:title>Komplexní model buňky  s tensegritní soustavou modelující cytosklelet</dc:title>
</cp:coreProperties>
</file>