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03A-3491-4772-8783-9E89F0BB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A17-89F4-48D7-A0AA-E15A216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F24-21C0-4197-90A1-5FE1D83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9D7-9E78-4F8F-90DA-BF227725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95C-0C1A-492D-92D8-77F5F4D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914-6028-4A9F-A1F3-7C9F689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46A-EDC8-4BAC-B96D-76961502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E42-6FCA-4176-87BF-24C0556B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46F-9324-4070-BC16-6B22534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FB5-340A-4AB0-A6C8-C316B5A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ADE-2C61-4231-A9B6-5E7A580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F67-4556-4E22-AB95-D583865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F97-DE13-44E7-ADD1-F911EB0EE1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96520"/>
            <a:ext cx="4752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Základní typy tkání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 tepně s ateromatózním plá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73560" y="4219560"/>
            <a:ext cx="30351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olesterolov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ádro plátu – převážně pěnové buň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tepna7sateromem-geom"/>
          <p:cNvPicPr/>
          <p:nvPr/>
        </p:nvPicPr>
        <p:blipFill>
          <a:blip r:embed="rId1"/>
          <a:srcRect l="18116" t="10836" r="18116" b="21672"/>
          <a:stretch/>
        </p:blipFill>
        <p:spPr>
          <a:xfrm>
            <a:off x="539640" y="1724040"/>
            <a:ext cx="496728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6083280" y="1628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2060640"/>
            <a:ext cx="25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084720" y="2924280"/>
            <a:ext cx="25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083280" y="5300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ibróz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ryt plá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2843280" y="1844640"/>
            <a:ext cx="324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348000" y="2276640"/>
            <a:ext cx="27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 flipV="1">
            <a:off x="3563640" y="2708280"/>
            <a:ext cx="25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 flipV="1">
            <a:off x="4067280" y="386028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 flipH="1" flipV="1">
            <a:off x="2842920" y="414972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6156360" y="5732640"/>
            <a:ext cx="208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zbytkový průtočný průř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 flipV="1">
            <a:off x="1907640" y="4149360"/>
            <a:ext cx="424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1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09:08Z</dcterms:created>
  <dc:creator>Jiří Burša</dc:creator>
  <dc:description/>
  <dc:language>en-US</dc:language>
  <cp:lastModifiedBy>Jiří Burša</cp:lastModifiedBy>
  <dcterms:modified xsi:type="dcterms:W3CDTF">2011-09-05T07:58:05Z</dcterms:modified>
  <cp:revision>5</cp:revision>
  <dc:subject/>
  <dc:title>Základní typy tkání  v tepně s ateromatózním plátem</dc:title>
</cp:coreProperties>
</file>