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45B0-2334-4B9C-9767-B464A8E7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EA4E-25CA-400E-9015-4D9A18E2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DAF4-343A-4AEA-9C3C-AB5F73F6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C146-4BCE-4D4F-9B0B-6D286B71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374F-3661-4450-8589-5ABC92D4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66A4-D599-4F21-9973-DF8BF725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D9D6-A091-4484-8381-ACA0163F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EC94-A9D1-4E73-98A9-5F2832F9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E81F-7674-4EB8-B646-131A9758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DE11-963D-4A36-9951-97F12C0C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7A8B-C972-4EF0-B5F0-624E6B35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7849-203E-466A-B6A0-652B5E44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2177-5B12-4B0F-90B3-50BB75CB569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111320"/>
            <a:ext cx="842472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soustavy ve tvaru pravidelného osmiúhelníka s pěti úhlopříčnými pruty (staticky určité) zvýší jiné uspořádání prutů (vpravo) úroveň symetrie, ale nevede k vytvoření tensegritní struk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pop007"/>
          <p:cNvPicPr/>
          <p:nvPr/>
        </p:nvPicPr>
        <p:blipFill>
          <a:blip r:embed="rId1"/>
          <a:srcRect l="17546" t="9332" r="17546" b="9332"/>
          <a:stretch/>
        </p:blipFill>
        <p:spPr>
          <a:xfrm>
            <a:off x="685800" y="2924280"/>
            <a:ext cx="3882960" cy="3470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pop009"/>
          <p:cNvPicPr/>
          <p:nvPr/>
        </p:nvPicPr>
        <p:blipFill>
          <a:blip r:embed="rId2"/>
          <a:srcRect l="17546" t="9332" r="17546" b="9332"/>
          <a:stretch/>
        </p:blipFill>
        <p:spPr>
          <a:xfrm>
            <a:off x="4788000" y="2852640"/>
            <a:ext cx="3768480" cy="3546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395280" y="333360"/>
            <a:ext cx="842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Arial"/>
              </a:rPr>
              <a:t>Soustava tvaru osmiúhelní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Arial"/>
              </a:rPr>
              <a:t>Soustava tvaru osmiúhelníka</a:t>
            </a: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pop019"/>
          <p:cNvPicPr/>
          <p:nvPr/>
        </p:nvPicPr>
        <p:blipFill>
          <a:blip r:embed="rId1"/>
          <a:srcRect l="17546" t="9332" r="17546" b="9332"/>
          <a:stretch/>
        </p:blipFill>
        <p:spPr>
          <a:xfrm>
            <a:off x="685800" y="2797200"/>
            <a:ext cx="3809880" cy="3584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pop020"/>
          <p:cNvPicPr/>
          <p:nvPr/>
        </p:nvPicPr>
        <p:blipFill>
          <a:blip r:embed="rId2"/>
          <a:srcRect l="17546" t="9332" r="17546" b="9332"/>
          <a:stretch/>
        </p:blipFill>
        <p:spPr>
          <a:xfrm>
            <a:off x="4788000" y="2798640"/>
            <a:ext cx="3800520" cy="35830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611280" y="907920"/>
            <a:ext cx="82818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nsegritní soustavu lze vytvořit dvěma následujícími způsoby: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  přidáním dalšího prutu a jejich uspořádáním do tvaru se čtyřmi osami symetrie (vlevo)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odebráním jednoho prutu a přeuspořádáním zbylých úhlopříčných prutů do tvaru hvězdy (vpravo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424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Arial"/>
              </a:rPr>
              <a:t>Soustava tvaru osmiúhelníka</a:t>
            </a: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66560" y="1413000"/>
            <a:ext cx="331344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stavu s tensegritními vlastnostmi lze vytvořit také vložením dvou vzájemně pootočených čtverců do pravidelného osmiúhelníka; tyto dva čtverce tvořené vzpěrami jsou vzájemně spojeny pouze prostřednictvím lan, což je jedním ze základních rysů tensegritních soustav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pop012"/>
          <p:cNvPicPr/>
          <p:nvPr/>
        </p:nvPicPr>
        <p:blipFill>
          <a:blip r:embed="rId1"/>
          <a:srcRect l="17546" t="9332" r="17546" b="9332"/>
          <a:stretch/>
        </p:blipFill>
        <p:spPr>
          <a:xfrm>
            <a:off x="3924360" y="1413000"/>
            <a:ext cx="4537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2:23:29Z</dcterms:created>
  <dc:creator>Jiri Bursa</dc:creator>
  <dc:description/>
  <dc:language>en-US</dc:language>
  <cp:lastModifiedBy>Jiří Burša</cp:lastModifiedBy>
  <dcterms:modified xsi:type="dcterms:W3CDTF">2012-03-27T13:18:08Z</dcterms:modified>
  <cp:revision>7</cp:revision>
  <dc:subject/>
  <dc:title>In a regular octagonal structure, another arrangement of struts shown in the right figure enhances the degree of symmetry of the structure without adding any more one strut; however, the structure does not show all the features of tensegrity structures. </dc:title>
</cp:coreProperties>
</file>