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71B-0249-43F9-84D8-09B6C09F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702-FBEE-4CFC-9D82-CF937535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CB2-22E2-4350-A8CB-00838DD1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A67-EFF1-4EC1-8BA6-9DF3E939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7C9-B8B6-47ED-82E2-AA92BE91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5ED-37CA-4FC3-8955-AF40925F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B16-E5AC-4650-83B9-4EC67E45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622-6CE4-44E5-A473-670F1785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508-F347-462E-A4F4-23BD515C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59D-C733-47CE-84E4-638CBC7A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D36-C31C-4331-9AD6-38FC0130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372-E843-4751-8B6A-1AEE62E8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361F-CDE0-45F4-8CFF-B73692506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chéma hemidesmozomu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transmembránové spojení mezi intermediálními filamenty a extracelulárními kolagenními vlák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6120" y="1600200"/>
            <a:ext cx="609912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29520" y="2992320"/>
            <a:ext cx="122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asilární membrá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8200" y="2060640"/>
            <a:ext cx="144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termediální fila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2631960"/>
            <a:ext cx="144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racelulární krycí des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2720" y="446076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tvicí fib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9:22:23Z</dcterms:created>
  <dc:creator>Jiri Bursa</dc:creator>
  <dc:description/>
  <dc:language>en-US</dc:language>
  <cp:lastModifiedBy>Jiri Bursa</cp:lastModifiedBy>
  <dcterms:modified xsi:type="dcterms:W3CDTF">2006-12-27T12:51:12Z</dcterms:modified>
  <cp:revision>4</cp:revision>
  <dc:subject/>
  <dc:title>Scheme of hemidesmosome – i.e. transmembrane connection between intermediate filaments and extracellular collagen fibres</dc:title>
</cp:coreProperties>
</file>