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3E4-5304-417D-A8A9-71BEF395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CFA-55DF-4855-85C4-7635BB7F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3E0-2F00-4C66-B849-3304476F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654-FDEF-4522-A862-22853DCF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4A6-0824-4A91-8ED5-E899323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3D1-211F-47AD-9653-30BC813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5EA-B23F-4E97-BF6C-49B2AB1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27A-EE94-44FA-BDE8-87DFC5C0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29C-9954-4E94-9DC8-371FBC6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C44-EC43-4FC5-9E10-8B20AA6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137-0DF8-4A42-BC90-2EEF196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17D-3224-4F39-B061-D504A69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55C1-38AB-4785-B63B-935A92C4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rovnání výsledků vtlačovací zkoušky s MKP simulac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křivky (plné černé čáry) v porovnání se simulací s hrotem umístěným na centrálním membránovém receptoru (modrá čárkovaná čára), mimo receptor (červená tečkovaná čára dolní) a na bočním receptoru (červená tečkovaná čára horn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16000" y="1700280"/>
            <a:ext cx="7128000" cy="3960720"/>
            <a:chOff x="1116000" y="1700280"/>
            <a:chExt cx="7128000" cy="39607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116000" y="1700280"/>
              <a:ext cx="7128000" cy="3960720"/>
            </a:xfrm>
            <a:prstGeom prst="rect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2264400" y="1997640"/>
              <a:ext cx="5428440" cy="2944800"/>
            </a:xfrm>
            <a:custGeom>
              <a:avLst/>
              <a:gdLst/>
              <a:ahLst/>
              <a:rect l="l" t="t" r="r" b="b"/>
              <a:pathLst>
                <a:path w="5400" h="3600">
                  <a:moveTo>
                    <a:pt x="0" y="3600"/>
                  </a:moveTo>
                  <a:cubicBezTo>
                    <a:pt x="450" y="3450"/>
                    <a:pt x="900" y="3300"/>
                    <a:pt x="1800" y="2700"/>
                  </a:cubicBezTo>
                  <a:cubicBezTo>
                    <a:pt x="2700" y="2100"/>
                    <a:pt x="4800" y="420"/>
                    <a:pt x="540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0160" y="3634200"/>
              <a:ext cx="5332680" cy="1338840"/>
            </a:xfrm>
            <a:custGeom>
              <a:avLst/>
              <a:gdLst/>
              <a:ahLst/>
              <a:rect l="l" t="t" r="r" b="b"/>
              <a:pathLst>
                <a:path w="5400" h="1620">
                  <a:moveTo>
                    <a:pt x="0" y="1620"/>
                  </a:moveTo>
                  <a:cubicBezTo>
                    <a:pt x="900" y="1395"/>
                    <a:pt x="1800" y="1170"/>
                    <a:pt x="2700" y="900"/>
                  </a:cubicBezTo>
                  <a:cubicBezTo>
                    <a:pt x="3600" y="630"/>
                    <a:pt x="4920" y="30"/>
                    <a:pt x="54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38200" y="1700280"/>
              <a:ext cx="1976760" cy="3316680"/>
            </a:xfrm>
            <a:custGeom>
              <a:avLst/>
              <a:gdLst/>
              <a:ahLst/>
              <a:rect l="l" t="t" r="r" b="b"/>
              <a:pathLst>
                <a:path w="1800" h="3870">
                  <a:moveTo>
                    <a:pt x="0" y="3780"/>
                  </a:moveTo>
                  <a:cubicBezTo>
                    <a:pt x="390" y="3825"/>
                    <a:pt x="780" y="3870"/>
                    <a:pt x="1080" y="3240"/>
                  </a:cubicBezTo>
                  <a:cubicBezTo>
                    <a:pt x="1380" y="2610"/>
                    <a:pt x="1680" y="510"/>
                    <a:pt x="18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9640" y="5661000"/>
            <a:ext cx="8132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y podle: Miyazaki et al. (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 Tensile properties and loc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iffness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372280"/>
            <a:ext cx="24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 vtlačení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1316520" y="2707920"/>
            <a:ext cx="4460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 [n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3:41:35Z</dcterms:created>
  <dc:creator>Jiří Burša</dc:creator>
  <dc:description/>
  <dc:language>en-US</dc:language>
  <cp:lastModifiedBy>Jiří Burša</cp:lastModifiedBy>
  <dcterms:modified xsi:type="dcterms:W3CDTF">2007-01-04T13:55:08Z</dcterms:modified>
  <cp:revision>7</cp:revision>
  <dc:subject/>
  <dc:title>Experimental curves (solid black lines) compared with simulations with the tip located at central membrane receptor (blue dashed line) or outside this receptor (red dotted lines)</dc:title>
</cp:coreProperties>
</file>