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4AF-A5C3-47A9-AEA4-28E54E09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C4F-529E-440F-8528-6FE8611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637-48FB-4A24-BCFD-A327C3FC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5E8-F414-4E1E-AA4A-1FA5B6BE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5EC-7CFA-42B4-8784-0787223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92B-2AD1-4204-A69C-7938D7E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FB5-6D4E-4314-8BD1-7C51C336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C6A-AC03-4FFA-84F5-3EAD2CAA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1FA-E7BD-4118-82F2-0D7E411F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940-EC9B-406A-B9E2-1619D199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FED-426E-457F-AACD-A64E04B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D82-DC91-46EA-80DC-9EF7B6A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7687-2928-42E3-B675-20B513F7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rovnání experimentální a simulované křivky -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mogenní nelineárně elast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78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565360"/>
          <a:ext cx="741204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65360"/>
                    <a:ext cx="741204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0:27Z</dcterms:created>
  <dc:creator>Jiri Bursa</dc:creator>
  <dc:description/>
  <dc:language>en-US</dc:language>
  <cp:lastModifiedBy>Jiri Bursa</cp:lastModifiedBy>
  <dcterms:modified xsi:type="dcterms:W3CDTF">2007-01-07T10:53:21Z</dcterms:modified>
  <cp:revision>2</cp:revision>
  <dc:subject/>
  <dc:title>Comparison of experimental and simulated curves - homogeneous non-linear elastic model</dc:title>
</cp:coreProperties>
</file>