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1D1-0C40-4363-92DF-56B5DAEAF6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je model strukturní diskrétní. Pro modelování mechanického chování cytoskeletu se někdy využívá tzv. tensegritních struktur ,které vykazují podobné mechanické vlastnosti jako buňky. O těchto strukturách si něco řekneme za chví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9DA-7656-4FA8-857D-606E2D4E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B69-860A-4A1C-B720-9DF3538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128-68C7-4156-A7D7-A903D930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63E-C659-4A13-A80C-B3E84B88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F6E-DAB1-4924-AA41-F102B66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9E5-F153-4E92-9A42-923AC5BF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439-93A4-4F10-BCE2-4F2342D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5E9-A055-4B2B-AC81-7E2BF094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D40-B0F7-40A9-8C2D-069094D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CB9-340C-48A4-A7F7-DC84D87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1FD-757A-4848-B622-E7C50DD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AE5-D191-426E-A7FC-2D1EFD41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316-1B9F-4210-8108-383590B695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Strukturní model – diskrétní </a:t>
            </a:r>
            <a:br>
              <a:rPr sz="37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(tensegritní soust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ltan C.; Stamenovic D.; Ingber D.E., A Computational Tensegrity Model Predicts Dynamic Rheological Behaviors in Living Cells, Annals of Biomedical Engineering, Vol. 32, No. 4, pp. 520–530,  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305160" cy="294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421" r="0" b="3323"/>
          <a:stretch/>
        </p:blipFill>
        <p:spPr>
          <a:xfrm>
            <a:off x="4724280" y="19810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9:21Z</dcterms:created>
  <dc:creator>Jiří Burša</dc:creator>
  <dc:description/>
  <dc:language>en-US</dc:language>
  <cp:lastModifiedBy>Jiří Burša</cp:lastModifiedBy>
  <dcterms:modified xsi:type="dcterms:W3CDTF">2007-01-04T14:29:45Z</dcterms:modified>
  <cp:revision>1</cp:revision>
  <dc:subject/>
  <dc:title>Strukturní model – diskrétní  (tensegritní soustava)</dc:title>
</cp:coreProperties>
</file>