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B2D-AED2-4ACE-8C22-0FCAE015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5AF-AEA2-4F03-AF8D-86D855B7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FA2-DF2F-46E7-9FD0-7F308230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715-CC42-42DA-A864-41061954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284-C222-4F5A-A1C1-89A2F27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FC2-FD76-4E2F-8319-D1C6588D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37F-0195-455D-BB40-6E62AD9A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4E4-B978-4D29-893C-008DD7CB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ADE-E64C-4C37-B857-7CC43BC9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D9F-D700-4A51-BC40-59C03C32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920-6E25-40E3-A1BA-F9706C46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8A1-F096-46BF-957B-B82A4CE6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C68C-A592-4706-853E-50975AE5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Molekulární struktura kolagenových fibril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(podle Biochemie, Vo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840720" cy="431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1940040"/>
            <a:ext cx="7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r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637000"/>
            <a:ext cx="122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 molek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29797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ázdná zó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5272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óna překry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3120" y="462276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jitá šroubo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65320" y="3730680"/>
            <a:ext cx="108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kula kolag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0680" y="5950080"/>
            <a:ext cx="1871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pická sekv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2:52:48Z</dcterms:created>
  <dc:creator>Jiri Bursa</dc:creator>
  <dc:description/>
  <dc:language>en-US</dc:language>
  <cp:lastModifiedBy>Jiri Bursa</cp:lastModifiedBy>
  <dcterms:modified xsi:type="dcterms:W3CDTF">2006-12-27T13:04:48Z</dcterms:modified>
  <cp:revision>4</cp:revision>
  <dc:subject/>
  <dc:title>Mollecular structure of collagen fibril (from Biochemie, Voet)</dc:title>
</cp:coreProperties>
</file>