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1EA-A874-46D0-BD85-1ABE805B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D5C-BC92-477B-88B9-D95AC4DC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831-D853-4A8D-951D-E14F83FB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084-3C75-49B3-A32C-B967E766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BC2-963D-4464-879D-69EF4D4C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D12-BFC5-4374-B780-BB4FEF77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E18-CC6B-4CBB-A704-F63E881B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13E-10CF-40B6-B5E1-6B3E265A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F09-8CE3-40E1-A962-836694A1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4BDE-C31E-4FEC-8A09-E84ACF9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F17-0B6F-43F4-B1B3-61DBCC9C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C9A-19F3-49B9-AF3D-34F920DA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EB1B-7E1B-4501-8BA4-412F73E77B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KLOSNER_SEGAL_fit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11164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onstitutivní modely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 měkké tkáně </a:t>
            </a: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-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002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yperelastic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vzhledem k výrazně zpevňujícímu charakteru deformačně-napěťových křivek jsou vhodné jiné modely než pro technické elastom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rt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iskoelastic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orie lineární viskoelasticity (s malými deformace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orie nelineární viskoelasticity (s velkými deformace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y zohledňujíc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valový to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ly zohledňující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strukturu tkáně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ěr kolagenních vlák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anizotrop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4" descr=""/>
          <p:cNvPicPr/>
          <p:nvPr/>
        </p:nvPicPr>
        <p:blipFill>
          <a:blip r:embed="rId1"/>
          <a:stretch/>
        </p:blipFill>
        <p:spPr>
          <a:xfrm>
            <a:off x="4500720" y="290520"/>
            <a:ext cx="43192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363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Závislosti napětí na přetvoření pro různé typy zkoušek simulované logaritmickým mod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Obdélník 8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Obdélník 9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3" name="Obrázek 7" descr="energie2D-1.JPG"/>
          <p:cNvPicPr/>
          <p:nvPr/>
        </p:nvPicPr>
        <p:blipFill>
          <a:blip r:embed="rId1"/>
          <a:srcRect l="10157" t="19932" r="13283" b="19932"/>
          <a:stretch/>
        </p:blipFill>
        <p:spPr>
          <a:xfrm>
            <a:off x="928800" y="1428840"/>
            <a:ext cx="76262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13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Hyperelastické modely </a:t>
            </a:r>
            <a:br>
              <a:rPr sz="36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tvořené speciálně 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13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nizotropní exponenciální model - Holzap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zotropní část měrné energie napjatosti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niz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uplat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en tehd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ou-li vlákna namáhána v tahu, ted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maticky dána následovn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měrná energie napjatos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, k1, k2, 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so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álové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s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kované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aria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avé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uchy-Gre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v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formac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yjadřují deformaci výztužných vlá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=det(F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řetí invariant tenzoru deformačního gradient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0"/>
              <p:cNvSpPr txBox="1"/>
              <p:nvPr/>
            </p:nvSpPr>
            <p:spPr>
              <a:xfrm>
                <a:off x="2411280" y="1482840"/>
                <a:ext cx="4548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2"/>
              <p:cNvSpPr txBox="1"/>
              <p:nvPr/>
            </p:nvSpPr>
            <p:spPr>
              <a:xfrm>
                <a:off x="971640" y="2781360"/>
                <a:ext cx="3095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6891480" y="2997360"/>
                <a:ext cx="9936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6"/>
              <p:cNvSpPr txBox="1"/>
              <p:nvPr/>
            </p:nvSpPr>
            <p:spPr>
              <a:xfrm>
                <a:off x="1979640" y="3429000"/>
                <a:ext cx="266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8"/>
              <p:cNvSpPr txBox="1"/>
              <p:nvPr/>
            </p:nvSpPr>
            <p:spPr>
              <a:xfrm>
                <a:off x="6912000" y="3500280"/>
                <a:ext cx="11160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6877080" y="4070520"/>
                <a:ext cx="12240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6948360" y="4653000"/>
                <a:ext cx="1008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4"/>
              <p:cNvSpPr txBox="1"/>
              <p:nvPr/>
            </p:nvSpPr>
            <p:spPr>
              <a:xfrm>
                <a:off x="2673360" y="3933720"/>
                <a:ext cx="2690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6"/>
              <p:cNvSpPr txBox="1"/>
              <p:nvPr/>
            </p:nvSpPr>
            <p:spPr>
              <a:xfrm>
                <a:off x="4284720" y="4653000"/>
                <a:ext cx="1476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Obdélník 20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onstitutivní modely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iskoelastick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é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materi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ály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s velk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i deformac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matické formulace viskoelastických konstitutivních modelů respektujících velké deformace jsou analogické formulacím hyperelastickým. Protože se však jedná o stavy termodynamicky nerovnovážné, místo funkce měrné energie napjatosti se používá Helmholtzova volná energie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-TS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T je absolutní teplota, S je entropie, pro elastické materiály jsou obě energie totožné). Tato energie se vyjadřuje v obecném tvar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            je objemová složka Helmholtzovy volné energie,          je její izochorická (deviátorová) složka,       je deviátorová část pravého Cauchy-Greenova tenzoru deformace, J je třetí invariant tenzoru deformačního gradientu,          j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žin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unkcí popisujících nevratnou část Helmholtzovy volné energie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množina funkcí popisujících časovou závislost deformace.  Pro matematický popis lze využívat reologických modelů podobně jako u lineární viskoelasticity, podrobnosti lze nalézt např. v níže uvedené literatuř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74760" y="54450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imo, J.C., "On fully three-dimensional finite strain viscoelastic damage model: Formulation and computational aspects", Comput. Meth. In Appl. Mech. Eng., Vol. 60, pp. 153-173 (1987)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G.A. Holzapfel, "On large strain viscoelasticity: continuum formulation and finite element applications to elastomeric structures", Int. J. Numer. Meth. Eng., Vol. 39, pp. 3903-3926 (1996)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403280" y="2924280"/>
                <a:ext cx="332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900000" y="3481560"/>
                <a:ext cx="4320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5"/>
              <p:cNvSpPr txBox="1"/>
              <p:nvPr/>
            </p:nvSpPr>
            <p:spPr>
              <a:xfrm>
                <a:off x="5435640" y="3462480"/>
                <a:ext cx="431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3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8"/>
              <p:cNvSpPr txBox="1"/>
              <p:nvPr/>
            </p:nvSpPr>
            <p:spPr>
              <a:xfrm>
                <a:off x="2355840" y="3716280"/>
                <a:ext cx="200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1"/>
              <p:cNvSpPr txBox="1"/>
              <p:nvPr/>
            </p:nvSpPr>
            <p:spPr>
              <a:xfrm>
                <a:off x="4444920" y="3976560"/>
                <a:ext cx="2714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Konstitutivní modely zohledňující svalový 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yto modely rozkládají Cauchyho tenzor napětí n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asív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část - určuje ze vztahu pro měrnou energii napjatosti při pasívním chování (ovlivněném hlavně elastinem a kolagenem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vn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ást - vyjadřující vliv hladké svalovi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tivní složka napětí je pak funkcí nejen deformace, ale i koncentrace volných kalciových kationtů ve svalových buňká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krétně autoř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yjadřují aktivní složku tenzoru napětí hladké svaloviny vzta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74760" y="5803920"/>
            <a:ext cx="8229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Rachev A., Hayashi K.: Theoretical study of the effects of vascular smooth muscle contraction on strain and stress distributions in arteries. 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Ann. Biomed. Engr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, Vol. 27, 1999, pp. 459-468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68360" y="3860640"/>
            <a:ext cx="836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stanta A nabývá hodnot od 0 kPa (relaxovaný-pasívní stav) do 100 kPa (plně aktivovaný stav), bazální tonus odpovídá hodnotě A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50kPa,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Ca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 vyjadřuje intracelulární koncentraci kalciových iontů,  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sou poměrná protažení, při nichž kontraktilní síla dosahuje maximální a minimální hodnoty,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jednotkový vektor směru svalových vláken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2484360" y="3295800"/>
                <a:ext cx="37846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Konstitutivní modely zohledňující svalový 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39640" y="5587920"/>
            <a:ext cx="8064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ulliger M.A., Rachev A., Stergiopulos N.: A constitutive formulation of arterial mechanics including vascular smooth muscle tone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Am J Physiol Heart Circ Physiol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Vol. 287, 2004, pp. H1335-H1343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2421000"/>
            <a:ext cx="8353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VSM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 podíl hladkého svalstva v příčném průřezu,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VS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je jeho Youngův modul pružnosti,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 vnitřní proměnná charakterizující tonus hladkého svalstva hodnotami od 0 (pro svalovinu plně relaxovanou, tj. zcela pasívní) do 1 (pro svalovinu ve stavu maximální kontrakce)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 může být funkcí koncentrace vasokonstrikčních látek nebo může být funkcí deformace stěny, aby postihla remodelaci cévní stěny jako odezvu na změnu jejího zatížení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68360" y="1197000"/>
            <a:ext cx="8362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utoř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]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yjadřují vliv aktivace hladké svaloviny vztah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2168640" y="1785960"/>
                <a:ext cx="4275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s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SM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S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  <m:sup/>
                            </m:sSubSup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Klosner-Segal (izotrop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35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model vychází z 9-parametrického modelu Mooney-Riv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2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3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ateriálové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odifikované invarianty pravého Cauchy-Greenova tenzor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de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stavíme-li v tomto modelu parametry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a nulu, dostáváme model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losner-Sega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ý je považován za vhodný pro měkké tkáně. Výhodou je, že se dá použít i v takovém programovém systému, kde je implementován pouze výše uvedený model Mooney-Rivl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 ANSYSu však nelze jeho parametry spočítat, je nutné je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ředem urči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vynechání uvedených členů pak dostáváme rovnici měrné energie napjatosti ve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1403280" y="1341360"/>
                <a:ext cx="69138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5"/>
              <p:cNvSpPr txBox="1"/>
              <p:nvPr/>
            </p:nvSpPr>
            <p:spPr>
              <a:xfrm>
                <a:off x="1187280" y="2803680"/>
                <a:ext cx="195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8"/>
              <p:cNvSpPr txBox="1"/>
              <p:nvPr/>
            </p:nvSpPr>
            <p:spPr>
              <a:xfrm>
                <a:off x="1908000" y="1773360"/>
                <a:ext cx="6102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9"/>
              <p:cNvSpPr txBox="1"/>
              <p:nvPr/>
            </p:nvSpPr>
            <p:spPr>
              <a:xfrm>
                <a:off x="1324080" y="5214960"/>
                <a:ext cx="6381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" name="Obdélník 7"/>
          <p:cNvSpPr/>
          <p:nvPr/>
        </p:nvSpPr>
        <p:spPr>
          <a:xfrm>
            <a:off x="500040" y="577044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losner, J. M. and Segal, A. (1969) Mechanical characterization of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atural rubber. PIBAL Report 6942 Polytechnic Inst. Brooklyn,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NY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Raghavan-Vorp (izotrop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35164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model vychází rovněž z modelu Mooney-Riv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2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3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ateriálové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odifikované invarianty Cauchy-Greenova tenzoru de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stavíme-li v tomto modelu parametry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a nulu, dostáváme model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aghavan-Vorp*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ý byl vytvořen a otestován speciálně pro měkké tkáně stěny tepny (aneurysma). Výhodou je, že se dá použít i v takovém programovém systému, kde je implementován pouze výše uvedený model Mooney-Rivl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 ANSYSu však nelze jeho parametry spočítat, je nutné je předem určit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vynechání uvedených členů pak dostáváme rovnici měrné energie napjatosti ve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1403280" y="1341360"/>
                <a:ext cx="69138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187280" y="2803680"/>
                <a:ext cx="195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908000" y="1773360"/>
                <a:ext cx="6102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2857680" y="5000760"/>
                <a:ext cx="3330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" name="Rectangle 3"/>
          <p:cNvSpPr/>
          <p:nvPr/>
        </p:nvSpPr>
        <p:spPr>
          <a:xfrm>
            <a:off x="649440" y="5715000"/>
            <a:ext cx="8351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*) </a:t>
            </a:r>
            <a:r>
              <a:rPr b="0" lang="cs-CZ" sz="1800" spc="-1" strike="noStrike">
                <a:solidFill>
                  <a:srgbClr val="808080"/>
                </a:solidFill>
                <a:latin typeface="Times New Roman"/>
              </a:rPr>
              <a:t>Raghavan  ML, Vorp DA: Toward a biomechanical tool to evaluate rupture potential of abdominal aortic aneurysma: identification of a finite strain constitutive model and evaluation of its applicability. Journal of  Biomechanics 33( 2000) 475-482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Arruda-Boyce (izotrop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model na rozdíl od předchozích modelů ryze fenomenologických vychází ze struktury materiálu a zavádí v energii napjatosti mezní protažení strukturních řetězců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 počáteční modul pružnosti ve smy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 mezní protažení strukturních řetězc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 = parametr stlačitelnosti materiálu, daný vztahem           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 K je objemový modul pruž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 modifikovaný první invariant pravého Cauchy-Greenova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zoru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 = třetí invariant tenzoru deformačního gradien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—› ∞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taneme model Neo-Hoo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6804000" y="3789360"/>
                <a:ext cx="7621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539640" y="1844640"/>
                <a:ext cx="4681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809800" y="2565360"/>
                <a:ext cx="5507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7375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e>
                    </m:d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J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1258920" y="458136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Omezení modelu Arruda-Boyce </a:t>
            </a:r>
            <a:br>
              <a:rPr sz="36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075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 Arruda Boyce není schopen dostatečně přesně popsat výrazně zpevňující experimentální křivku měkkých t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1282680" y="1916280"/>
          <a:ext cx="6458040" cy="44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916280"/>
                    <a:ext cx="645804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Hyperelastické modely</a:t>
            </a:r>
            <a:br>
              <a:rPr sz="40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tvořené speciálně 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Izotropní exponenciální model - Del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 a, b, d jsou materiálové parametry, 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e modifikovaný první invariant pravého Cauchy-Greenova tenzoru deformace, J je třetí invariant tenzoru deformačního gradientu. Původní model bez objemové složky navrhl Demiray*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rtotropní exponenciální model Fungova typ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á nejjednodušší t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 c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sou materiálové parametry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sou složky Green-Lagrangeova tenzoru přetvoření. Uvedený tvar zanedbává radiální přetvoření, pro jejich zahrnutí se použije  rozšířená formulace, k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2554200" y="1484280"/>
                <a:ext cx="2809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" name="Group 26"/>
          <p:cNvGrpSpPr/>
          <p:nvPr/>
        </p:nvGrpSpPr>
        <p:grpSpPr>
          <a:xfrm>
            <a:off x="1109520" y="3573360"/>
            <a:ext cx="6918120" cy="576000"/>
            <a:chOff x="1109520" y="3573360"/>
            <a:chExt cx="6918120" cy="576000"/>
          </a:xfrm>
        </p:grpSpPr>
        <mc:AlternateContent>
          <mc:Choice xmlns:a14="http://schemas.microsoft.com/office/drawing/2010/main" Requires="a14">
            <p:sp>
              <p:nvSpPr>
                <p:cNvPr id="77" name="Object 19"/>
                <p:cNvSpPr txBox="1"/>
                <p:nvPr/>
              </p:nvSpPr>
              <p:spPr>
                <a:xfrm>
                  <a:off x="1109520" y="3576960"/>
                  <a:ext cx="1887120" cy="57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2</m:t>
                      </m:r>
                      <m:r>
                        <m:t xml:space="preserve">c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Q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Object 20"/>
                <p:cNvSpPr txBox="1"/>
                <p:nvPr/>
              </p:nvSpPr>
              <p:spPr>
                <a:xfrm>
                  <a:off x="5226480" y="3576960"/>
                  <a:ext cx="28011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Text Box 21"/>
            <p:cNvSpPr/>
            <p:nvPr/>
          </p:nvSpPr>
          <p:spPr>
            <a:xfrm>
              <a:off x="3441240" y="3573360"/>
              <a:ext cx="13723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, kd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24"/>
              <p:cNvSpPr txBox="1"/>
              <p:nvPr/>
            </p:nvSpPr>
            <p:spPr>
              <a:xfrm>
                <a:off x="1463760" y="5229360"/>
                <a:ext cx="5556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Rectangle 12"/>
          <p:cNvSpPr/>
          <p:nvPr/>
        </p:nvSpPr>
        <p:spPr>
          <a:xfrm>
            <a:off x="457200" y="5848200"/>
            <a:ext cx="8075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539640" y="5805360"/>
            <a:ext cx="8075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*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iray, H., "A note on the elasticity of soft biological tissues", Journal of Biomechanics 5, pp. 309-311, 1972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Hyperelastické modely</a:t>
            </a:r>
            <a:br>
              <a:rPr sz="3600"/>
            </a:b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tvořené speciálně 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002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rtotropní logaritmickýmodel - Haya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c, 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materiálové parametry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složky Green-Lagrangeova tenzoru přetvoření. Uvedený tvar rovněž zanedbává radiální přetvoř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rtotropní polynomický model  - Maltzahn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byl formulován ve tv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materiálové parametry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složky Green-Lagrangeova tenzoru přetvoření. Uvedený tvar rovněž zanedbává radiální přetvoř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utor otestoval, že přidávání dalších členů k použitému polynomu vlastnosti modelu podstatně nezlepš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189920" y="5734080"/>
            <a:ext cx="55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1454040" y="1628640"/>
            <a:ext cx="6357960" cy="601560"/>
            <a:chOff x="1454040" y="1628640"/>
            <a:chExt cx="6357960" cy="601560"/>
          </a:xfrm>
        </p:grpSpPr>
        <mc:AlternateContent>
          <mc:Choice xmlns:a14="http://schemas.microsoft.com/office/drawing/2010/main" Requires="a14">
            <p:sp>
              <p:nvSpPr>
                <p:cNvPr id="89" name="Object 16"/>
                <p:cNvSpPr txBox="1"/>
                <p:nvPr/>
              </p:nvSpPr>
              <p:spPr>
                <a:xfrm>
                  <a:off x="1454040" y="1792440"/>
                  <a:ext cx="15303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Object 17"/>
                <p:cNvSpPr txBox="1"/>
                <p:nvPr/>
              </p:nvSpPr>
              <p:spPr>
                <a:xfrm>
                  <a:off x="4419360" y="1641960"/>
                  <a:ext cx="263556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Text Box 18"/>
            <p:cNvSpPr/>
            <p:nvPr/>
          </p:nvSpPr>
          <p:spPr>
            <a:xfrm>
              <a:off x="7282080" y="1628640"/>
              <a:ext cx="5299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2" name="Text Box 19"/>
            <p:cNvSpPr/>
            <p:nvPr/>
          </p:nvSpPr>
          <p:spPr>
            <a:xfrm>
              <a:off x="3253320" y="1748880"/>
              <a:ext cx="9540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808080"/>
                  </a:solidFill>
                  <a:latin typeface="Times New Roman"/>
                </a:rPr>
                <a:t>, kde</a:t>
              </a: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Object 23"/>
              <p:cNvSpPr txBox="1"/>
              <p:nvPr/>
            </p:nvSpPr>
            <p:spPr>
              <a:xfrm>
                <a:off x="2674800" y="3741840"/>
                <a:ext cx="27608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175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Závislost napětí na dvou složkách přetvoření (simulovaná logaritmickým modelem) </a:t>
            </a:r>
            <a:br>
              <a:rPr sz="3200"/>
            </a:br>
            <a:r>
              <a:rPr b="0" lang="cs-CZ" sz="2800" spc="-1" strike="noStrike">
                <a:solidFill>
                  <a:srgbClr val="0000ff"/>
                </a:solidFill>
                <a:latin typeface="Times New Roman"/>
              </a:rPr>
              <a:t>dává obecnou prostorovou ploch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3880" y="1714680"/>
            <a:ext cx="8075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zy touto plochou na obr. vpravo představují závislosti napětí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a přetvořeních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ři základních typech dvouosých zkouš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8" name="Obrázek 6" descr="energie3D.JPG"/>
          <p:cNvPicPr/>
          <p:nvPr/>
        </p:nvPicPr>
        <p:blipFill>
          <a:blip r:embed="rId1"/>
          <a:srcRect l="20536" t="19389" r="26261" b="10818"/>
          <a:stretch/>
        </p:blipFill>
        <p:spPr>
          <a:xfrm>
            <a:off x="357120" y="242892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99" name="Obrázek 7" descr="energie2D-2.JPG"/>
          <p:cNvPicPr/>
          <p:nvPr/>
        </p:nvPicPr>
        <p:blipFill>
          <a:blip r:embed="rId2"/>
          <a:srcRect l="22509" t="21068" r="19495" b="13263"/>
          <a:stretch/>
        </p:blipFill>
        <p:spPr>
          <a:xfrm>
            <a:off x="4286160" y="2786040"/>
            <a:ext cx="433548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Obdélník 8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Obdélník 9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363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Znázornění různých typů tahových zkoušek v rovině dvou složek přetvoř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Obdélník 8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6" name="Obdélník 9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7" name="Obrázek 10" descr="energie2D-3.JPG"/>
          <p:cNvPicPr/>
          <p:nvPr/>
        </p:nvPicPr>
        <p:blipFill>
          <a:blip r:embed="rId1"/>
          <a:srcRect l="0" t="12391" r="0" b="0"/>
          <a:stretch/>
        </p:blipFill>
        <p:spPr>
          <a:xfrm>
            <a:off x="1400040" y="1413000"/>
            <a:ext cx="674388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3-06T08:06:57Z</dcterms:modified>
  <cp:revision>302</cp:revision>
  <dc:subject/>
  <dc:title>Biomechanics  of smooth muscle cells </dc:title>
</cp:coreProperties>
</file>