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79B-30EA-46DA-B1E9-63BDDD5B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5FE-C676-4E63-9986-255D3281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024-712A-47BA-A285-E7893305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242-D464-4D49-9D73-A38B6E9A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083-19D0-424C-BB82-218F19D7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1B7-3648-4E48-83F4-96267E28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4FF-455E-403A-AC60-A3565266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DCE-C32C-4A85-B9C7-3629EEA4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F39-61F3-494C-ADB2-31163945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E9D-3539-47D4-BA41-787008AD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129-6558-43A2-B870-59DB63F7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E71-2253-4936-900B-1EAB116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1FE5-EA4F-4676-BF0C-151AEDCCA3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agnetick&#225;_pinzeta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Kontinuální strukturní model - příklad (</a:t>
            </a:r>
            <a:r>
              <a:rPr b="0" lang="cs-CZ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gnetická pinzeta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1258920" y="2276640"/>
            <a:ext cx="7859160" cy="3159000"/>
            <a:chOff x="1258920" y="2276640"/>
            <a:chExt cx="7859160" cy="3159000"/>
          </a:xfrm>
        </p:grpSpPr>
        <p:pic>
          <p:nvPicPr>
            <p:cNvPr id="43" name="Picture 8" descr=""/>
            <p:cNvPicPr/>
            <p:nvPr/>
          </p:nvPicPr>
          <p:blipFill>
            <a:blip r:embed="rId2"/>
            <a:stretch/>
          </p:blipFill>
          <p:spPr>
            <a:xfrm>
              <a:off x="1258920" y="2276640"/>
              <a:ext cx="7846920" cy="31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9"/>
            <p:cNvSpPr/>
            <p:nvPr/>
          </p:nvSpPr>
          <p:spPr>
            <a:xfrm>
              <a:off x="2136960" y="2523960"/>
              <a:ext cx="336276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Magnetická kulička Φ 4.5 µ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0"/>
            <p:cNvSpPr/>
            <p:nvPr/>
          </p:nvSpPr>
          <p:spPr>
            <a:xfrm>
              <a:off x="7048800" y="3487680"/>
              <a:ext cx="206928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Membrá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1"/>
            <p:cNvSpPr/>
            <p:nvPr/>
          </p:nvSpPr>
          <p:spPr>
            <a:xfrm>
              <a:off x="7055280" y="4115160"/>
              <a:ext cx="154908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ytoplaz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6:00:03Z</dcterms:created>
  <dc:creator>Jiri Bursa</dc:creator>
  <dc:description/>
  <dc:language>en-US</dc:language>
  <cp:lastModifiedBy>Jiří Burša</cp:lastModifiedBy>
  <dcterms:modified xsi:type="dcterms:W3CDTF">2012-03-28T08:17:01Z</dcterms:modified>
  <cp:revision>3</cp:revision>
  <dc:subject/>
  <dc:title>Kontinuální strukturní model - příklad (magnetická pinzeta)</dc:title>
</cp:coreProperties>
</file>