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C751-39B1-4A2B-BB53-48969D7552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6E72-A2A0-4116-BF4A-D12DB57002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khle vypadá cytoskelet ve skuteč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141-0E28-4E07-B133-6E16C547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EC5-C0C2-49A3-8C11-BE634AEB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A0A-8C3E-457D-8434-C120AC9C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4AB-1AE4-4DD6-9E52-307C7349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823-55AC-4227-81C9-54684C2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3F7-0B91-497B-8E63-8F2ADFAE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095-64A8-42DB-B486-2FE5C60E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BCF-6531-46D9-B97D-E98D6A44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954-5214-4694-8F7F-EE419AE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386-13B2-4A52-AE09-4FCB137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1F7-CDEB-43F0-A8A5-F92FEF91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4B6-B4A5-4914-90F4-A2B9EE7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AE9F-E57B-4F55-B6D6-6FA87CA8C3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kolagen-fibrila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Cyto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výztužná struktura buňky, tvořená bílkovinnými vlákny různých druhů, která jsou rozmístěna  v cytoplazmě  a plní zde různé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í časovou stálost a současně i proměnnost tvaru buňky (tedy její odpor proti deformac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ží k transportu informací tělem buň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ží k dynamické organizaci cytoplazmy (přesuny organel a chromosomů v buň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ožňují pohyb buně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mi prvky cytoskeletu jsou: mikrotubuly, mikrofilamenta a intermediální (střední) filam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ákladní klasifikace cytoskele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uboký cyto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endoskelet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vořen převážně mikrotubuly  a intermediálními filamenty napříč celou buňkou. Jeho hlavní funkcí je transport látek a buněčných komponent, opora buňky a účast na jejím děl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rtikální 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í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h výztužných vláken pod buněčnou membránou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xo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íť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lagen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elastinových a fibronektinových vláken v mimobuněčném prosto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Cytoskelet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- fo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actin_microtubules_02[1]"/>
          <p:cNvPicPr/>
          <p:nvPr/>
        </p:nvPicPr>
        <p:blipFill>
          <a:blip r:embed="rId1"/>
          <a:stretch/>
        </p:blipFill>
        <p:spPr>
          <a:xfrm>
            <a:off x="684360" y="2120760"/>
            <a:ext cx="3887640" cy="346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3714840" cy="3233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4643280" y="1628640"/>
            <a:ext cx="36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krofilamenta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ytoskel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krotubu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6410" t="0" r="0" b="7401"/>
          <a:stretch/>
        </p:blipFill>
        <p:spPr>
          <a:xfrm>
            <a:off x="4502160" y="4149720"/>
            <a:ext cx="3814920" cy="209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564320" cy="2647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84360" y="981000"/>
            <a:ext cx="755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zolované mikrotubu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krotubuly v buň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39640" y="4292640"/>
            <a:ext cx="38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mikrotubulu – trubice tvořené z molekul tubuli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ký struktura, vyrůstající z centroso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ost růstu: cca 0.0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ost rozpadu: cca 0.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  <a:ea typeface="Arial"/>
              </a:rPr>
              <a:t>Remodelace c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  <a:ea typeface="Arial"/>
              </a:rPr>
              <a:t>ytoskelet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  <a:ea typeface="Arial"/>
              </a:rPr>
              <a:t>u 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  <a:ea typeface="Arial"/>
              </a:rPr>
              <a:t>v hladkých svalových buň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0504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tvary hladkých svalových buně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řetenovitý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řirozený tvar v cévní stěně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ul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buňky volně kultivované „in vitro“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lochý paraboloid – buňky kultivované na podlož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změně tvaru buňky probíhá neustálá reorganizace jejího 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toskele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mj. jako odezva na zatížení buňk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ledem k neustálé remodelaci cytoskeletu lze předpokládat, že jeho deformačně – napěťový stav na začátku každého zatěžovacího procesu je téměř stejný – beznapěťový nebo mírně předepjatý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vislost tuhosti buňky na rychlosti zatěžování je vlivem remodelace cytoskeletu opačná než u většiny makromolekulárních lát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uňka – tužší při nižší rychlosti zatěž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kromolekulární (viskoelastické) látky - tužší při vyšší rychlosti zatěž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- posuvy při magnetic twisting cyt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000" y="58276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s cytoskeletem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bez cytoskelet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hemicky rozruš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468360" y="1413000"/>
            <a:ext cx="8137440" cy="4464000"/>
            <a:chOff x="468360" y="1413000"/>
            <a:chExt cx="8137440" cy="4464000"/>
          </a:xfrm>
        </p:grpSpPr>
        <p:pic>
          <p:nvPicPr>
            <p:cNvPr id="66" name="Picture 6" descr=""/>
            <p:cNvPicPr/>
            <p:nvPr/>
          </p:nvPicPr>
          <p:blipFill>
            <a:blip r:embed="rId1"/>
            <a:stretch/>
          </p:blipFill>
          <p:spPr>
            <a:xfrm>
              <a:off x="4537080" y="1413000"/>
              <a:ext cx="4068720" cy="44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"/>
            <p:cNvPicPr/>
            <p:nvPr/>
          </p:nvPicPr>
          <p:blipFill>
            <a:blip r:embed="rId2"/>
            <a:srcRect l="0" t="0" r="19715" b="0"/>
            <a:stretch/>
          </p:blipFill>
          <p:spPr>
            <a:xfrm>
              <a:off x="468360" y="1647720"/>
              <a:ext cx="3130560" cy="42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1067400" y="2006640"/>
              <a:ext cx="508320" cy="65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cs-CZ" sz="16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5243400" y="2043000"/>
              <a:ext cx="508320" cy="65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cs-CZ" sz="1600" spc="-1" strike="noStrike">
                  <a:solidFill>
                    <a:srgbClr val="ffff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1994040" y="1429920"/>
              <a:ext cx="84744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6062760" y="1429920"/>
              <a:ext cx="84744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2" descr=""/>
            <p:cNvPicPr/>
            <p:nvPr/>
          </p:nvPicPr>
          <p:blipFill>
            <a:blip r:embed="rId3"/>
            <a:stretch/>
          </p:blipFill>
          <p:spPr>
            <a:xfrm>
              <a:off x="3635640" y="1525320"/>
              <a:ext cx="717480" cy="371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-1. hlavní napětí ve výpočtovém mod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4000" y="58276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s cytoskeletem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bez cytoskelet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2"/>
          <p:cNvGrpSpPr/>
          <p:nvPr/>
        </p:nvGrpSpPr>
        <p:grpSpPr>
          <a:xfrm>
            <a:off x="1625760" y="1557360"/>
            <a:ext cx="5322600" cy="4118040"/>
            <a:chOff x="1625760" y="1557360"/>
            <a:chExt cx="5322600" cy="4118040"/>
          </a:xfrm>
        </p:grpSpPr>
        <p:pic>
          <p:nvPicPr>
            <p:cNvPr id="76" name="Picture 13" descr="pop009"/>
            <p:cNvPicPr/>
            <p:nvPr/>
          </p:nvPicPr>
          <p:blipFill>
            <a:blip r:embed="rId1"/>
            <a:srcRect l="16898" t="29579" r="17469" b="29400"/>
            <a:stretch/>
          </p:blipFill>
          <p:spPr>
            <a:xfrm>
              <a:off x="1625760" y="1557360"/>
              <a:ext cx="227844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4" descr="pop003"/>
            <p:cNvPicPr/>
            <p:nvPr/>
          </p:nvPicPr>
          <p:blipFill>
            <a:blip r:embed="rId2"/>
            <a:srcRect l="15522" t="31558" r="16976" b="31601"/>
            <a:stretch/>
          </p:blipFill>
          <p:spPr>
            <a:xfrm>
              <a:off x="4459320" y="1675800"/>
              <a:ext cx="223884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5" descr="pop010"/>
            <p:cNvPicPr/>
            <p:nvPr/>
          </p:nvPicPr>
          <p:blipFill>
            <a:blip r:embed="rId3"/>
            <a:srcRect l="16132" t="8124" r="17725" b="3397"/>
            <a:stretch/>
          </p:blipFill>
          <p:spPr>
            <a:xfrm>
              <a:off x="1625760" y="2859840"/>
              <a:ext cx="2327760" cy="23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6" descr="pop002"/>
            <p:cNvPicPr/>
            <p:nvPr/>
          </p:nvPicPr>
          <p:blipFill>
            <a:blip r:embed="rId4"/>
            <a:srcRect l="16946" t="4843" r="18048" b="7816"/>
            <a:stretch/>
          </p:blipFill>
          <p:spPr>
            <a:xfrm>
              <a:off x="4459320" y="2859840"/>
              <a:ext cx="2260800" cy="228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7" descr="pop000"/>
            <p:cNvPicPr/>
            <p:nvPr/>
          </p:nvPicPr>
          <p:blipFill>
            <a:blip r:embed="rId5"/>
            <a:srcRect l="7745" t="89282" r="5703" b="849"/>
            <a:stretch/>
          </p:blipFill>
          <p:spPr>
            <a:xfrm>
              <a:off x="1625760" y="5221440"/>
              <a:ext cx="532260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8"/>
            <p:cNvSpPr/>
            <p:nvPr/>
          </p:nvSpPr>
          <p:spPr>
            <a:xfrm>
              <a:off x="1625760" y="4872960"/>
              <a:ext cx="353880" cy="35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4340880" y="4865760"/>
              <a:ext cx="353880" cy="35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</a:t>
            </a:r>
            <a:br>
              <a:rPr sz="18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-1. hlavní napětí ve výpočtovém modelu zkoušky vtlač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pop018"/>
          <p:cNvPicPr/>
          <p:nvPr/>
        </p:nvPicPr>
        <p:blipFill>
          <a:blip r:embed="rId1"/>
          <a:srcRect l="18515" t="5716" r="19248" b="10853"/>
          <a:stretch/>
        </p:blipFill>
        <p:spPr>
          <a:xfrm>
            <a:off x="2265480" y="1800360"/>
            <a:ext cx="45385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12:39Z</dcterms:created>
  <dc:creator>Jiri Bursa</dc:creator>
  <dc:description/>
  <dc:language>en-US</dc:language>
  <cp:lastModifiedBy>Jiří Burša</cp:lastModifiedBy>
  <dcterms:modified xsi:type="dcterms:W3CDTF">2011-11-09T14:32:12Z</dcterms:modified>
  <cp:revision>22</cp:revision>
  <dc:subject/>
  <dc:title>Cytoskelet  výztužná struktura buňky, tvořená především mikrotubuly a mikrofilamenty</dc:title>
</cp:coreProperties>
</file>