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AD8-4E20-4C07-9AF3-2464E04E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78E-3109-4DB2-8D01-798B1BE3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7DD-D40B-4624-B28A-746D540C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40A-569F-49F2-AA07-082DD12C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93B-1029-4072-BCD5-47DAF106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FE5-44C0-498C-8A03-3643E786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A89-9089-4068-A470-F76431C5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DC64-3971-4426-8A27-4D9B40E8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926-EB43-4FFE-95D6-A57267E8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3720-BC9A-4D31-8489-9EA94B69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073-1AB0-4BAB-BF11-3B7DD6EA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03A-2AE3-44E4-865B-814D359B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C192-00C3-422B-9D3A-9EE4F0302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exus (spojení gap junction) - schéma </a:t>
            </a:r>
            <a:br>
              <a:rPr sz="36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Spojení zajišťující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transport iontů, aminokyselin, sacharidů a jiných rozpuštěných látek mezi buňk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98760" y="2071800"/>
            <a:ext cx="609912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1989000"/>
            <a:ext cx="216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é membrá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2720" y="28764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á membrá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3452760"/>
            <a:ext cx="10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onnex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04000" y="4029120"/>
            <a:ext cx="1008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zavře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32720" y="4941720"/>
            <a:ext cx="1008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evře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446076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onnex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000" y="6405480"/>
            <a:ext cx="2232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imobuněčný pro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8:54:35Z</dcterms:created>
  <dc:creator>Jiri Bursa</dc:creator>
  <dc:description/>
  <dc:language>en-US</dc:language>
  <cp:lastModifiedBy>Jiri Bursa</cp:lastModifiedBy>
  <dcterms:modified xsi:type="dcterms:W3CDTF">2007-01-07T10:46:04Z</dcterms:modified>
  <cp:revision>4</cp:revision>
  <dc:subject/>
  <dc:title>Schéma spojení gap junction  Spojení zajišťující transport iontů, aminokyselin, sacharidů a jiných rozpuštěných látek mezi buňkami</dc:title>
</cp:coreProperties>
</file>