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252F-30BE-4298-A2BA-D19CA04135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případ nestruktutního modelu, v tomto případě se jedná o výpočtovou simulaci aspiračního testu mikropipet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31E-AEFE-41D6-9ED7-ED17D532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BA7-8AB9-41CD-BCC5-F6B43C6B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C85-6A61-41C8-84F4-0E4AA65D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B47-F72F-4DF6-83DF-1E9306CF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09C-6F46-40F8-8A3E-3382DC09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B01-84B9-4A83-A54F-90B0F5DA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7C2-DEBE-4718-B0F0-064D15D6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1E9-3C9B-4CE6-AFAD-08A68CA6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C6D-489C-4033-A1C0-8E6A4833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F72-8EEE-4ACA-B81A-57F9D34D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4EBD-FD38-4D3B-A340-EC136D15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305-E2DC-4950-AF70-0D1BBDDD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EA35-CACC-4C4B-A3C5-B06EFF6228A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Fotografie aspirační zkoušk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555588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rickey, W., F. Baaijens, T. Laursen, L. Alexopoulos, and F. Guilak., Determination of the Poisson’s ratio of the cell: Recovery properties of chondrocytes after release from complete micropipette aspiration. J. Biomechanics, 2004.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23403"/>
          <a:stretch/>
        </p:blipFill>
        <p:spPr>
          <a:xfrm>
            <a:off x="766800" y="1606680"/>
            <a:ext cx="733428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strukturní MKP model aspirační zkouš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6014" t="20522" r="0" b="0"/>
          <a:stretch/>
        </p:blipFill>
        <p:spPr>
          <a:xfrm>
            <a:off x="112680" y="1346040"/>
            <a:ext cx="4819680" cy="301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75360" y="3173400"/>
            <a:ext cx="3429000" cy="3135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76720" y="1916280"/>
            <a:ext cx="2087640" cy="95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deformovaná MKP sí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4924440"/>
            <a:ext cx="208764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formovaná MKP síť v mikropipe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3:26:30Z</dcterms:created>
  <dc:creator>Jiří Burša</dc:creator>
  <dc:description/>
  <dc:language>en-US</dc:language>
  <cp:lastModifiedBy>Jiri Bursa</cp:lastModifiedBy>
  <dcterms:modified xsi:type="dcterms:W3CDTF">2007-01-07T14:42:07Z</dcterms:modified>
  <cp:revision>4</cp:revision>
  <dc:subject/>
  <dc:title>Nestrukturní model Modelování aspirační zkoušky</dc:title>
</cp:coreProperties>
</file>