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A14-B917-45F8-88F6-EF6DB837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C1AD-2A46-4ED9-B10F-CAD95EC5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84D-5F7B-4378-80F4-EDD4F978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7165-3A8C-4C11-AEFC-1C53C4F6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C4B2-BF48-40B2-9E80-005F87EC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BDF3-D6D2-4844-A679-D97317FC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4B9-7057-4A19-AB20-6A558E3B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42CD-5625-41EB-A479-34C9A401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7737-E99D-4A23-81CF-518E6D6C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ADD0-95F8-4604-8937-854114A5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714-B8A2-4EF1-A5D0-FD15C6CB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8429-D1C7-4354-A6DA-BB128F7B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03F8-28E7-45F1-B1DD-793823E4F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ptická pinze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39640" y="2349360"/>
            <a:ext cx="4536720" cy="3095280"/>
            <a:chOff x="539640" y="2349360"/>
            <a:chExt cx="4536720" cy="3095280"/>
          </a:xfrm>
        </p:grpSpPr>
        <p:sp>
          <p:nvSpPr>
            <p:cNvPr id="43" name=""/>
            <p:cNvSpPr/>
            <p:nvPr/>
          </p:nvSpPr>
          <p:spPr>
            <a:xfrm>
              <a:off x="3467160" y="3804480"/>
              <a:ext cx="414720" cy="38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</a:t>
              </a:r>
              <a:r>
                <a:rPr b="1" lang="cs-CZ" sz="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rozpty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16920" y="3239640"/>
              <a:ext cx="591120" cy="22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</a:t>
              </a:r>
              <a:r>
                <a:rPr b="1" lang="cs-CZ" sz="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gradi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1"/>
            <a:srcRect l="2708" t="3831" r="1107" b="3339"/>
            <a:stretch/>
          </p:blipFill>
          <p:spPr>
            <a:xfrm>
              <a:off x="588240" y="2553480"/>
              <a:ext cx="4311000" cy="284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559040" y="2382120"/>
              <a:ext cx="517320" cy="49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9640" y="2349360"/>
              <a:ext cx="1335240" cy="70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řipevnění mikrokuliček       na buňk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33840" y="2535120"/>
              <a:ext cx="40104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61560" y="3211200"/>
              <a:ext cx="172404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ulička připevněná ke skleněnému povrch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35640" y="4379400"/>
              <a:ext cx="1335240" cy="58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ulička zachycená v optické past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34160" y="2516040"/>
              <a:ext cx="1335240" cy="70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67000" y="4497840"/>
              <a:ext cx="1896480" cy="32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rytrocy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600" y="4692960"/>
              <a:ext cx="1207080" cy="75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Nezatíže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08440" y="4920480"/>
              <a:ext cx="1034640" cy="49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Zatíže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003640" y="2565360"/>
            <a:ext cx="3384360" cy="2663640"/>
            <a:chOff x="5003640" y="2565360"/>
            <a:chExt cx="3384360" cy="2663640"/>
          </a:xfrm>
        </p:grpSpPr>
        <p:pic>
          <p:nvPicPr>
            <p:cNvPr id="56" name="" descr=""/>
            <p:cNvPicPr/>
            <p:nvPr/>
          </p:nvPicPr>
          <p:blipFill>
            <a:blip r:embed="rId2"/>
            <a:srcRect l="0" t="23247" r="0" b="60426"/>
            <a:stretch/>
          </p:blipFill>
          <p:spPr>
            <a:xfrm>
              <a:off x="5003640" y="2565360"/>
              <a:ext cx="3367080" cy="9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3"/>
            <a:srcRect l="13261" t="76856" r="0" b="0"/>
            <a:stretch/>
          </p:blipFill>
          <p:spPr>
            <a:xfrm>
              <a:off x="5432040" y="3808080"/>
              <a:ext cx="2955960" cy="142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1771560" y="1917720"/>
            <a:ext cx="5600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229360"/>
            <a:ext cx="763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tahování buňky pomocí optické pinze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4:06:45Z</dcterms:created>
  <dc:creator>umt</dc:creator>
  <dc:description/>
  <dc:language>en-US</dc:language>
  <cp:lastModifiedBy>umt</cp:lastModifiedBy>
  <dcterms:modified xsi:type="dcterms:W3CDTF">2007-01-08T14:09:45Z</dcterms:modified>
  <cp:revision>1</cp:revision>
  <dc:subject/>
  <dc:title>Optická pinzeta</dc:title>
</cp:coreProperties>
</file>