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C4C-64FA-4EC9-8D53-CC286785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FC4D-37ED-45C4-881D-7F0CBDD5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5875-1EAE-48EC-B56D-FC486F8D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C5D-FB79-4EA6-88D5-6D2452EF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9CB-26F4-4941-B6F4-39B31D14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498-04E1-465C-BE0B-493750DD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964-7BE5-492F-A936-AF017ADA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BB07-F0C5-4BD2-9F08-1550EE62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B9D-88F8-4A0F-965F-9DFCB941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7B41-65CA-4F93-A9F4-A71A604B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1994-014E-4516-95DB-75ABCE8E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814-FE21-44D9-9AEE-C98553D9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7352-98CA-4C2D-93CB-9D80C348209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mechanotransdukce.ppt" TargetMode="External"/><Relationship Id="rId2" Type="http://schemas.openxmlformats.org/officeDocument/2006/relationships/hyperlink" Target="file:///mechanotransdukce.ppt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Eukaryotická buň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84280"/>
            <a:ext cx="6400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to každá buňka, obsahující buněčné jádro, které jí umožň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produkci (nese genetickou informaci v podobě D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nou odezvu na změny v působení okolí na buňku (např.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echanotransdukce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ransformace změn v mechanickém zatížení buňky do její biochemické ode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696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Struktura živočišné buňky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podle Anatomie, Čihá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1271520"/>
            <a:ext cx="8305920" cy="5181840"/>
            <a:chOff x="457200" y="1271520"/>
            <a:chExt cx="8305920" cy="5181840"/>
          </a:xfrm>
        </p:grpSpPr>
        <p:pic>
          <p:nvPicPr>
            <p:cNvPr id="45" name="" descr=""/>
            <p:cNvPicPr/>
            <p:nvPr/>
          </p:nvPicPr>
          <p:blipFill>
            <a:blip r:embed="rId1"/>
            <a:srcRect l="0" t="2903" r="0" b="1369"/>
            <a:stretch/>
          </p:blipFill>
          <p:spPr>
            <a:xfrm>
              <a:off x="4007520" y="1271520"/>
              <a:ext cx="4755600" cy="472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57200" y="1624320"/>
              <a:ext cx="3604320" cy="42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Legenda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buněčná (plasmatická membrán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jádro pokryté jadernou membránou s pór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jadérko (nucleolus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agranulární endoplasmatické retikulu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granulární endoplasmatické retikul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mitochondri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desmod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kinocili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sekreční granulom nebo lyzoso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Golgiho komplex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ytoplasmatické inklus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entrosom se dvěma centriol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buněčná membrána, na povrchu glycocalyx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mikroklk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vchlípení pinocytotického váčku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10720" y="6000840"/>
              <a:ext cx="4858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2:47:31Z</dcterms:created>
  <dc:creator>Jiří Burša</dc:creator>
  <dc:description/>
  <dc:language>en-US</dc:language>
  <cp:lastModifiedBy>Jiri Bursa</cp:lastModifiedBy>
  <dcterms:modified xsi:type="dcterms:W3CDTF">2007-01-07T10:38:14Z</dcterms:modified>
  <cp:revision>4</cp:revision>
  <dc:subject/>
  <dc:title>Eukaryotická buňka</dc:title>
</cp:coreProperties>
</file>