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5FF-FE59-4E02-9D34-E5F3B1E1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A8E-9072-4DFE-BE19-D51A5D78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C51-CB83-4E15-90C7-B3161801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AB2-8F48-48F7-9733-0ADD05D2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062-03D0-438F-8C4C-32EC015C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AA5-BD54-4A84-8593-AE3B3951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1D7-A9E7-47DE-B8CF-1BC65967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4E2-2076-481D-B31F-95F090A7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29E-CC14-44AF-98F0-884072C3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513-88B9-4F6C-B68C-0176EA1A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120-7C2C-4079-B220-318A20F2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3EA-7E21-4654-B4C9-B38F5A2E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FD9F-12E9-48C1-804F-90D1AFF37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039320"/>
            <a:ext cx="842472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U soustavy tvaru pravidelného pětiúhelníka se dvěma úhlopříčnými pruty nelze pouhou změnou  uspořádání prutů vytvořit tensegritní (staticky neurčitou) soustavu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dáním jednoho prutu vznikne staticky neurčitá soustava vykazující charakteristické vlastnosti tensegritní soustavy; přestože má pouze jedinou osu symetrie, změnou délky kteréhokoli  prutu vznikne v ní předpětí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47000" y="260280"/>
            <a:ext cx="56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oustava tvaru pětiúhelní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7544" t="9334" r="17544" b="9334"/>
          <a:stretch/>
        </p:blipFill>
        <p:spPr>
          <a:xfrm>
            <a:off x="468360" y="2637000"/>
            <a:ext cx="3738600" cy="3512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7544" t="9334" r="17544" b="9334"/>
          <a:stretch/>
        </p:blipFill>
        <p:spPr>
          <a:xfrm>
            <a:off x="4681440" y="2637000"/>
            <a:ext cx="37782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0:04Z</dcterms:created>
  <dc:creator>Jiri Bursa</dc:creator>
  <dc:description/>
  <dc:language>en-US</dc:language>
  <cp:lastModifiedBy>Jiri Bursa</cp:lastModifiedBy>
  <dcterms:modified xsi:type="dcterms:W3CDTF">2006-12-28T12:21:29Z</dcterms:modified>
  <cp:revision>1</cp:revision>
  <dc:subject/>
  <dc:title>- U soustavy tvaru pravidelného pětiúhelníka se dvěma úhlopříčnými pruty nelze pouhou změnou  uspořádání prutů vytvořit tensegritní (staticky neurčitou) soustavu.  - Přidáním jednoho prutu vznikne staticky neurčitá soustava vykazující charakteristické vlastnosti tensegritní soustavy; přestože má pouze jedinou osu symetrie, změnou délky kteréhokoli  prutu vznikne v ní předpětí. </dc:title>
</cp:coreProperties>
</file>