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89A-0A0B-4286-9DB8-7812FBA0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B99-467D-413F-9D26-E25FA719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D72-397E-4FD1-9D95-398FC49F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E83-DC4D-40CA-8F63-CCBEED2E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F77-891A-4293-A43D-D88982E0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4D6-A0A4-4443-B20C-C82FAF49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5B5-D95E-48C3-B80D-DAF0396C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618-D5D1-4FEA-B45B-741BC8D3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13B-BE2C-4FA9-97F6-30AF5B36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E34-39F2-405F-9AD7-35FE1C03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798-2F44-409F-AFE4-B820BECB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707-9AD4-4293-9990-8F0DF565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ED11-A953-47F5-B7FF-6B30411B2A8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SMC-kontraktiln&#237;.ppt" TargetMode="External"/><Relationship Id="rId4" Type="http://schemas.openxmlformats.org/officeDocument/2006/relationships/hyperlink" Target="file:///SMC-kontraktiln&#237;.ppt" TargetMode="Externa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Typický tvar hladké svalové buňky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(podle Anatomie, Čihá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09480" y="1504800"/>
            <a:ext cx="7925040" cy="3652560"/>
            <a:chOff x="609480" y="1504800"/>
            <a:chExt cx="7925040" cy="3652560"/>
          </a:xfrm>
        </p:grpSpPr>
        <p:grpSp>
          <p:nvGrpSpPr>
            <p:cNvPr id="43" name=""/>
            <p:cNvGrpSpPr/>
            <p:nvPr/>
          </p:nvGrpSpPr>
          <p:grpSpPr>
            <a:xfrm>
              <a:off x="609480" y="1504800"/>
              <a:ext cx="7646040" cy="2958840"/>
              <a:chOff x="609480" y="1504800"/>
              <a:chExt cx="7646040" cy="2958840"/>
            </a:xfrm>
          </p:grpSpPr>
          <p:pic>
            <p:nvPicPr>
              <p:cNvPr id="44" name="" descr=""/>
              <p:cNvPicPr/>
              <p:nvPr/>
            </p:nvPicPr>
            <p:blipFill>
              <a:blip r:embed="rId1"/>
              <a:srcRect l="0" t="2873" r="0" b="0"/>
              <a:stretch/>
            </p:blipFill>
            <p:spPr>
              <a:xfrm>
                <a:off x="609480" y="1504800"/>
                <a:ext cx="3710520" cy="29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" descr=""/>
              <p:cNvPicPr/>
              <p:nvPr/>
            </p:nvPicPr>
            <p:blipFill>
              <a:blip r:embed="rId2"/>
              <a:srcRect l="12832" t="5658" r="7084" b="8133"/>
              <a:stretch/>
            </p:blipFill>
            <p:spPr>
              <a:xfrm>
                <a:off x="4912920" y="1647720"/>
                <a:ext cx="3342600" cy="28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" name=""/>
            <p:cNvSpPr/>
            <p:nvPr/>
          </p:nvSpPr>
          <p:spPr>
            <a:xfrm>
              <a:off x="734760" y="4461120"/>
              <a:ext cx="7799760" cy="69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ladké svalové buňky      b) Hladká svalová tká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57200" y="5316480"/>
            <a:ext cx="800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enotypy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dkých svalových buněk: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raktil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ntet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0:26:45Z</dcterms:created>
  <dc:creator>Jiří Burša</dc:creator>
  <dc:description/>
  <dc:language>en-US</dc:language>
  <cp:lastModifiedBy>Jiří Burša</cp:lastModifiedBy>
  <dcterms:modified xsi:type="dcterms:W3CDTF">2007-01-04T11:49:08Z</dcterms:modified>
  <cp:revision>3</cp:revision>
  <dc:subject/>
  <dc:title>Typický tvar hladké svalové buňky  (podle Anatomie, Čihák)</dc:title>
</cp:coreProperties>
</file>