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9AB5-9A38-4AE4-8962-772C7AB10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673E-C7B1-4E4D-9627-A3735D6BC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1603-2739-4814-8EEB-B3081D764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7EA9-7914-44EF-9CCB-655EA5973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9381-7EC5-4525-B703-7AED88A5A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E064-B9A6-42D6-8982-4F2D2F15F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C69A-10FD-4F16-A72D-191836AE0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179A-8751-4BA9-9D64-643EBA457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E2C3-2B48-437E-B1DC-746BD1C3C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64E1-7EED-468F-AFB4-7EF07A62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86F7-BA0C-4366-98EE-8ADED6A9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24EB-80C9-496A-9D21-445FF8A4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AA067-AA0F-4E95-A900-2B2669380EA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Schéma zonuly adherens</a:t>
            </a:r>
            <a:br>
              <a:rPr sz="3600"/>
            </a:b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– méně pevné  spojení se širokou štěrbinou mezi oběma membránami, založené na iontové vazb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6553440" cy="4896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971640" y="4149720"/>
            <a:ext cx="1079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Aktinová filamen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44720" y="4676760"/>
            <a:ext cx="1223640" cy="33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141800" y="1579680"/>
            <a:ext cx="20145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uněčné membrá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7T09:17:54Z</dcterms:created>
  <dc:creator>Jiri Bursa</dc:creator>
  <dc:description/>
  <dc:language>en-US</dc:language>
  <cp:lastModifiedBy>Jiri Bursa</cp:lastModifiedBy>
  <dcterms:modified xsi:type="dcterms:W3CDTF">2006-12-27T12:37:44Z</dcterms:modified>
  <cp:revision>2</cp:revision>
  <dc:subject/>
  <dc:title>Scheme of anchoring junction  – less cohesive connection with a wide gap between both membranes, based on ion cohesion</dc:title>
</cp:coreProperties>
</file>