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D4EE-6428-4D64-8588-8991EA52F1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lastní kvantifikaci by bylo možno provádět následovně:  při provádění dvou různých mechanických zkoušek pro daný typ buňky bychom zjistili při jakých úrovních zatížení dochází ke spuštění biochemických reak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CAB-2E25-4480-ABA0-5E53FA05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D34-97C9-43E4-8360-BC4F921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379-F255-441D-AAA4-0A26D6F8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D3B-56FC-4B95-A968-A3B3770E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24A-8715-4D98-BCD5-4CDBDB17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44F-7C76-4D7E-935B-EB4A6CA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9ED-C3FD-4DD3-96D1-D3BA5891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138-DE30-4AEB-B902-215E0CCB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EAF-6EF4-4825-BCFC-662FE3EC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2B1-FF23-46E2-80E9-B13C692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7F9-8879-49DE-A5AF-9C63894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607-9110-43C0-B515-558915C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7A4B-29C2-433D-9C1E-2471D2492A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ak je možno kvantifikovat vliv hodnot namáhání (napjatosti) prvků struktury buňky na aktivaci biochemických procesů v buňce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09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istit, při jakých úrovních zatížení dojde k aktivaci biochemického procesu pro daný typ buňky při dvou různých mechanických zkouš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566" t="7820" r="6410" b="0"/>
          <a:stretch/>
        </p:blipFill>
        <p:spPr>
          <a:xfrm>
            <a:off x="900000" y="4365720"/>
            <a:ext cx="2880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280" y="2538360"/>
            <a:ext cx="296208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2522880" cy="167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15572" r="0" b="0"/>
          <a:stretch/>
        </p:blipFill>
        <p:spPr>
          <a:xfrm>
            <a:off x="6084720" y="4221000"/>
            <a:ext cx="252108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56000" y="5229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5300640"/>
            <a:ext cx="12240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57336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ktivace biochemického proc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47640" y="4076640"/>
            <a:ext cx="5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2376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ce obou zkoušek při zatížení, které způsobilo aktivaci biochemických procesů při experimen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394" t="15221" r="2238" b="38562"/>
          <a:stretch/>
        </p:blipFill>
        <p:spPr>
          <a:xfrm>
            <a:off x="577800" y="3760920"/>
            <a:ext cx="3776760" cy="1579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59280" y="5084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933720"/>
            <a:ext cx="216000" cy="166680"/>
          </a:xfrm>
          <a:custGeom>
            <a:avLst/>
            <a:gdLst/>
            <a:ahLst/>
            <a:rect l="l" t="t" r="r" b="b"/>
            <a:pathLst>
              <a:path w="136" h="105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5" y="67"/>
                  <a:pt x="136" y="10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4365720"/>
            <a:ext cx="1295280" cy="7189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125" y="339"/>
                  <a:pt x="250" y="271"/>
                  <a:pt x="363" y="226"/>
                </a:cubicBezTo>
                <a:cubicBezTo>
                  <a:pt x="476" y="181"/>
                  <a:pt x="613" y="174"/>
                  <a:pt x="681" y="136"/>
                </a:cubicBezTo>
                <a:cubicBezTo>
                  <a:pt x="749" y="98"/>
                  <a:pt x="760" y="49"/>
                  <a:pt x="771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4581360"/>
            <a:ext cx="1295280" cy="516240"/>
          </a:xfrm>
          <a:custGeom>
            <a:avLst/>
            <a:gdLst/>
            <a:ahLst/>
            <a:rect l="l" t="t" r="r" b="b"/>
            <a:pathLst>
              <a:path w="816" h="325">
                <a:moveTo>
                  <a:pt x="0" y="8"/>
                </a:moveTo>
                <a:cubicBezTo>
                  <a:pt x="90" y="4"/>
                  <a:pt x="181" y="0"/>
                  <a:pt x="317" y="53"/>
                </a:cubicBezTo>
                <a:cubicBezTo>
                  <a:pt x="453" y="106"/>
                  <a:pt x="703" y="242"/>
                  <a:pt x="816" y="3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00640" y="4745160"/>
            <a:ext cx="200160" cy="10152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4797360"/>
            <a:ext cx="576000" cy="216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434016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466092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003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268000" y="4508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5516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rovnatelné hodnoty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čitého prvku struktury buň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700280"/>
            <a:ext cx="65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d by bylo dosaženo dostatečné shody u hodnot napjatosti určitých strukturních prvků výpočtového modelu buňky při úrovních zatížení odpovídajících spuštění biochemických reakcí, pak lze vyslovit hypotézu, že spuštění těchto procesů bylo iniciováno právě překročením kritických hodnot namáhání u daného strukturního prvk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0:37Z</dcterms:created>
  <dc:creator>Jiri Bursa</dc:creator>
  <dc:description/>
  <dc:language>en-US</dc:language>
  <cp:lastModifiedBy>Jiri Bursa</cp:lastModifiedBy>
  <dcterms:modified xsi:type="dcterms:W3CDTF">2007-01-07T21:29:24Z</dcterms:modified>
  <cp:revision>2</cp:revision>
  <dc:subject/>
  <dc:title>Jak je možno kvantifikovat vliv hodnot namáhání (napjatosti) prvků struktury buňky na aktivaci biochemických procesů v buňce? </dc:title>
</cp:coreProperties>
</file>