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DCC-D2E2-4591-8741-1F0FA746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80A-E9F6-4EA3-997D-961D71A0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211-4D73-4D2E-B288-8ABA49D2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6AA-7A6C-4168-9B76-7F99E30B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CEF-7A23-42ED-BD2F-C7E67A45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977C-FAEE-4480-9242-B964C680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F33-43CC-4CE7-8524-93D93F54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4FD-4ED9-4DDD-AD91-A4F5C8E1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288-42E2-467F-AE98-170D8178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8F7-8DC1-4D9D-898A-A56459D0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3D9-8B62-4943-98A6-7B40897B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B80-D24D-4FDE-B411-5BB6F158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83F0-2897-4CB2-A544-143558FA749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Konstitutivn&#237;_modely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1066680"/>
            <a:ext cx="47530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Vlastnosti stěny tep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68600"/>
            <a:ext cx="807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teriálové charakteristiky tepny vykazuj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trukturní nehomogenitu cévní stěny - je složena z několika vrstev s různou strukturou i  vlastnostmi, které jsou navíc spojitě proměnné i v osovém smě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nelineární závislost mezi napětím a deformac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ávislost mezi napětím a deformací odlišnou v tahu a tl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iskoelastické chování –závislé na č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nizotropii – materiálové vlastnosti závislé na smě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elmi nepatrnou objemovou stlačitel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ýraznou teplotní závislost vlastnos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ávislost vlastností na historii zatěž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ávislost na věku jedi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yto vlastnosti lze na různé úrovni popsat různými typy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onstitutivních modelů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těna cévy má významné odchylky od rotační symetrie, a to jak po stránce geometrie, tak materiálových vlastn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tížení tepny je několikerého druhu: pulzujícím neharmonickým zatížením vnitřním tlakem a prouděním krve, podélným protažením a zbytkovou napjat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azby cévy představují její spojení s okolním prostředím, jehož vlastnosti jsou velmi různorodé a těžce parametrizovatel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o chování cévy jsou charakteristické velké deform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ní jednoznačně definován výchozí stav materiálu cé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ktivní chování tkáně - inervace může významně měnit mechanické vlastnosti tkáně například změnou podráždění svalových vlá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2"/>
          <a:stretch/>
        </p:blipFill>
        <p:spPr>
          <a:xfrm>
            <a:off x="4356000" y="189000"/>
            <a:ext cx="453564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Vliv svalového tonusu na tuhost tepny </a:t>
            </a:r>
            <a:br>
              <a:rPr sz="3200"/>
            </a:br>
            <a:r>
              <a:rPr b="1" lang="cs-CZ" sz="2000" spc="-1" strike="noStrike">
                <a:solidFill>
                  <a:srgbClr val="0000ff"/>
                </a:solidFill>
                <a:latin typeface="Times New Roman"/>
              </a:rPr>
              <a:t>(krční tepna p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57200" y="1285920"/>
            <a:ext cx="3043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vislost tlaku v tepně (svislá osa) a jejího poloměru (vodorovná osa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árkovaná – relaxovaná svalovin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lná – svalovina podrážděná noradrenalin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9" name="Obrázek 3" descr="vliv-svaloviny.jpg"/>
          <p:cNvPicPr/>
          <p:nvPr/>
        </p:nvPicPr>
        <p:blipFill>
          <a:blip r:embed="rId1"/>
          <a:srcRect l="12126" t="0" r="0" b="11597"/>
          <a:stretch/>
        </p:blipFill>
        <p:spPr>
          <a:xfrm>
            <a:off x="3714840" y="1428840"/>
            <a:ext cx="47545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Faktory významné pro experimentální určování mechanických vlastností cévní st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57200" y="1557360"/>
            <a:ext cx="74278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vislost na živočišném druhu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vislost na věku a zdravotním stavu jedinc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vislost na teplotě a chemickém složení tkáně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zdíly mezi živou a mrtvou tká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teriál stěny není homogenní ani izotrop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ýrazně nelineání elastické chová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iskoelastické chování – závislost na rychlosti zatěžová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liv historie zatěžová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ké vlastnosti elast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4" descr="Elastin1.JPG"/>
          <p:cNvPicPr/>
          <p:nvPr/>
        </p:nvPicPr>
        <p:blipFill>
          <a:blip r:embed="rId1"/>
          <a:stretch/>
        </p:blipFill>
        <p:spPr>
          <a:xfrm>
            <a:off x="611280" y="1989000"/>
            <a:ext cx="2838240" cy="4040280"/>
          </a:xfrm>
          <a:prstGeom prst="rect">
            <a:avLst/>
          </a:prstGeom>
          <a:ln w="0">
            <a:noFill/>
          </a:ln>
        </p:spPr>
      </p:pic>
      <p:pic>
        <p:nvPicPr>
          <p:cNvPr id="48" name="Obrázek 5" descr="Elastin2.JPG"/>
          <p:cNvPicPr/>
          <p:nvPr/>
        </p:nvPicPr>
        <p:blipFill>
          <a:blip r:embed="rId2"/>
          <a:stretch/>
        </p:blipFill>
        <p:spPr>
          <a:xfrm>
            <a:off x="3911760" y="4213080"/>
            <a:ext cx="3973320" cy="1879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427640" y="142704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Měřeno na šíjním vazu po odstranění kolagenu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E= 200-400 k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velmi úzká hysterezní smyčk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tažnost až 130%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zanedbatelná relaxa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539640" y="6165720"/>
            <a:ext cx="712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ff"/>
                </a:solidFill>
                <a:latin typeface="Times New Roman"/>
              </a:rPr>
              <a:t>Valenta a kol.: Biomechanika srdečně-cévního systému, str. 197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ké vlastnosti kolag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7" descr="Kolagen1.JPG"/>
          <p:cNvPicPr/>
          <p:nvPr/>
        </p:nvPicPr>
        <p:blipFill>
          <a:blip r:embed="rId1"/>
          <a:stretch/>
        </p:blipFill>
        <p:spPr>
          <a:xfrm>
            <a:off x="468360" y="1960560"/>
            <a:ext cx="3832200" cy="4421160"/>
          </a:xfrm>
          <a:prstGeom prst="rect">
            <a:avLst/>
          </a:prstGeom>
          <a:ln w="0">
            <a:noFill/>
          </a:ln>
        </p:spPr>
      </p:pic>
      <p:pic>
        <p:nvPicPr>
          <p:cNvPr id="53" name="Obrázek 8" descr="Kolagen2.JPG"/>
          <p:cNvPicPr/>
          <p:nvPr/>
        </p:nvPicPr>
        <p:blipFill>
          <a:blip r:embed="rId2"/>
          <a:stretch/>
        </p:blipFill>
        <p:spPr>
          <a:xfrm>
            <a:off x="3995640" y="3973680"/>
            <a:ext cx="4619880" cy="2263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4427640" y="981000"/>
            <a:ext cx="3681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Měřeno na šlaše – téměř čistý kolagen. Kolagenu však existuje víc než 10 různých typů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E=100-2000 M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úzká hysterezní smyčk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tažnost 4-10 %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pevnost 90-130 Mpa;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výraznější relaxa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ké vlastnosti hladké svalo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rázek 7" descr="Hladký_sval1.JPG"/>
          <p:cNvPicPr/>
          <p:nvPr/>
        </p:nvPicPr>
        <p:blipFill>
          <a:blip r:embed="rId1"/>
          <a:stretch/>
        </p:blipFill>
        <p:spPr>
          <a:xfrm>
            <a:off x="539640" y="1197000"/>
            <a:ext cx="3629160" cy="5040360"/>
          </a:xfrm>
          <a:prstGeom prst="rect">
            <a:avLst/>
          </a:prstGeom>
          <a:ln w="0">
            <a:noFill/>
          </a:ln>
        </p:spPr>
      </p:pic>
      <p:pic>
        <p:nvPicPr>
          <p:cNvPr id="57" name="Obrázek 8" descr="Hladký_sval2.JPG"/>
          <p:cNvPicPr/>
          <p:nvPr/>
        </p:nvPicPr>
        <p:blipFill>
          <a:blip r:embed="rId2"/>
          <a:stretch/>
        </p:blipFill>
        <p:spPr>
          <a:xfrm>
            <a:off x="3995640" y="4151160"/>
            <a:ext cx="4727520" cy="1870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4427640" y="142704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Měřeno na svalovině střeva v pasívním stavu (relaxované)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E= 15-25 k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široká hysterezní smyčk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velmi výrazná relaxa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Arial"/>
              </a:rPr>
              <a:t>Složení stěny cé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825804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pén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do 0,1 mm – převážně svalov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lé a střed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pn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elký podíl svalov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ké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pn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největší podíl elast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í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truktura  podobná tepnám – obtížnější rozlišení jednotlivých vrstev, stěna tenčí, poddajnější (E obvykle řádově nižší), větší objemová kapacita (větší než celkový objem krve v tě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ení stěny tepny u 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4429080"/>
          <a:ext cx="6096240" cy="19209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kolagen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elastin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hladký sval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ta ascenden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ria pulmonali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580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Mechanické vlastnosti tepny (břišní aor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3" descr="modely10.JPG"/>
          <p:cNvPicPr/>
          <p:nvPr/>
        </p:nvPicPr>
        <p:blipFill>
          <a:blip r:embed="rId1"/>
          <a:stretch/>
        </p:blipFill>
        <p:spPr>
          <a:xfrm>
            <a:off x="571680" y="1233360"/>
            <a:ext cx="3985920" cy="50533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071720" y="571680"/>
            <a:ext cx="38271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 – axiální směr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 – obvodový směr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árkou je označena křivka získaná na aortě po odstranění intimy.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teriál je výrazně ortotropní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786200" y="2924280"/>
            <a:ext cx="39290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lastnos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rste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Intim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výrazně ortotropní, axiální tuhost vyšší než obvodová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Medi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převaha elastických a svalových vláken v obvodovém směru, zvlněná šroubovicová kolagenní vlákn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Adventiti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podélná silná elastická vlákna, převaha neuspořádaných zvlněných vláken kolagenních, nosných jen při mimořádně velkých deformacích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245200" y="1000080"/>
            <a:ext cx="26845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yziologický rozsah deformace do cca 20%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evnos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gt; 1 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myková napětí na povrchu endotelu 10 – 30 Pa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920" y="475920"/>
            <a:ext cx="4795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Podélné předpětí tep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3" descr="rezid1.JPG"/>
          <p:cNvPicPr/>
          <p:nvPr/>
        </p:nvPicPr>
        <p:blipFill>
          <a:blip r:embed="rId1"/>
          <a:srcRect l="72550" t="45037" r="11353" b="9044"/>
          <a:stretch/>
        </p:blipFill>
        <p:spPr>
          <a:xfrm>
            <a:off x="4500720" y="3141720"/>
            <a:ext cx="1039680" cy="24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1332000" y="2436840"/>
            <a:ext cx="6875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élka  v těle ("in situ"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élka po vyjmutí ("in vitro"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0" name="Obrázek 3" descr="rezid1.JPG"/>
          <p:cNvPicPr/>
          <p:nvPr/>
        </p:nvPicPr>
        <p:blipFill>
          <a:blip r:embed="rId2"/>
          <a:srcRect l="72550" t="45037" r="11353" b="9044"/>
          <a:stretch/>
        </p:blipFill>
        <p:spPr>
          <a:xfrm>
            <a:off x="2268360" y="3141720"/>
            <a:ext cx="1040040" cy="3456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684360" y="1052640"/>
            <a:ext cx="79912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pna je v těle axiálně předepnuta, takže po vyjmutí z těla se zkrátí. Tím je sníženo riziko kolapsu průtoku (v důsledku ztráty tvarové stability stěny) při ohýbání tepny. Velikost podélného přetvoření "in situ" činí u mladého jedince až 30%, s věkem klesá až na jednotky procent. Tento efekt významně ovlivňuje charakter napjatosti ve stěně tepny.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71280"/>
            <a:ext cx="36432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Projevy zbytkové napjatosti </a:t>
            </a:r>
            <a:br>
              <a:rPr sz="24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e stěně tepny </a:t>
            </a:r>
            <a:br>
              <a:rPr sz="24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a experimentální určování úhlu rozev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3" descr="rezid1.JPG"/>
          <p:cNvPicPr/>
          <p:nvPr/>
        </p:nvPicPr>
        <p:blipFill>
          <a:blip r:embed="rId1"/>
          <a:srcRect l="11244" t="45037" r="11353" b="9044"/>
          <a:stretch/>
        </p:blipFill>
        <p:spPr>
          <a:xfrm>
            <a:off x="3857760" y="819000"/>
            <a:ext cx="5000400" cy="246708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4" descr="rezid2.JPG"/>
          <p:cNvPicPr/>
          <p:nvPr/>
        </p:nvPicPr>
        <p:blipFill>
          <a:blip r:embed="rId2"/>
          <a:srcRect l="7344" t="0" r="10903" b="0"/>
          <a:stretch/>
        </p:blipFill>
        <p:spPr>
          <a:xfrm>
            <a:off x="3786120" y="3270240"/>
            <a:ext cx="5072040" cy="33735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4357800" y="71280"/>
            <a:ext cx="4572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vodový smě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xiální směr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6" name="Obrázek 7" descr="úhel_rozevření.JPG"/>
          <p:cNvPicPr/>
          <p:nvPr/>
        </p:nvPicPr>
        <p:blipFill>
          <a:blip r:embed="rId3"/>
          <a:stretch/>
        </p:blipFill>
        <p:spPr>
          <a:xfrm>
            <a:off x="571680" y="2349360"/>
            <a:ext cx="228600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3-03-06T08:03:39Z</dcterms:modified>
  <cp:revision>287</cp:revision>
  <dc:subject/>
  <dc:title>Biomechanics  of smooth muscle cells </dc:title>
</cp:coreProperties>
</file>