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1E31-EC98-459E-AEBB-C85CD1F3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7FD1-E4FC-4CBF-9421-AF0212F6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2FE5-0D1A-4EE7-8BDB-214C005B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677F-2C8F-4980-BF79-301B91B4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CA78-E516-4F7A-8795-D411B4D2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F23D-3FAA-40A4-AB82-D8F2962C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3D0A-5A6E-4F69-A166-3F27B640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F9A4-4E8A-4F04-8D93-DC4450A7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998E-D105-47C0-9CA2-6D0EC234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7E7F-59F2-4A2A-A84C-76214F24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BDA6-EDC2-4C7F-9EEF-0CF45B71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57C1-819A-4F58-BCE6-0AB08C58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79C5-7F1D-47A8-A871-6F622FBE2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Schéma spojení „focal adhesion“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-transmembránové spojení mezi aktinovými filamenty a extracelulárními vlák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561672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95640" y="5343480"/>
            <a:ext cx="1152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basilární membrá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1911240"/>
            <a:ext cx="107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ktinová filam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09:26:16Z</dcterms:created>
  <dc:creator>Jiri Bursa</dc:creator>
  <dc:description/>
  <dc:language>en-US</dc:language>
  <cp:lastModifiedBy>Jiri Bursa</cp:lastModifiedBy>
  <dcterms:modified xsi:type="dcterms:W3CDTF">2006-12-27T12:44:46Z</dcterms:modified>
  <cp:revision>2</cp:revision>
  <dc:subject/>
  <dc:title>Schéma spojení „focal adhesion“  -transmembránové spojení mezi aktinovými filamenty a extracelulárními vlákny</dc:title>
</cp:coreProperties>
</file>