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E8971-B52C-4266-8064-38CF41F7578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otom jsme měnili </a:t>
            </a: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modul pružnosti každé z komponent (cytoplasma, membrána, jádro, mikrofilamenty, mikrotubuly) v rozsahu 50% - 200% výchozí hodnoty a prováděli výpočtové simulace s cílem zjistit, která z buněčných komponent má největší vliv na výsledky simulac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37EB-0475-4B62-ACAA-CF6B30C34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AC18-5B6C-433B-B7C2-3A052563B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B18F-1F41-46A8-880A-E49879166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DAE2-831F-458B-86DF-2062CD5D0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96A1-3335-41DB-881A-9DFA4FDE9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2B1A-7B38-42B4-9138-38620DBC4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B4F2-2000-4B7F-9B40-C285E3B5A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1C7C-D38C-4412-BD38-7D1AED2E9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E97E-7E0F-429F-8B4D-EC8F1DBA5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7529-69E3-4909-BE04-21CED7B5E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289B-2BAF-4CE0-AC87-AA031743C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48A9-341B-4517-BD28-0E12970AA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6E639-53EA-403D-B4C2-0DC690F6A6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Times New Roman"/>
              </a:rPr>
              <a:t>Citlivostní analýz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4360" y="1341360"/>
            <a:ext cx="79912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uly pružnosti všech komponent modelu byly měněny v rozsahu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50% - 200%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ůvodní hodnoty. Simulace vtlačovací zkoušky s těmito hodnotami ukazují vliv změn tuhosti jednotlivých komponent na průběh vtlačovací zkoušky. Tak byla vyšetřována závislost výsledků simulované zkoušky na tuhos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61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ytoplazm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61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brá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61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ád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61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krofila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61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krotubul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7T20:23:43Z</dcterms:created>
  <dc:creator>Jiri Bursa</dc:creator>
  <dc:description/>
  <dc:language>en-US</dc:language>
  <cp:lastModifiedBy>Jiří Burša</cp:lastModifiedBy>
  <dcterms:modified xsi:type="dcterms:W3CDTF">2007-01-08T09:59:38Z</dcterms:modified>
  <cp:revision>2</cp:revision>
  <dc:subject/>
  <dc:title>Citlivostní analýza</dc:title>
</cp:coreProperties>
</file>