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FBB-4C1D-4CB4-8B4E-8AEE332C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F2C-D955-4DC6-BC85-31C7A4B9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6D5-03E6-48BF-9B30-EDC7E1AD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356-C615-4B42-8D43-64AC0481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CB6-7F42-4F90-8421-28E619FF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368-BE63-4C35-BED5-9F245DC8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BB2-BAC0-4B10-98F7-C98C1596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B95-2C88-4862-9A37-46DFC7C5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128-1439-4CDA-ABF6-5851D6ED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6F8-0A52-4B73-8DA7-927AECD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83A-1D4B-47BE-9AE1-7AEEEF6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C28-DD26-45B6-A7AC-9E6EBB17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6087-B107-480F-82FD-AE7304F4D6A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Nejjednodušší 3D tensegritní sou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4000" y="907920"/>
            <a:ext cx="27352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jednodušší 3D tensegritní soustava se dá vytvořit  se 3 tlakovými a 9 tahovými člen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ensegrity3D"/>
          <p:cNvPicPr/>
          <p:nvPr/>
        </p:nvPicPr>
        <p:blipFill>
          <a:blip r:embed="rId1"/>
          <a:srcRect l="14037" t="9332" r="17546" b="9332"/>
          <a:stretch/>
        </p:blipFill>
        <p:spPr>
          <a:xfrm>
            <a:off x="3132000" y="1700280"/>
            <a:ext cx="4996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11-14T14:16:23Z</dcterms:modified>
  <cp:revision>228</cp:revision>
  <dc:subject/>
  <dc:title>Biomechanics  of smooth muscle cells</dc:title>
</cp:coreProperties>
</file>