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61C6-BAD5-433E-B8FB-D112C5E14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5CBC-301B-4FC4-BD0A-412D57C35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6E03-C85C-4DC9-B113-9F7C250D8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7E8D-A417-4D6F-B19E-C3FE009E3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97D4-8CB2-4216-8D13-974A71E03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635B-F66A-45A3-AA60-2F695F8C1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0131-AD9C-4090-BC7D-780181739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F987-A879-4E1C-B313-8385A24B6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C6BE-EE2C-43EB-BDBB-40A88195B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3688-6CAB-49BE-8E5C-173BAF408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044E-802D-46AC-9065-CF31A584A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E208-0A39-4F6C-A2DB-C02BDDF9C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C9104-EBC2-4B55-92BF-69EF7A9D49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zkou&#353;ka_tahem.ppt" TargetMode="Externa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Nestrukturní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10920" y="1628280"/>
            <a:ext cx="806436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000000"/>
                </a:solidFill>
                <a:latin typeface="Arial"/>
              </a:rPr>
              <a:t>Lze použít pro modelování libovolné mechanické zkoušky buňky například </a:t>
            </a:r>
            <a:r>
              <a:rPr b="0" lang="cs-CZ" sz="3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zkoušky tahem</a:t>
            </a:r>
            <a:r>
              <a:rPr b="0" lang="cs-CZ" sz="3400" spc="-1" strike="noStrike">
                <a:solidFill>
                  <a:srgbClr val="000000"/>
                </a:solidFill>
                <a:latin typeface="Arial"/>
              </a:rPr>
              <a:t>. Jeho nevýhodou je, že je příliš zjednodušený a není schopen zohlednit namáhání jednotlivých strukturních komponent buňky, takže není použitelný pro vyšetřování principu mechanotransdukce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7T16:10:13Z</dcterms:created>
  <dc:creator>Jiri Bursa</dc:creator>
  <dc:description/>
  <dc:language>en-US</dc:language>
  <cp:lastModifiedBy>umt</cp:lastModifiedBy>
  <dcterms:modified xsi:type="dcterms:W3CDTF">2007-01-08T12:57:37Z</dcterms:modified>
  <cp:revision>3</cp:revision>
  <dc:subject/>
  <dc:title>Snímek 1</dc:title>
</cp:coreProperties>
</file>