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35C5-C486-40CD-AC7D-9D1FD9EEC5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druhý případ komplexního modelu. Cytoskelet je modelován tensegritní strukturou, a ostatní složky buňky jsou modelovány jako k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BB2-2FF0-4502-8A9C-EE600941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7C0-9D50-43A5-8E0A-6C337812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BA98-09D9-4487-9296-FF50E4D7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4A0-FB96-432A-A067-D6C78807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3F6-2782-4509-9A49-EDA4DA8C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1E8-6A7D-4BDC-8639-647F1E74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B6E-0845-4D51-932F-AAB1F956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0C8-4261-42BF-9AAD-3D989A41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94B-6C6D-4229-A2DB-EC118DBC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242-6DC9-44F9-A7A8-10F2CFCC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84D-D8FC-4CF7-9109-E43F1604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119-EFB0-4732-AC92-BA0B436E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B746-CD5B-4733-946D-D64735D3E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Příklad komplexního strukturního mode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J. McGarry G., Prendergast P.J., A three-dimensional finite element model of an      adherent eukaryotic cell, European cells and</a:t>
            </a:r>
            <a:r>
              <a:rPr b="1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áles,27-34,2004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Komplexní výpočtový model buň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ovaný komplexní strukturní model buňky je tvořen těmito prv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Bunečná membrána (sarkolemma) a membránový skelet – modelovány pomocí skořepinových pr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cy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elována pomocí 3D solid prvků jako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mi poddajné k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ádro a přilehlé organel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elová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í 3D solid prvků jako mén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ddajné kontin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cytoplasma vyztužená tensegritní soustavou, reprezentující tzv. jaderný skel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luboký cytoskelet - modelovaný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segritní soustav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reprezentující síť mikrotubulů a mikrofil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4:24:39Z</dcterms:created>
  <dc:creator>Jiří Burša</dc:creator>
  <dc:description/>
  <dc:language>en-US</dc:language>
  <cp:lastModifiedBy>Jiří Burša</cp:lastModifiedBy>
  <dcterms:modified xsi:type="dcterms:W3CDTF">2007-01-04T14:32:39Z</dcterms:modified>
  <cp:revision>4</cp:revision>
  <dc:subject/>
  <dc:title>Snímek 1</dc:title>
</cp:coreProperties>
</file>