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910-B9EB-419B-8F72-CB4F73AB95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modelování všech komponent buňky používáme lineárně elastický    konstitutivní model, který vzhledem k malému počtu konstitutivních parametrů usnadňuje jejich identifikaci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tabulce jsou hodnoty elastických konstant, které jsme použili jako výchozi pro citlivostní analýz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67F-572D-4203-BFEB-539F540B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C11-056D-43A3-BFBA-17967B2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E18-3712-4465-A71B-3A128419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639-85AC-48CD-A060-0391D57E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2FE-7F64-444B-983A-43C51A8C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CCE-995F-40A9-9F78-DD446AD2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FDE-E5A5-4979-BFB4-5D4C1FF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922-D03A-4646-A931-D7FECB7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A50-E4D8-4B8F-8919-9A456DF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125-E814-4F59-A794-62E2DB54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E14-DD94-453B-9558-7B5ECF1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CFB-813A-4E52-8F8E-3A6AF2A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1CE-01B1-4B46-B669-E7134F436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Materiálové vlastnosti mode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šechny složky jsou modelovány jako lineárně elastické izotropní materiály (kvůli snížení počtu parametrů, které je třeba identifikovat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dosažení odezvy (tj. křivky hloubka vtlačení – síla) modelu odpovídající experimentům byly zvoleny elastické parametry jednotlivých komponent modelu podle následující tabul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921120"/>
          <a:ext cx="7772400" cy="2100240"/>
        </p:xfrm>
        <a:graphic>
          <a:graphicData uri="http://schemas.openxmlformats.org/drawingml/2006/table">
            <a:tbl>
              <a:tblPr/>
              <a:tblGrid>
                <a:gridCol w="1941480"/>
                <a:gridCol w="1008000"/>
                <a:gridCol w="1224000"/>
                <a:gridCol w="1728720"/>
                <a:gridCol w="1008360"/>
                <a:gridCol w="861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tub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filamen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v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ke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o-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užnost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kP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so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číslo [-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39:17Z</dcterms:created>
  <dc:creator>Jiri Bursa</dc:creator>
  <dc:description/>
  <dc:language>en-US</dc:language>
  <cp:lastModifiedBy>Jiri Bursa</cp:lastModifiedBy>
  <dcterms:modified xsi:type="dcterms:W3CDTF">2007-01-07T20:45:14Z</dcterms:modified>
  <cp:revision>2</cp:revision>
  <dc:subject/>
  <dc:title>Materiálové vlastnosti modelu</dc:title>
</cp:coreProperties>
</file>