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3745-8914-43DA-906A-62D75AA66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09A6-06FD-4CC4-8F71-ACF7B56B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FAA4-6DDB-4175-A23B-A2FECF906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AFFB-05C8-4610-BAB3-C8BF53994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B08D-9834-4FAB-8062-319F91DF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C135-906C-4669-B16A-C6D772D7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3424-2C11-4127-BC09-D4431E1C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B9FD-7149-46D4-8341-508DEC6D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6554-5CF5-45BB-81E5-D604B071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DA89-FA9B-4F35-BC17-B3CA6645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9D0F-0440-40F9-812D-C2FA3EE8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9AAB-B8CE-47D8-B88E-5E5E999B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9CAE-F4B8-445A-8A5B-56F92882C7F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epny.pdf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787040"/>
            <a:ext cx="3035160" cy="12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imes New Roman"/>
              </a:rPr>
              <a:t>Schéma srdce </a:t>
            </a: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a jeho zapojení v krevním oběh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5724360" y="981000"/>
            <a:ext cx="31784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3" name="Picture 12" descr="bmsc006"/>
          <p:cNvPicPr/>
          <p:nvPr/>
        </p:nvPicPr>
        <p:blipFill>
          <a:blip r:embed="rId1"/>
          <a:srcRect l="12908" t="9867" r="10816" b="33034"/>
          <a:stretch/>
        </p:blipFill>
        <p:spPr>
          <a:xfrm>
            <a:off x="3564000" y="1195560"/>
            <a:ext cx="5329080" cy="53290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3"/>
          <p:cNvSpPr/>
          <p:nvPr/>
        </p:nvSpPr>
        <p:spPr>
          <a:xfrm>
            <a:off x="385920" y="3141720"/>
            <a:ext cx="317808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LS – levá síň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LK – levá komora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 – aorta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DDŽ – dolní dutá žíla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DŽ – horní dutá žíla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S – pravá síň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K- pravá komora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T – plicní tepny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MP – mezikomorová přepážka (septum)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SP – síňová přepážka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1 – chlopeň mitrální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 – chlopeň aortální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 – chlopeň trojcípá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4 – chlopeň plícnice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5" name="Obrázek 5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96872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imes New Roman"/>
              </a:rPr>
              <a:t>Schéma srdce </a:t>
            </a: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a jeho základní rozmě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5724360" y="981000"/>
            <a:ext cx="31784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85920" y="1413000"/>
            <a:ext cx="317808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LS – levá síň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LK – levá komora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 – aorta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DDŽ – dolní dutá žíla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DŽ – horní dutá žíla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S – pravá síň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K- pravá komora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 – plícnice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SA uzel – sinoatriální uzel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S – Hissův svazek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TR – Tavarova raménka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V – Purkyňova vlákna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CHM – chlopeň mitrální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CHA – chlopeň aortální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CHT – chlopeň trojcípá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CHP – chlopeň plícnice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9" name="Picture 6" descr="bmsc0080001"/>
          <p:cNvPicPr/>
          <p:nvPr/>
        </p:nvPicPr>
        <p:blipFill>
          <a:blip r:embed="rId1"/>
          <a:srcRect l="7147" t="15630" r="3333" b="11622"/>
          <a:stretch/>
        </p:blipFill>
        <p:spPr>
          <a:xfrm>
            <a:off x="3851280" y="1122480"/>
            <a:ext cx="476568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Vznik vírů za semilunární chlopní v aortálním si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5724360" y="981000"/>
            <a:ext cx="31784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2" name="Obrázek 5" descr="proudění za chlopní.JPG"/>
          <p:cNvPicPr/>
          <p:nvPr/>
        </p:nvPicPr>
        <p:blipFill>
          <a:blip r:embed="rId1"/>
          <a:srcRect l="0" t="43085" r="0" b="0"/>
          <a:stretch/>
        </p:blipFill>
        <p:spPr>
          <a:xfrm>
            <a:off x="614520" y="1773360"/>
            <a:ext cx="784512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Příčný řez pravou a levou srdeční komor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5724360" y="981000"/>
            <a:ext cx="31784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385920" y="907920"/>
            <a:ext cx="3609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2770200" y="1328760"/>
            <a:ext cx="5689440" cy="40449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8"/>
          <p:cNvSpPr/>
          <p:nvPr/>
        </p:nvSpPr>
        <p:spPr>
          <a:xfrm>
            <a:off x="395280" y="1413000"/>
            <a:ext cx="230508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Ke kontrakci dochází jednak v příčné rovině, jednak podélné (přiblížení hrotu s báze srdeční).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rpací výkonnost srdce: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5,5 l/min. v klidu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ž 25 l/min při námaze 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očet cyklů celkově za život řádu miliard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rdeční ske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Srdeční_skelet"/>
          <p:cNvPicPr/>
          <p:nvPr/>
        </p:nvPicPr>
        <p:blipFill>
          <a:blip r:embed="rId1"/>
          <a:srcRect l="0" t="635" r="0" b="1614"/>
          <a:stretch/>
        </p:blipFill>
        <p:spPr>
          <a:xfrm>
            <a:off x="1189080" y="1628640"/>
            <a:ext cx="676584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imes New Roman"/>
              </a:rPr>
              <a:t>Schéma a názvy </a:t>
            </a: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velkých tepen tělního obě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1"/>
          <a:srcRect l="10027" t="19744" r="52243" b="13986"/>
          <a:stretch/>
        </p:blipFill>
        <p:spPr>
          <a:xfrm>
            <a:off x="826920" y="836640"/>
            <a:ext cx="5040360" cy="57610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9"/>
          <p:cNvSpPr/>
          <p:nvPr/>
        </p:nvSpPr>
        <p:spPr>
          <a:xfrm>
            <a:off x="5724360" y="981000"/>
            <a:ext cx="31784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Latinské názv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velkých tepen:</a:t>
            </a:r>
            <a:br>
              <a:rPr sz="1800"/>
            </a:br>
            <a:br>
              <a:rPr sz="18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Společná tepna krční  pravá/levá -  Arteria carotis communis dextra/sinistr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T. podklíčková p./l. -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. subclavia dex./sin.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Oblouk aorty – Arcus aortae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Vzestupná aorta – Aorta ascendens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Sestupná aorta hrudní –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orta thoracica descendens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Koronární tepny –Arteriae coronariae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Tepna ledvinná p./l.– Arteria renalis d./s. 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orta břišní – Aorta abdominalis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Tepna kyčelní – Arteria iliaca communis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Tepna stehenn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– Arteria femoralis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5148360" y="1341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08080"/>
                </a:solidFill>
                <a:latin typeface="Times New Roman"/>
              </a:rPr>
              <a:t>levá</a:t>
            </a:r>
            <a:endParaRPr b="0" lang="en-US" sz="12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4640" y="764640"/>
            <a:ext cx="260208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éma cév lidského těla</a:t>
            </a:r>
            <a:br>
              <a:rPr sz="3200"/>
            </a:b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robnější informace lze nalézt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zd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cévy-anatomie"/>
          <p:cNvPicPr/>
          <p:nvPr/>
        </p:nvPicPr>
        <p:blipFill>
          <a:blip r:embed="rId2"/>
          <a:stretch/>
        </p:blipFill>
        <p:spPr>
          <a:xfrm>
            <a:off x="3738600" y="333360"/>
            <a:ext cx="51372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2-02-22T09:31:06Z</dcterms:modified>
  <cp:revision>253</cp:revision>
  <dc:subject/>
  <dc:title>Biomechanics  of smooth muscle cells </dc:title>
</cp:coreProperties>
</file>