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49F-3F7C-4056-A523-68AD7E2F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2B3-0427-484E-85B8-E2600BDC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F5A-89D3-45E4-BEBF-170EC822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ED9-775D-4419-9723-616C87EC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63B0-52D5-4292-BAEF-C4A8C4B4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E2E0-344C-4D61-985A-24E9CB6B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138-1945-48CD-8380-262C3BD0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F249-E7CE-4598-BBA8-C4491485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6C0-2016-47EF-96DA-D2514876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3DF-BEB7-4283-B3E5-CF3F93A2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472-D5FF-4E6F-B090-088D67A7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24CD-57CA-40CD-9E66-69D54741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57E5-12F4-48C4-85F1-6A166976E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424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oustava tvaru šestiúhelní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268280"/>
            <a:ext cx="8424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uspořádání úhlopříčných prutů do trojúhelníka nebo vějíře je soustava staticky určitá. Přestože se obě topologie liší počtem os symetrie, ani jedna z obou konfigurací nevykazuje tensegritní vlast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7544" t="9334" r="17544" b="9334"/>
          <a:stretch/>
        </p:blipFill>
        <p:spPr>
          <a:xfrm>
            <a:off x="4772160" y="2852640"/>
            <a:ext cx="3760560" cy="337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17546" t="9332" r="17546" b="9332"/>
          <a:stretch/>
        </p:blipFill>
        <p:spPr>
          <a:xfrm>
            <a:off x="684360" y="2852640"/>
            <a:ext cx="3809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2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oustava tvaru šestiúhelní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981000"/>
            <a:ext cx="8496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egritní soustavu lze vytvořit dvěma následujícími způsob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 přeuspořádáním úhlopříčných prutů do tvaru hvězdy, bez změny jejich počtu, jen změnou symetrie soustav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 přidáním dalších tří prutů v trojúhelníkovém uspořádání; oba trojúhelníky jsou vzájemně pootoče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17546" t="9332" r="17546" b="9332"/>
          <a:stretch/>
        </p:blipFill>
        <p:spPr>
          <a:xfrm>
            <a:off x="685800" y="2604960"/>
            <a:ext cx="3843360" cy="3573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17544" t="9334" r="17544" b="9334"/>
          <a:stretch/>
        </p:blipFill>
        <p:spPr>
          <a:xfrm>
            <a:off x="4716360" y="2637000"/>
            <a:ext cx="38689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1:18Z</dcterms:created>
  <dc:creator>Jiri Bursa</dc:creator>
  <dc:description/>
  <dc:language>en-US</dc:language>
  <cp:lastModifiedBy>umt</cp:lastModifiedBy>
  <dcterms:modified xsi:type="dcterms:W3CDTF">2007-01-08T13:18:00Z</dcterms:modified>
  <cp:revision>4</cp:revision>
  <dc:subject/>
  <dc:title>Regular hexagonal structure</dc:title>
</cp:coreProperties>
</file>