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96B-8873-4A86-BFE0-8BFA75F7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287-AE52-4E6C-8344-D9825538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C1E-BD70-495E-992A-16954DCC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8F8-3336-4681-BB7C-CEF99D69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73C-E8D0-4A4A-9618-EF42AB21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151-26AA-4A13-875A-572612E0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D57-1859-4467-AD87-8169F838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176-7719-4CFE-8548-57A028F2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7EF-D4B9-4732-B37A-7819762D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EF9-A4A4-4604-AAD8-5E641023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A5B-1D86-4496-9DAB-EBC2DAA9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CA1-969C-434D-9AC0-9A8FB0CD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3C47-92E6-4EFA-BD95-E07C45502E9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012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epenná výduť (aneurysm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9640" y="1989000"/>
            <a:ext cx="8280360" cy="45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to patologické rozšíření tepny, ohrožující život pacienta rizikem ruptury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častější lokality arteriálních aneurysmat 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ortální aneurysma - důsledek degradace elastinu, zánětlivých procesů, příp. i aterosklerotických změn, někdy původu infekčního nebo posttraumatického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eurysma břišní aorty (AAA – abdominal aortic aneurysm) – nejčastější, mezi odbočkami renálních tepen a bifurkací, kterou často přesahuje do kyčelních tepen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eurysma mozkových tepen – často v oblasti větvení tepen s významnou dynamickou složkou tlaku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rfologické členění arteriálních aneurysmat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řetenovité aneurysma (časté u břišní aorty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akulární (vakovité) aneurysma (časté u mozkových tepen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1692360" y="299880"/>
            <a:ext cx="575928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Rizika aneurys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042920" y="907920"/>
            <a:ext cx="748980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eurysma břišní aorty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 - výskyt 2-6% dospělé popul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ptura aneurysmatu břišní aorty – krvácení do retriperitonea s úmrtností 50-70%, u plánovaných operací 3-15%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hlá mozková příhoda („mozková mrtvice“) může být dvojího typu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schemická – nedostatečné prokrvení části mozku v důsledku zúžení některé tepny ateromatickým plátem nebo trombem (trombembolie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rvácení do mozku – nejčastěji ruptury aneurysmat mozkových tepen, zvýšené riziko při zvýšení tlaku v mozkových tepnách (porod, bunjee-jumping).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 obou případech vysoká úmrtnost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epny moz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epny_mozek0001"/>
          <p:cNvPicPr/>
          <p:nvPr/>
        </p:nvPicPr>
        <p:blipFill>
          <a:blip r:embed="rId1"/>
          <a:stretch/>
        </p:blipFill>
        <p:spPr>
          <a:xfrm>
            <a:off x="241128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web-books.com/eLibrary/Medicine/Cardiovascular/Images/aneurysm_cerebral.jpg"/>
          <p:cNvPicPr/>
          <p:nvPr/>
        </p:nvPicPr>
        <p:blipFill>
          <a:blip r:embed="rId1"/>
          <a:stretch/>
        </p:blipFill>
        <p:spPr>
          <a:xfrm>
            <a:off x="1476360" y="260280"/>
            <a:ext cx="5759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Aneurysma (výduť) břišní ao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9677" t="2784" r="12952" b="54622"/>
          <a:stretch/>
        </p:blipFill>
        <p:spPr>
          <a:xfrm>
            <a:off x="1116000" y="1628640"/>
            <a:ext cx="292572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19249" t="53948" r="12978" b="3444"/>
          <a:stretch/>
        </p:blipFill>
        <p:spPr>
          <a:xfrm>
            <a:off x="4932360" y="1557360"/>
            <a:ext cx="3184560" cy="4551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042920" y="90792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Zdravá část cévní soustavy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Výduť mezi renálními tepnami 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a bifurkací aort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Statistická pravděpodobnost přežití pacientů </a:t>
            </a:r>
            <a:br>
              <a:rPr sz="3200"/>
            </a:b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s AAA o průměru 4 cm a různou rychlostí rů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Ošetření aneurysmatu břišní aorty stentgraf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aneurysm1"/>
          <p:cNvPicPr/>
          <p:nvPr/>
        </p:nvPicPr>
        <p:blipFill>
          <a:blip r:embed="rId1"/>
          <a:stretch/>
        </p:blipFill>
        <p:spPr>
          <a:xfrm>
            <a:off x="1258920" y="1052640"/>
            <a:ext cx="6697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Ošetření AAA </a:t>
            </a:r>
            <a:br>
              <a:rPr sz="3600"/>
            </a:b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klasickým chirurgickým zákro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19" descr="II (35).JPG"/>
          <p:cNvPicPr/>
          <p:nvPr/>
        </p:nvPicPr>
        <p:blipFill>
          <a:blip r:embed="rId1"/>
          <a:stretch/>
        </p:blipFill>
        <p:spPr>
          <a:xfrm>
            <a:off x="1116000" y="1500120"/>
            <a:ext cx="69850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287964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Výpočtový model AAA </a:t>
            </a:r>
            <a:br>
              <a:rPr sz="3600"/>
            </a:b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rozložení redukovan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2" name="Obrázek 8" descr="AAA von mises vs RRI.png"/>
          <p:cNvPicPr/>
          <p:nvPr/>
        </p:nvPicPr>
        <p:blipFill>
          <a:blip r:embed="rId1"/>
          <a:srcRect l="0" t="0" r="49125" b="0"/>
          <a:stretch/>
        </p:blipFill>
        <p:spPr>
          <a:xfrm>
            <a:off x="3419640" y="404640"/>
            <a:ext cx="5256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04-04T06:46:34Z</dcterms:modified>
  <cp:revision>271</cp:revision>
  <dc:subject/>
  <dc:title>Biomechanics  of smooth muscle cells </dc:title>
</cp:coreProperties>
</file>