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EFC-3796-462B-BD1C-01D9B749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DC6-28F0-48A7-B293-87C4BA06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CE8-865B-4ABC-9B84-7C3E9DAF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53B-E6DB-480B-AE37-04C0F44E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77F-91D4-4FD7-9B2B-08B187BF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5B2-3754-427B-9E9F-2BB5A7EE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4F4-DB65-4152-B345-D4DFC2D3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47B-D247-4B0F-94B4-1EE8FE9A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AC3-4D48-4801-9ECB-D12F87BB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088-1389-456D-8FDA-F5376513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7E3-97DC-4B12-BB93-382DDF0C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556-53DE-4A56-BD6B-94B95253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0A52-B62C-4D2A-882D-09BA1B10D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gnetic  twisting cyt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68360" y="1557360"/>
            <a:ext cx="4536720" cy="3023640"/>
            <a:chOff x="468360" y="1557360"/>
            <a:chExt cx="4536720" cy="3023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25320" y="1683360"/>
              <a:ext cx="385092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08040" y="1743480"/>
              <a:ext cx="560160" cy="67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73600" y="4128480"/>
              <a:ext cx="168048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su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81440" y="1557360"/>
              <a:ext cx="13971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oče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10360" y="2036160"/>
              <a:ext cx="149472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gnetické po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360" y="3820320"/>
              <a:ext cx="1074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ň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4000" y="1577880"/>
              <a:ext cx="1311840" cy="67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gnetická kulič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91840" y="2207160"/>
              <a:ext cx="56016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643280" y="2763720"/>
            <a:ext cx="3878280" cy="2826000"/>
            <a:chOff x="4643280" y="2763720"/>
            <a:chExt cx="3878280" cy="28260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750200" y="2763720"/>
              <a:ext cx="37713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643280" y="4925160"/>
              <a:ext cx="530280" cy="66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31600" y="3141360"/>
              <a:ext cx="1411560" cy="296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gnetická kulič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40120" y="3108240"/>
              <a:ext cx="79776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Fibronek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70640" y="3709080"/>
              <a:ext cx="79632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á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16800" y="4256640"/>
              <a:ext cx="55404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r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70760" y="4833720"/>
              <a:ext cx="38700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Ak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08360" y="5139000"/>
              <a:ext cx="123768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ske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219640" y="1486080"/>
            <a:ext cx="3610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Times New Roman"/>
              </a:rPr>
              <a:t>Uchycení kuličky k integrinovým receptorům na povrchu buňk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5:55:08Z</dcterms:created>
  <dc:creator>Jiri Bursa</dc:creator>
  <dc:description/>
  <dc:language>en-US</dc:language>
  <cp:lastModifiedBy>Jiří Burša</cp:lastModifiedBy>
  <dcterms:modified xsi:type="dcterms:W3CDTF">2009-03-31T13:12:48Z</dcterms:modified>
  <cp:revision>5</cp:revision>
  <dc:subject/>
  <dc:title>Magnetická pinzeta (magnetic tweezer)</dc:title>
</cp:coreProperties>
</file>