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FAA-B215-475D-99DB-42F3A6FA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190-871F-4B2E-A4FB-F0A44346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1F8-F18F-4DAB-A933-578567B5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10A-1A8D-481A-B2EC-BF8078D7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AA8-FA43-4FA3-8350-8D043D10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7EB-19A6-4D5E-AE67-53D18E6B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86A-7A44-4EF2-B8A3-6B7FE975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5F6-5525-4987-A732-1B02A272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679-2DC7-4EA8-9134-6E2A7AB4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C65-3D74-4836-8F9B-680CF054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D5D-D4B7-42A3-809D-C6B58391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90D-2FA1-4FA7-84BC-630C968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EDC3-81A0-46D3-8D08-B10F63C40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chéma desmozomu –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pevnější mechanické spojení s širokou mezerou mezi oběma membrá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08720" cy="439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16360" y="179712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3502080"/>
            <a:ext cx="2160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termediální vlák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7280" y="558972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rycí des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5877000"/>
            <a:ext cx="273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esmocollin a desmogl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21:26Z</dcterms:created>
  <dc:creator>Jiri Bursa</dc:creator>
  <dc:description/>
  <dc:language>en-US</dc:language>
  <cp:lastModifiedBy>Jiri Bursa</cp:lastModifiedBy>
  <dcterms:modified xsi:type="dcterms:W3CDTF">2006-12-27T12:42:58Z</dcterms:modified>
  <cp:revision>4</cp:revision>
  <dc:subject/>
  <dc:title>Schéma desmozomu – pevnější mechanické spojení s širokou mezerou mezi oběma membránami</dc:title>
</cp:coreProperties>
</file>