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2E0C-D4DA-43BA-ABD2-D2414DF8A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10F5-9B70-495B-B661-4F1BDE8C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5A0A-A4C9-41DD-80E8-5749729A9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C08C-96BC-45BC-831B-369AAE46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D509-C4D5-40A4-BEB9-77A6EC6F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A7AB-79CF-4C7A-9E47-709A4970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2259-F4BB-45C4-891B-F6C22CBC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48BC-E5A0-4F3B-B403-CC5DC5FE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535F-4A74-4B71-A73C-81A95E5B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486C-4FFC-41A9-8914-0F52F06A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BA81-BEAA-4B4B-9CFF-9EC5874F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25C3-D376-4081-A1B9-3E96DDF8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12D8-407A-4ECC-BC99-480FBE41B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netická pinzet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agnetic tweez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9414" r="0" b="0"/>
          <a:stretch/>
        </p:blipFill>
        <p:spPr>
          <a:xfrm>
            <a:off x="1403280" y="1773360"/>
            <a:ext cx="5977080" cy="3671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40160" y="1897200"/>
            <a:ext cx="1295280" cy="63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kušební kom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38640" y="4255920"/>
            <a:ext cx="1476360" cy="5702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leněná podlož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15:55:08Z</dcterms:created>
  <dc:creator>Jiri Bursa</dc:creator>
  <dc:description/>
  <dc:language>en-US</dc:language>
  <cp:lastModifiedBy>umt</cp:lastModifiedBy>
  <dcterms:modified xsi:type="dcterms:W3CDTF">2007-01-08T12:49:21Z</dcterms:modified>
  <cp:revision>2</cp:revision>
  <dc:subject/>
  <dc:title>Magnetická pinzeta (magnetic tweezer)</dc:title>
</cp:coreProperties>
</file>