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59AB-EDE7-45EA-8893-4E26537BA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1AA6-45E6-4BF9-92D5-AD566670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92FF-1B74-4484-AD18-48C468F6F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E3A6-AF49-4D10-9E1B-0909F959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900B-BB07-4FD2-AA2C-C7B8BB30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80CF-8514-494B-A259-E90F065A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A59A-9099-4040-9A46-54C84223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7D6C-649E-461B-8DA5-2DE80EA3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B802-326C-489A-A162-E53BD662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5FC5-FD42-4942-9CBA-B3DBEFDF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EBEB-107F-4296-974B-3F52B56B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68F2-1C3F-474B-A8CA-8A795E1C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9EA9-C1F9-4DD5-83C8-7B77DCD78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zonula_occludens.ppt" TargetMode="External"/><Relationship Id="rId2" Type="http://schemas.openxmlformats.org/officeDocument/2006/relationships/hyperlink" Target="zonula_occludens.ppt" TargetMode="External"/><Relationship Id="rId3" Type="http://schemas.openxmlformats.org/officeDocument/2006/relationships/hyperlink" Target="zonula_occludens.ppt" TargetMode="External"/><Relationship Id="rId4" Type="http://schemas.openxmlformats.org/officeDocument/2006/relationships/hyperlink" Target="zonula_occludens.ppt" TargetMode="External"/><Relationship Id="rId5" Type="http://schemas.openxmlformats.org/officeDocument/2006/relationships/hyperlink" Target="Zonula_adherens.ppt" TargetMode="External"/><Relationship Id="rId6" Type="http://schemas.openxmlformats.org/officeDocument/2006/relationships/hyperlink" Target="Zonula_adherens.ppt" TargetMode="External"/><Relationship Id="rId7" Type="http://schemas.openxmlformats.org/officeDocument/2006/relationships/hyperlink" Target="Zonula_adherens.ppt" TargetMode="External"/><Relationship Id="rId8" Type="http://schemas.openxmlformats.org/officeDocument/2006/relationships/hyperlink" Target="Zonula_adherens.ppt" TargetMode="External"/><Relationship Id="rId9" Type="http://schemas.openxmlformats.org/officeDocument/2006/relationships/hyperlink" Target="desmozom.ppt" TargetMode="External"/><Relationship Id="rId10" Type="http://schemas.openxmlformats.org/officeDocument/2006/relationships/hyperlink" Target="gap junction.ppt" TargetMode="External"/><Relationship Id="rId11" Type="http://schemas.openxmlformats.org/officeDocument/2006/relationships/hyperlink" Target="gap junction.ppt" TargetMode="External"/><Relationship Id="rId12" Type="http://schemas.openxmlformats.org/officeDocument/2006/relationships/hyperlink" Target="gap junction.ppt" TargetMode="External"/><Relationship Id="rId13" Type="http://schemas.openxmlformats.org/officeDocument/2006/relationships/hyperlink" Target="gap junction.ppt" TargetMode="External"/><Relationship Id="rId14" Type="http://schemas.openxmlformats.org/officeDocument/2006/relationships/hyperlink" Target="gap junction.ppt" TargetMode="External"/><Relationship Id="rId15" Type="http://schemas.openxmlformats.org/officeDocument/2006/relationships/hyperlink" Target="hemidesmozom.ppt" TargetMode="External"/><Relationship Id="rId16" Type="http://schemas.openxmlformats.org/officeDocument/2006/relationships/hyperlink" Target="focal_adhesion.ppt" TargetMode="External"/><Relationship Id="rId17" Type="http://schemas.openxmlformats.org/officeDocument/2006/relationships/hyperlink" Target="focal_adhesion.ppt" TargetMode="External"/><Relationship Id="rId18" Type="http://schemas.openxmlformats.org/officeDocument/2006/relationships/hyperlink" Target="focal_adhesion.ppt" TargetMode="External"/><Relationship Id="rId1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řehled typů spojení buně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Zonula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occludens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těsné spojení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Zonula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adherens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kotvené spojení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Desmozo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macula adheren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Nexus (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gap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junction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Spojení mezi buňkami a extracelulárními vlák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emidesmozo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Focal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adhe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08:54:35Z</dcterms:created>
  <dc:creator>Jiri Bursa</dc:creator>
  <dc:description/>
  <dc:language>en-US</dc:language>
  <cp:lastModifiedBy>Jiri Bursa</cp:lastModifiedBy>
  <dcterms:modified xsi:type="dcterms:W3CDTF">2006-12-27T09:27:57Z</dcterms:modified>
  <cp:revision>5</cp:revision>
  <dc:subject/>
  <dc:title>Schéma spojení gap junction  Spojení zajišťující transport iontů, aminokyselin, sacharidů a jiných rozpuštěných látek mezi buňkami</dc:title>
</cp:coreProperties>
</file>