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81C-3F72-43B5-9603-D7ACD93C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E79-0789-46E0-AFB6-79C3B6E5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C83-E5C0-4293-ADBC-CB6BC224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E3F-B854-452F-97E7-EAF0D344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700-C8D1-4FD5-AB80-C38256A8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F10-CFE5-4E76-84EC-FEAB1DF3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A51-65AA-4FE5-A75D-252F6DD4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767-FA8C-422C-AD7E-7D852971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89F-6889-4435-B3F7-6F2FEEF3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5EA-0172-4385-BBCE-A452E44E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DA6-7753-4F1F-B573-732B4781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D38-81B6-4405-916E-B069299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5079-3DAE-4531-B9BF-53C269AD524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4520" y="2599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chéma uspořádání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aktinových a myozinových filament v hladké svalové buňce kontraktilního fenotypu</a:t>
            </a: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(podle Histology,Ross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472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32720" y="4292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nsní tělí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3733920"/>
            <a:ext cx="10670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334120" y="44956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89480" y="323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3068640"/>
            <a:ext cx="1447920" cy="947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lustá filamenta (myozin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67560" y="2081160"/>
            <a:ext cx="132696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ká filamenta (akt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41360"/>
            <a:ext cx="80010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funkce hladkých svalových buně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raktilní fenotyp - svalová kontrak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etický fenotyp - syntéza bílkovin pro remodelaci tká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1:40:46Z</dcterms:created>
  <dc:creator>Jiří Burša</dc:creator>
  <dc:description/>
  <dc:language>en-US</dc:language>
  <cp:lastModifiedBy>umt</cp:lastModifiedBy>
  <dcterms:modified xsi:type="dcterms:W3CDTF">2007-01-08T13:00:46Z</dcterms:modified>
  <cp:revision>4</cp:revision>
  <dc:subject/>
  <dc:title>Schéma uspořádání aktinových a myozinových filament v hladké svalové buňce  (podle Histology,Ross) </dc:title>
</cp:coreProperties>
</file>