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856E-F00C-4B67-9142-D7E7E080C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2C53-F494-4134-8DF6-98F7C928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2DC4-3C91-4498-8375-43C4E6E1A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C36E-B870-4BC6-B268-0693C4EF1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0208-32FD-4099-8A24-56EC0ED6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3C81-0724-4643-B6A8-1CC175CD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C443-E1AF-4CE8-B06D-8DF263A2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6DA0-7A85-4DB9-90F5-8209E7BF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EA31-F307-4AE7-917F-12507227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6848-9C43-40F0-80F6-463A86AA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4DAB-60ED-49A4-983A-5D14E48D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9A06-C869-48F6-B2C2-B7B4AC45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83AF-56C3-47F5-A947-508D0758534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33399"/>
                </a:solidFill>
                <a:latin typeface="Times New Roman"/>
              </a:rPr>
              <a:t>Základní typy arteriálních stentů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5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3" name="Rectangle 224"/>
          <p:cNvSpPr/>
          <p:nvPr/>
        </p:nvSpPr>
        <p:spPr>
          <a:xfrm>
            <a:off x="457200" y="1960560"/>
            <a:ext cx="8218440" cy="45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odle způsobu  roztažení</a:t>
            </a:r>
            <a:endParaRPr b="0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1" marL="107784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alonkem roztažitelné – založeny na plastické deformaci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lvl="1" marL="107784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amoroztažitelné – založeny na elastické deformaci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lvl="1" marL="107784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iflexní – založeny na změně tvarové stability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odle technologie výroby </a:t>
            </a:r>
            <a:endParaRPr b="0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1" marL="107784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rubičkové 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lvl="1" marL="107784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rátěné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. Podle povrchové úpravy</a:t>
            </a:r>
            <a:endParaRPr b="0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1" marL="107784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ez zvláštní úpravy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lvl="1" marL="107784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tažené (coated stents)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4" name="Obrázek 6" descr=""/>
          <p:cNvPicPr/>
          <p:nvPr/>
        </p:nvPicPr>
        <p:blipFill>
          <a:blip r:embed="rId1"/>
          <a:stretch/>
        </p:blipFill>
        <p:spPr>
          <a:xfrm>
            <a:off x="108000" y="84240"/>
            <a:ext cx="575928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9200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imes New Roman"/>
              </a:rPr>
              <a:t>Biflexní stent</a:t>
            </a:r>
            <a:br>
              <a:rPr sz="4000"/>
            </a:b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v expandovaném stavu</a:t>
            </a: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      zmáčknutý pro zavád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Stent-biflex1"/>
          <p:cNvPicPr/>
          <p:nvPr/>
        </p:nvPicPr>
        <p:blipFill>
          <a:blip r:embed="rId1"/>
          <a:stretch/>
        </p:blipFill>
        <p:spPr>
          <a:xfrm>
            <a:off x="826920" y="1844640"/>
            <a:ext cx="724536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86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Porovnání výsledku angioplastiky se sten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3538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Řez tepnou po arterioplas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říčn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déln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Řez tepnou po aplikaci st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déln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říčn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u3v01"/>
          <p:cNvPicPr/>
          <p:nvPr/>
        </p:nvPicPr>
        <p:blipFill>
          <a:blip r:embed="rId1"/>
          <a:stretch/>
        </p:blipFill>
        <p:spPr>
          <a:xfrm>
            <a:off x="4156200" y="1052640"/>
            <a:ext cx="4160880" cy="5130720"/>
          </a:xfrm>
          <a:prstGeom prst="rect">
            <a:avLst/>
          </a:prstGeom>
          <a:ln w="0">
            <a:noFill/>
          </a:ln>
        </p:spPr>
      </p:pic>
      <p:sp>
        <p:nvSpPr>
          <p:cNvPr id="82" name="Line 6"/>
          <p:cNvSpPr/>
          <p:nvPr/>
        </p:nvSpPr>
        <p:spPr>
          <a:xfrm flipV="1">
            <a:off x="3924360" y="1557000"/>
            <a:ext cx="9349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3" name="Line 7"/>
          <p:cNvSpPr/>
          <p:nvPr/>
        </p:nvSpPr>
        <p:spPr>
          <a:xfrm>
            <a:off x="3995640" y="2997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4" name="Line 8"/>
          <p:cNvSpPr/>
          <p:nvPr/>
        </p:nvSpPr>
        <p:spPr>
          <a:xfrm flipV="1">
            <a:off x="3924360" y="4581360"/>
            <a:ext cx="136836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Line 9"/>
          <p:cNvSpPr/>
          <p:nvPr/>
        </p:nvSpPr>
        <p:spPr>
          <a:xfrm flipV="1">
            <a:off x="3995640" y="5805000"/>
            <a:ext cx="295272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Potažené koronární stenty </a:t>
            </a:r>
            <a:r>
              <a:rPr b="1" lang="cs-CZ" sz="2800" spc="-1" strike="noStrike">
                <a:solidFill>
                  <a:srgbClr val="333399"/>
                </a:solidFill>
                <a:latin typeface="Times New Roman"/>
              </a:rPr>
              <a:t>(coated st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avedeny v 90. letech, velmi rychlé rozšíře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Restenózy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i použití stentů v 11-17% případů, výhradně v 1. roce, nejčastěji během 6 měsíců. Jsou způsobeny zánětlivou reakcí tkáně na trauma při zavedení stentu, pronikáním buněk hladkých svalů z medie do neointimy, kde se množí a produkují extracelulární matrix, čímž zmenšují lumen. Na tom se podílí i krevní destičky a fibr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stupy pro redukci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in-sten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restenóz - nejnadějnější stenty s povrchem pokrytým chemickými látkami (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coated stents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. K pokrytí se používaj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anorganické látky -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karbid křemíku, uhlík v různých formách - lepší biokompatibili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organické látk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ETF - neosvědčil se, působí prozánětlivě, nadměrná tvorba neointim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fosforylcholin - možnost vázat na něj léky (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drug eluting stents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). Ty se postupně uvolňují, možnost lokálního a dlouhodobého protizánětlivého působ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Stentgraf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ombinace cévní protézy a stentu. Umožňují méně invazívní aplikace cévních protéz - důležité u pacientů kontraindikovaných ke klasické opera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užití - nejvíce bifurkační stentgraft pro exkluzi (vyřazení) vaku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aneurysmatu břišní aort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 Zavádění cestou femorálních nebo ilických arteri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aaa2"/>
          <p:cNvPicPr/>
          <p:nvPr/>
        </p:nvPicPr>
        <p:blipFill>
          <a:blip r:embed="rId1"/>
          <a:stretch/>
        </p:blipFill>
        <p:spPr>
          <a:xfrm>
            <a:off x="971640" y="2075040"/>
            <a:ext cx="7345440" cy="42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Stentgraf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aaa1"/>
          <p:cNvPicPr/>
          <p:nvPr/>
        </p:nvPicPr>
        <p:blipFill>
          <a:blip r:embed="rId1"/>
          <a:stretch/>
        </p:blipFill>
        <p:spPr>
          <a:xfrm>
            <a:off x="1116000" y="888840"/>
            <a:ext cx="705636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86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Trubičkový balonkem roztažitelný st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u3v20"/>
          <p:cNvPicPr/>
          <p:nvPr/>
        </p:nvPicPr>
        <p:blipFill>
          <a:blip r:embed="rId1"/>
          <a:stretch/>
        </p:blipFill>
        <p:spPr>
          <a:xfrm>
            <a:off x="1042920" y="1052640"/>
            <a:ext cx="678024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86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Drátěný balonkem roztažitelný st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u3v21"/>
          <p:cNvPicPr/>
          <p:nvPr/>
        </p:nvPicPr>
        <p:blipFill>
          <a:blip r:embed="rId1"/>
          <a:srcRect l="0" t="0" r="0" b="15843"/>
          <a:stretch/>
        </p:blipFill>
        <p:spPr>
          <a:xfrm>
            <a:off x="900000" y="1052640"/>
            <a:ext cx="720576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86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Balonkem roztažitelné stenty - aplik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u3v08"/>
          <p:cNvPicPr/>
          <p:nvPr/>
        </p:nvPicPr>
        <p:blipFill>
          <a:blip r:embed="rId1"/>
          <a:stretch/>
        </p:blipFill>
        <p:spPr>
          <a:xfrm>
            <a:off x="571680" y="1413000"/>
            <a:ext cx="7961040" cy="46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86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Samoroztažitelný drátěný st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u3v03"/>
          <p:cNvPicPr/>
          <p:nvPr/>
        </p:nvPicPr>
        <p:blipFill>
          <a:blip r:embed="rId1"/>
          <a:stretch/>
        </p:blipFill>
        <p:spPr>
          <a:xfrm>
            <a:off x="468360" y="1098720"/>
            <a:ext cx="6981840" cy="52099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7451640" y="3327480"/>
            <a:ext cx="158436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ozvinutý stav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erozvinutý stav 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ři zavádění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atetrem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" name="Line 7"/>
          <p:cNvSpPr/>
          <p:nvPr/>
        </p:nvSpPr>
        <p:spPr>
          <a:xfrm flipH="1" flipV="1">
            <a:off x="6227640" y="3213000"/>
            <a:ext cx="122400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" name="Line 8"/>
          <p:cNvSpPr/>
          <p:nvPr/>
        </p:nvSpPr>
        <p:spPr>
          <a:xfrm flipH="1">
            <a:off x="5435640" y="4724280"/>
            <a:ext cx="194472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86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Drátěný stent s vynikající ohebn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7020000" y="1844640"/>
            <a:ext cx="158436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8" name="Picture 8" descr="u3v02"/>
          <p:cNvPicPr/>
          <p:nvPr/>
        </p:nvPicPr>
        <p:blipFill>
          <a:blip r:embed="rId1"/>
          <a:stretch/>
        </p:blipFill>
        <p:spPr>
          <a:xfrm>
            <a:off x="684360" y="1069920"/>
            <a:ext cx="594180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86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Princip změny tvarové st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u3v25"/>
          <p:cNvPicPr/>
          <p:nvPr/>
        </p:nvPicPr>
        <p:blipFill>
          <a:blip r:embed="rId1"/>
          <a:stretch/>
        </p:blipFill>
        <p:spPr>
          <a:xfrm>
            <a:off x="457200" y="1557360"/>
            <a:ext cx="822960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54208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Závislost síly a deformace </a:t>
            </a:r>
            <a:br>
              <a:rPr sz="3600"/>
            </a:b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při změně tvarové st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u3v25"/>
          <p:cNvPicPr/>
          <p:nvPr/>
        </p:nvPicPr>
        <p:blipFill>
          <a:blip r:embed="rId1"/>
          <a:srcRect l="58766" t="49705" r="0" b="0"/>
          <a:stretch/>
        </p:blipFill>
        <p:spPr>
          <a:xfrm>
            <a:off x="755640" y="1484280"/>
            <a:ext cx="7402680" cy="4452840"/>
          </a:xfrm>
          <a:prstGeom prst="rect">
            <a:avLst/>
          </a:prstGeom>
          <a:ln w="0">
            <a:noFill/>
          </a:ln>
        </p:spPr>
      </p:pic>
      <p:sp>
        <p:nvSpPr>
          <p:cNvPr id="63" name="Line 4"/>
          <p:cNvSpPr/>
          <p:nvPr/>
        </p:nvSpPr>
        <p:spPr>
          <a:xfrm>
            <a:off x="2124000" y="3716280"/>
            <a:ext cx="2879640" cy="936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" name="Line 5"/>
          <p:cNvSpPr/>
          <p:nvPr/>
        </p:nvSpPr>
        <p:spPr>
          <a:xfrm flipH="1" flipV="1">
            <a:off x="3348000" y="2708280"/>
            <a:ext cx="2952720" cy="100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" name="Line 6"/>
          <p:cNvSpPr/>
          <p:nvPr/>
        </p:nvSpPr>
        <p:spPr>
          <a:xfrm flipV="1">
            <a:off x="5003640" y="3500280"/>
            <a:ext cx="0" cy="1152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" name="Line 7"/>
          <p:cNvSpPr/>
          <p:nvPr/>
        </p:nvSpPr>
        <p:spPr>
          <a:xfrm flipV="1">
            <a:off x="5003640" y="3284280"/>
            <a:ext cx="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7" name="Line 8"/>
          <p:cNvSpPr/>
          <p:nvPr/>
        </p:nvSpPr>
        <p:spPr>
          <a:xfrm>
            <a:off x="3348000" y="2708280"/>
            <a:ext cx="0" cy="79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8" name="Line 9"/>
          <p:cNvSpPr/>
          <p:nvPr/>
        </p:nvSpPr>
        <p:spPr>
          <a:xfrm>
            <a:off x="3348000" y="3500280"/>
            <a:ext cx="0" cy="649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9" name="Line 10"/>
          <p:cNvSpPr/>
          <p:nvPr/>
        </p:nvSpPr>
        <p:spPr>
          <a:xfrm flipV="1">
            <a:off x="5003640" y="3716280"/>
            <a:ext cx="1297080" cy="93672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" name="Line 11"/>
          <p:cNvSpPr/>
          <p:nvPr/>
        </p:nvSpPr>
        <p:spPr>
          <a:xfrm flipH="1">
            <a:off x="2124000" y="2708280"/>
            <a:ext cx="1224000" cy="93672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1" name="Line 13"/>
          <p:cNvSpPr/>
          <p:nvPr/>
        </p:nvSpPr>
        <p:spPr>
          <a:xfrm flipH="1">
            <a:off x="4066920" y="4149720"/>
            <a:ext cx="93636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2" name="Line 14"/>
          <p:cNvSpPr/>
          <p:nvPr/>
        </p:nvSpPr>
        <p:spPr>
          <a:xfrm>
            <a:off x="5435640" y="4365720"/>
            <a:ext cx="7308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2627280" y="5877000"/>
            <a:ext cx="13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deformační zatěžování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5508720" y="5229360"/>
            <a:ext cx="13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silové zatěžování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27236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imes New Roman"/>
              </a:rPr>
              <a:t>Základní konstrukční jednotka </a:t>
            </a:r>
            <a:br>
              <a:rPr sz="4000"/>
            </a:br>
            <a:r>
              <a:rPr b="0" lang="cs-CZ" sz="4000" spc="-1" strike="noStrike">
                <a:solidFill>
                  <a:srgbClr val="333399"/>
                </a:solidFill>
                <a:latin typeface="Times New Roman"/>
              </a:rPr>
              <a:t>biflexního st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u3v26"/>
          <p:cNvPicPr/>
          <p:nvPr/>
        </p:nvPicPr>
        <p:blipFill>
          <a:blip r:embed="rId1"/>
          <a:stretch/>
        </p:blipFill>
        <p:spPr>
          <a:xfrm>
            <a:off x="457200" y="2060640"/>
            <a:ext cx="8362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1-09-05T08:12:32Z</dcterms:modified>
  <cp:revision>257</cp:revision>
  <dc:subject/>
  <dc:title>Biomechanics  of smooth muscle cells </dc:title>
</cp:coreProperties>
</file>