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8028-F1BD-4A3F-A428-EC41B25C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535D-B905-4C6C-BF28-D7E6D0A7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688-77F5-45BA-973B-47A00B76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BBE2-69A3-40F1-92CB-FF4D18AA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55A7-917F-440D-9A56-9CDB98FF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D03D-D6D4-4D91-BD04-54BF0953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420E-A910-4694-955D-99B46D4C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4219-5D32-4FC7-A574-4EF6597F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D7AC-7BB9-4EE6-AAC7-9A3334A8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0333-AE4C-4638-94E4-009063C9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9963-EB51-4955-BDB8-2C92239D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E698-12A9-4531-A7BB-228C7F98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527A-1A05-455B-A97F-BE31E6EC36B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85068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Karcino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126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nádor, který se vyskytuje v trávicím nebo dýchacím systému (často v appendixu) a vzniká ze speciálních buněk s endokrinní funkcí. Je na hranici zhoubnosti. Vzácně produkuje látky (např. serotonin), které způsobují „vzdálené“ příznaky (dušnost, zrudnutí, průjmy, chlopenní vadu aj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erotoni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5-hydroxytryptamin, 5-HT) je biologicky aktivní látka vznikající z aminokyseliny tryptofanu, jeden z biogenních aminů. Má význam též jako neurotransmiter v mozku, je obsažen v krevních destičkách a v dalších tkáních. Zúžením cév napomáhá zastavit krvácení, účastní se zánětlivých a alergických reakcí (zužuje průdušky) i některých dalších chorobných stavů, nadměrná množství někdy produkuje karcinoid. V mozku se jako neurotransmiter účastní též procesů podílejících se na vzniku nálady. Látky, které zasahují do jeho metabolismu v mozku, se užívají v psychiatrii (např. SSRI), v léčbě migrény a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5" descr=""/>
          <p:cNvPicPr/>
          <p:nvPr/>
        </p:nvPicPr>
        <p:blipFill>
          <a:blip r:embed="rId1"/>
          <a:stretch/>
        </p:blipFill>
        <p:spPr>
          <a:xfrm>
            <a:off x="3060720" y="228600"/>
            <a:ext cx="57592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9-05T08:06:38Z</dcterms:modified>
  <cp:revision>247</cp:revision>
  <dc:subject/>
  <dc:title>Biomechanics  of smooth muscle cells </dc:title>
</cp:coreProperties>
</file>