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ECA-C5BF-4CDD-8C79-A9FAF6D7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D75-1B8B-4E28-B45D-D3975458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6D5-01B1-4CCC-9C2F-53E8D79D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9AC-2C3D-4ECD-88FB-EBC4E2F4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0F7-C9E0-48D1-9A9A-BE93111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126-5676-43C3-A366-7780AFB6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2E3-3AFE-4002-85B6-8F05197A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56B-D38D-4436-879D-D8597F1F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B92-CE5A-4444-B30F-3B3D954C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53E-6CD3-4BE9-8775-68525B83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F24-4D22-4449-AE74-B76134A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25F-9EEC-4A88-B1D0-EF6672CA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7F3B-739F-497F-8F94-72BE2903D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ptický stret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71560" y="1917720"/>
            <a:ext cx="560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92360" y="1700280"/>
            <a:ext cx="5905080" cy="3239280"/>
            <a:chOff x="1692360" y="1700280"/>
            <a:chExt cx="5905080" cy="32392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66520" y="2123280"/>
              <a:ext cx="55868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285280" y="250524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atížená buň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9880" y="2128680"/>
              <a:ext cx="1529280" cy="6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zatížená buň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63120" y="2302920"/>
              <a:ext cx="227232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serový paprse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93520" y="447300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ké vlák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49560" y="447300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ké vlák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92360" y="1700280"/>
              <a:ext cx="5905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47640" y="5229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ahování buňky pomocí optického stretche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06:45Z</dcterms:created>
  <dc:creator>umt</dc:creator>
  <dc:description/>
  <dc:language>en-US</dc:language>
  <cp:lastModifiedBy>umt</cp:lastModifiedBy>
  <dcterms:modified xsi:type="dcterms:W3CDTF">2007-01-08T14:12:29Z</dcterms:modified>
  <cp:revision>2</cp:revision>
  <dc:subject/>
  <dc:title>Optická pinzeta</dc:title>
</cp:coreProperties>
</file>